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65C-2C1B-4F26-B423-20E6F443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093-1BD2-4274-A870-0FE40BB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F42-EA1A-4E9E-84C4-7F7D08A6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4AD-2BE6-4E84-96A8-07FED347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900-84E0-4F02-99DF-AE86B977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84E-A618-469F-A50D-4BF7251F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EE9-6E88-4003-ADD7-90D185AD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97D-ADAE-4097-B819-4235129E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59B-5909-4902-812E-7E35EE4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DC0-F286-46D7-A84D-3492807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D3E-B658-462A-80A3-595A93C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3E5-F49C-4452-A44A-D31EC338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CB55-A65B-430B-B3FE-2031B0D21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udent.learning@tcd.ie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Preparation for Your Personal Best</a:t>
            </a:r>
            <a:br>
              <a:rPr sz="4000"/>
            </a:b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Science Exam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57592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r. Tamara O’Con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udent Learning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udent Counsell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inity College Dub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tudent.learning@tcd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http://student-learning.tcd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96-14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16779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us for revision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ink vocabulary, words, terms, concepts,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ake flash cards &amp; test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Recite for 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Verbal &amp; visual strategies to check mas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reate summary sheets, diagrams, charts, tables, mind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o!  Conditioned Reflex –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CQ Pract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6920" y="227664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ach question care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key words or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modifiers and qualifiers (e.g. only, never, some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options before making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 answer before looking a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before marki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18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9529" t="26024" r="37072" b="4577"/>
          <a:stretch/>
        </p:blipFill>
        <p:spPr>
          <a:xfrm>
            <a:off x="533520" y="3352680"/>
            <a:ext cx="190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808000"/>
                </a:solidFill>
                <a:latin typeface="Times New Roman"/>
              </a:rPr>
              <a:t>The following are all bones of the skull except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arietal 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emporal 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arsal 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rontal 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function of dendrites is to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down nerve im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yelin coating for n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hesize neurotransmi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nerve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Go! Conditioned Reflex –</a:t>
            </a:r>
            <a:br>
              <a:rPr sz="4000"/>
            </a:b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Short Answer Pract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nstruct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d use key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what you know: Define key words, concepts,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808000"/>
                </a:solidFill>
                <a:latin typeface="Times New Roman"/>
              </a:rPr>
              <a:t>Outline the structure of fats OR carbohydrate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hoos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What are they looking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How would I answer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How would I revise in order to be able to answer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actice answering this type of question, varying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Outline and briefly discuss the three main approaches to understanding and defining stres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 – what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main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&amp; contrast – definitions, caus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Revision – Problem solv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Use active learn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Develop a range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mpare textbook &amp;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imilarities &amp; differences between problem types &amp; solu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How apply different situations o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ry to solve the problem as far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Revision – Problem solv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actise problem-solving without your no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Work with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Work problems ‘out of contex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hearse performing at your personal best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e by anticipat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e by answering old exam 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 your own answ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e – un-timed and ti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ulate exam 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00"/>
                </a:solidFill>
                <a:latin typeface="Times New Roman"/>
              </a:rPr>
              <a:t>Objectives</a:t>
            </a:r>
            <a:br>
              <a:rPr sz="6000"/>
            </a:b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00360" y="1981080"/>
            <a:ext cx="59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a framework for managing ex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active examination prepa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hearse performance at your personal best – exam taking strategies for science &amp; problem-solving ex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1737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Simulating Exam Condit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he key to both intellectual and emotional preparation for exams is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he closer a simulation is to the actual event, the more likely it is that preparation will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 simulation en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both intellectual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motional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19810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724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42061" t="25783" r="19856" b="36869"/>
          <a:stretch/>
        </p:blipFill>
        <p:spPr>
          <a:xfrm>
            <a:off x="5638680" y="4032360"/>
            <a:ext cx="28497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hearse Techniques for Personal Best Performan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9880" y="228564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 the exam venue and get comfortable 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hotos, sketches, etc to bring the exam venue into your study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ally place yourself in the exam venue when you are rehe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7156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49913" t="39311" r="32732" b="43529"/>
          <a:stretch/>
        </p:blipFill>
        <p:spPr>
          <a:xfrm>
            <a:off x="609480" y="274320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Visualis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athlete’s PB is in their 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isation is a vital part of performance prepa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ever visualise performing at your b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2320" y="39625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1800" y="716040"/>
            <a:ext cx="73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Keys to Your Personal Best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55418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from the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ness training using active revis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ehearsal using practice and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llectual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170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Examinations As an Ev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ness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rehea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new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rehea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ersonal Best Performan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anag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= Gam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 = Fitnes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= Performance Rehea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Taking =  Performanc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Anx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Game Plan - Prepar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Know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amiliarise yourself with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What topics to rev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kim all materials to determine what to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Overview work to be done &amp; schedule time to d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now Yourself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your exam concerns?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do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ld you do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stu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trategies do you use to prep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manage your str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arn from the pas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25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detailed information about what your exam paper look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revise topics you do not kn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rks for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Organise an Active Revision Program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your learning 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revision 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ision strategies where you mov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pictures, maps, cartoons, diagra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key points around your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 “someone” else and ask them key questions (answer the questions your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to tapes or view video/DVD versions of the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exam preparation a social occ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052720"/>
            <a:ext cx="1101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Revision – Fitness Train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MCQ Exams     recognition &amp; accurate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Short Answer    knowledge &amp;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understanding key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ideas/facts at basic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1:20:50Z</dcterms:created>
  <dc:creator>TCD Accouint</dc:creator>
  <dc:description/>
  <dc:language>en-US</dc:language>
  <cp:lastModifiedBy>toconnor</cp:lastModifiedBy>
  <dcterms:modified xsi:type="dcterms:W3CDTF">2010-03-31T10:12:28Z</dcterms:modified>
  <cp:revision>37</cp:revision>
  <dc:subject/>
  <dc:title>Preparation for your Personal Best</dc:title>
</cp:coreProperties>
</file>