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1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8.wmf" ContentType="image/x-wmf"/>
  <Override PartName="/ppt/media/image14.wmf" ContentType="image/x-wmf"/>
  <Override PartName="/ppt/media/image1.jpeg" ContentType="image/jpeg"/>
  <Override PartName="/ppt/media/image4.wmf" ContentType="image/x-wmf"/>
  <Override PartName="/ppt/media/image2.wmf" ContentType="image/x-wmf"/>
  <Override PartName="/ppt/media/image15.jpeg" ContentType="image/jpeg"/>
  <Override PartName="/ppt/media/image3.wmf" ContentType="image/x-wmf"/>
  <Override PartName="/ppt/media/image13.jpeg" ContentType="image/jpeg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29f33"/>
                </a:solidFill>
                <a:latin typeface="Arial"/>
              </a:rPr>
              <a:t>Click to move the slide</a:t>
            </a: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2986E58-BF5B-4028-B2FB-58EEE284E3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EEF5AE7-262E-4113-B897-82F08A60391D}" type="slidenum">
              <a:rPr b="0" lang="en-IE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825032B-2793-4827-85B0-2BAAE68FD00D}" type="slidenum">
              <a:rPr b="0" lang="en-IE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IE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5B6D0F9-1DC6-433F-A499-0B59E730BE18}" type="slidenum">
              <a:rPr b="0" lang="en-IE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IE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453FBFE-5EFA-4A8E-B77F-B36BA2E08EB8}" type="slidenum">
              <a:rPr b="0" lang="en-IE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D6866CC-7A03-46C9-BC2F-4D48147414C2}" type="slidenum">
              <a:rPr b="0" lang="en-IE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4EBA493-2D77-42C4-BFBE-969312EDF0B1}" type="slidenum">
              <a:rPr b="0" lang="en-IE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Remember, you want to do justice to your writing in the oral format so practice is essent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9291E90-7FDD-49E8-9701-6C08F2E60BD7}" type="slidenum">
              <a:rPr b="0" lang="en-IE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4CEAF27-04A8-48EA-BB99-A628BF1CCED2}" type="slidenum">
              <a:rPr b="0" lang="en-IE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D9983-2D92-46E6-9839-52A3BABE1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5C762-5162-427D-9EDC-C513A014D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429A8-4247-4EAD-BEB2-77E03E6E3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C5422-D743-4EBD-8B0F-C8DE64EF7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24788-CCA8-4839-830C-E5251DC2B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9AA54-84EA-4B1D-8ADD-E50BAF8FB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FAEAD-F30E-4F1D-9F06-69C11D41E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CFBCF-62A7-4279-924F-E0768C081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7C498-B712-488F-8421-8E4ECD52E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5228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B8799-8447-4B0F-83A6-9FF56A025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FE94E-0946-40ED-A09E-103FCCF48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54F40-2267-4927-AD77-6230F4E4D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92A06-9533-4640-8753-B1ACD22E6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84D6A-BB1D-4A45-AD71-04006B541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BA186-7905-411B-8CC9-44592BD93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3B4B0-0709-4C6E-97FC-97EB22F30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7450E-77C3-4DB1-80B7-C32CA3957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9B293-EFDB-4F2C-ADEC-85D90795B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BE32A-560F-46C5-941B-75DA373E6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B0952-F1D7-4DDA-A8FD-8C172C7D1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5228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D7CC7-0AC9-485B-8071-245112528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DE1FC-9F57-48AA-BDEC-878BEC9AB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E793E-3AAB-4638-9E7E-450E64E02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CE34B-B4F0-436F-8934-9ECC2EC39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29f33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FBC25-5ED9-410C-ACA9-120278DDB72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29f33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9A28B-85F8-42DD-B4DE-BD44C1F0FD6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Helvetic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7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8.wmf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1676160"/>
            <a:ext cx="77724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629f33"/>
                </a:solidFill>
                <a:latin typeface="Arial"/>
              </a:rPr>
              <a:t>Preparing for the</a:t>
            </a:r>
            <a:br>
              <a:rPr sz="4000"/>
            </a:br>
            <a:r>
              <a:rPr b="0" lang="en-IE" sz="4000" spc="-1" strike="noStrike">
                <a:solidFill>
                  <a:srgbClr val="629f33"/>
                </a:solidFill>
                <a:latin typeface="Arial"/>
              </a:rPr>
              <a:t>PH.D. Viva – </a:t>
            </a:r>
            <a:br>
              <a:rPr sz="4000"/>
            </a:br>
            <a:r>
              <a:rPr b="0" lang="en-IE" sz="4000" spc="-1" strike="noStrike">
                <a:solidFill>
                  <a:srgbClr val="629f33"/>
                </a:solidFill>
                <a:latin typeface="Arial"/>
              </a:rPr>
              <a:t>An </a:t>
            </a:r>
            <a:r>
              <a:rPr b="0" i="1" lang="en-IE" sz="4000" spc="-1" strike="noStrike">
                <a:solidFill>
                  <a:srgbClr val="629f33"/>
                </a:solidFill>
                <a:latin typeface="Arial"/>
              </a:rPr>
              <a:t>Oral</a:t>
            </a:r>
            <a:r>
              <a:rPr b="0" lang="en-IE" sz="4000" spc="-1" strike="noStrike">
                <a:solidFill>
                  <a:srgbClr val="629f33"/>
                </a:solidFill>
                <a:latin typeface="Arial"/>
              </a:rPr>
              <a:t> Examination</a:t>
            </a:r>
            <a:endParaRPr b="0" lang="en-US" sz="4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295280" y="4572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Dr. Tamara O’Conn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Student Learning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Student Counselling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6858000" y="1600200"/>
          <a:ext cx="1665360" cy="2286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0" y="1600200"/>
                    <a:ext cx="166536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629f33"/>
                </a:solidFill>
                <a:latin typeface="Arial"/>
              </a:rPr>
              <a:t>Preparation</a:t>
            </a: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Revision and Summa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Re-read critic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Review each chapter and summarise in po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Defence of re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Know limit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Emotional prepa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6019920" y="3581280"/>
          <a:ext cx="1828800" cy="1981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19920" y="3581280"/>
                    <a:ext cx="1828800" cy="19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629f33"/>
                </a:solidFill>
                <a:latin typeface="Arial"/>
              </a:rPr>
              <a:t>Preparation</a:t>
            </a: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Anticipate questions and prepare sample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Easy and hard ques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Open, closed, probing, applied, general, specific ques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Develop skills 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iq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5562720" y="4267080"/>
            <a:ext cx="1358640" cy="192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629f33"/>
                </a:solidFill>
                <a:latin typeface="Arial"/>
              </a:rPr>
              <a:t>Viva strategies &amp; skills</a:t>
            </a: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5410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Defi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Define &amp; illust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Define &amp; def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Being specif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Being explic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Elabora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Highligh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Deflecting critic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5791320" y="2666880"/>
            <a:ext cx="2286000" cy="218628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838080" y="594360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Murray (2003) pp.90-9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629f33"/>
                </a:solidFill>
                <a:latin typeface="Arial"/>
              </a:rPr>
              <a:t>Practice</a:t>
            </a: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Answering ques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With different people: students, staff, frie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Using viva strategies and defence 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Mental pract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Discuss research with pe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629f33"/>
                </a:solidFill>
                <a:latin typeface="Arial"/>
              </a:rPr>
              <a:t>Key questions</a:t>
            </a: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  <a:ea typeface="Arial"/>
              </a:rPr>
              <a:t>Why did you choose this top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  <a:ea typeface="Arial"/>
              </a:rPr>
              <a:t>Spend 1 minute writing why you chose this top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629f33"/>
                </a:solidFill>
                <a:latin typeface="Arial"/>
              </a:rPr>
              <a:t>Key questions</a:t>
            </a: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  <a:ea typeface="Arial"/>
              </a:rPr>
              <a:t>Can you describe the different steps involved in your research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  <a:ea typeface="Arial"/>
              </a:rPr>
              <a:t>Spend 1 minute writing out a response to this ques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629f33"/>
                </a:solidFill>
                <a:latin typeface="Arial"/>
              </a:rPr>
              <a:t>Key questions</a:t>
            </a: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  <a:ea typeface="Arial"/>
              </a:rPr>
              <a:t>What is your “USP”? What is new and different about your topic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  <a:ea typeface="Arial"/>
              </a:rPr>
              <a:t>You must narrow this down to one or two ideas/comment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  <a:ea typeface="Arial"/>
              </a:rPr>
              <a:t>Discuss with your partner and report back to group (5 minut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629f33"/>
                </a:solidFill>
                <a:latin typeface="Arial"/>
              </a:rPr>
              <a:t>Practice - Rehearsal</a:t>
            </a: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Mock viva rehearsal with peer or fellow stud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Mock viva rehearsal with supervis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Visualise vi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3733920" y="3657600"/>
            <a:ext cx="380988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629f33"/>
                </a:solidFill>
                <a:latin typeface="Arial"/>
              </a:rPr>
              <a:t>Dealing with nerves!</a:t>
            </a: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pic>
        <p:nvPicPr>
          <p:cNvPr id="148" name="Picture 2" descr="C:\Users\jredmon\AppData\Local\Microsoft\Windows\Temporary Internet Files\Content.IE5\D005X43W\MCj03200160000[1].wmf"/>
          <p:cNvPicPr/>
          <p:nvPr/>
        </p:nvPicPr>
        <p:blipFill>
          <a:blip r:embed="rId2"/>
          <a:stretch/>
        </p:blipFill>
        <p:spPr>
          <a:xfrm>
            <a:off x="2500200" y="2000160"/>
            <a:ext cx="3346560" cy="3638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29f33"/>
                </a:solidFill>
                <a:latin typeface="Arial"/>
              </a:rPr>
              <a:t>Pair work</a:t>
            </a: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ck a possible viva question or create a possible ques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change it with your part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ke turns to practise your answer keeping in mind what has been covered with regard to effective presentations and tips for surviving your vi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629f33"/>
                </a:solidFill>
                <a:latin typeface="Arial"/>
              </a:rPr>
              <a:t>Objectives</a:t>
            </a: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To view viva as a performance event – an oral exami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To understand the principles of vi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To explore ways to prepare for this type of ex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To practise writing and answering qu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629f33"/>
                </a:solidFill>
                <a:latin typeface="Arial"/>
              </a:rPr>
              <a:t>On the day</a:t>
            </a: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  <a:ea typeface="Arial"/>
              </a:rPr>
              <a:t>Be ear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  <a:ea typeface="Arial"/>
              </a:rPr>
              <a:t>Be careful what you w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  <a:ea typeface="Arial"/>
              </a:rPr>
              <a:t>Bring a drin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  <a:ea typeface="Arial"/>
              </a:rPr>
              <a:t>Bring a pad and pen (although don’t expect to take many not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  <a:ea typeface="Arial"/>
              </a:rPr>
              <a:t>Expect to be nervous but try to deal with it positively/constructiv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629f33"/>
                </a:solidFill>
                <a:latin typeface="Arial"/>
              </a:rPr>
              <a:t>On the day</a:t>
            </a:r>
            <a:r>
              <a:rPr b="0" lang="en-IE" sz="3000" spc="-1" strike="noStrike">
                <a:solidFill>
                  <a:srgbClr val="629f33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809640" y="2214360"/>
            <a:ext cx="7958160" cy="421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  <a:ea typeface="Arial"/>
              </a:rPr>
              <a:t>Check list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  <a:ea typeface="Arial"/>
              </a:rPr>
              <a:t>List of corr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  <a:ea typeface="Arial"/>
              </a:rPr>
              <a:t>Pen and pa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  <a:ea typeface="Arial"/>
              </a:rPr>
              <a:t>T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  <a:ea typeface="Arial"/>
              </a:rPr>
              <a:t>Drin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  <a:ea typeface="Arial"/>
              </a:rPr>
              <a:t>Copy of your thesis, especially your summary and abstra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629f33"/>
                </a:solidFill>
                <a:latin typeface="Arial"/>
              </a:rPr>
              <a:t>How long does it last?</a:t>
            </a: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214200" y="1643040"/>
          <a:ext cx="8643960" cy="5000760"/>
        </p:xfrm>
        <a:graphic>
          <a:graphicData uri="http://schemas.openxmlformats.org/drawingml/2006/table">
            <a:tbl>
              <a:tblPr/>
              <a:tblGrid>
                <a:gridCol w="2881440"/>
                <a:gridCol w="2881440"/>
                <a:gridCol w="2881080"/>
              </a:tblGrid>
              <a:tr h="128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Length of viv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atural and applied sciences (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rts, humanities and social sciences (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74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Up to 1 hou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2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de"/>
                    </a:solidFill>
                  </a:tcPr>
                </a:tc>
              </a:tr>
              <a:tr h="7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1-2 hou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4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5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6ef"/>
                    </a:solidFill>
                  </a:tcPr>
                </a:tc>
              </a:tr>
              <a:tr h="7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2-3 hou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4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1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de"/>
                    </a:solidFill>
                  </a:tcPr>
                </a:tc>
              </a:tr>
              <a:tr h="74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3+ hou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1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6ef"/>
                    </a:solidFill>
                  </a:tcPr>
                </a:tc>
              </a:tr>
              <a:tr h="74304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Source: Tinkler and Jackson, </a:t>
                      </a:r>
                      <a:r>
                        <a:rPr b="0" i="1" lang="en-IE" sz="18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The Doctoral Examination Process</a:t>
                      </a:r>
                      <a:r>
                        <a:rPr b="0" lang="en-IE" sz="18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, SPHE &amp; Open University Press, Maidenhead: 2004, page 17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d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629f33"/>
                </a:solidFill>
                <a:latin typeface="Arial"/>
              </a:rPr>
              <a:t>Final Advice</a:t>
            </a: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809640" y="1714320"/>
            <a:ext cx="795816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  <a:ea typeface="Arial"/>
              </a:rPr>
              <a:t>Expect to be nervo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  <a:ea typeface="Arial"/>
              </a:rPr>
              <a:t>Practice your answers beforeh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  <a:ea typeface="Arial"/>
              </a:rPr>
              <a:t>Don’t agree with everything they say but don’t be arrog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  <a:ea typeface="Arial"/>
              </a:rPr>
              <a:t>Expect some corr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  <a:ea typeface="Arial"/>
              </a:rPr>
              <a:t>Make sure you are clear about important d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  <a:ea typeface="Arial"/>
              </a:rPr>
              <a:t>Good luck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629f33"/>
                </a:solidFill>
                <a:latin typeface="Arial"/>
              </a:rPr>
              <a:t>Planning</a:t>
            </a: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295280" y="2133720"/>
            <a:ext cx="647712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Take one minute to make a list of the things you need to do to prepare for your viva as a result of attending this worksho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4495680" y="4572000"/>
            <a:ext cx="1209960" cy="120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629f33"/>
                </a:solidFill>
                <a:latin typeface="Arial"/>
                <a:ea typeface="Arial"/>
              </a:rPr>
              <a:t>Introductions</a:t>
            </a: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752480"/>
            <a:ext cx="461952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Please turn to the person next to yo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Introduce yourself – name, discipline, what you are studying and one other fact about yoursel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Introduce your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partner</a:t>
            </a:r>
            <a:r>
              <a:rPr b="0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to the group</a:t>
            </a:r>
            <a:r>
              <a:rPr b="0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C:\Users\jredmon\AppData\Local\Microsoft\Windows\Temporary Internet Files\Content.IE5\DSGPKHKU\MCBD20184_0000[1].wmf"/>
          <p:cNvPicPr/>
          <p:nvPr/>
        </p:nvPicPr>
        <p:blipFill>
          <a:blip r:embed="rId2"/>
          <a:stretch/>
        </p:blipFill>
        <p:spPr>
          <a:xfrm>
            <a:off x="5430960" y="2266920"/>
            <a:ext cx="2970000" cy="273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629f33"/>
                </a:solidFill>
                <a:latin typeface="Arial"/>
              </a:rPr>
              <a:t>Performance Event</a:t>
            </a: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PhD is an examination – a performance ev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How do you prepare for any performan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Preparation and Pract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Skills development and performance rehears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629f33"/>
                </a:solidFill>
                <a:latin typeface="Arial"/>
              </a:rPr>
              <a:t>Understand the principles</a:t>
            </a: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PhD is about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Knowing your field thorough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Evaluating your sub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Making a useful con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Mastering appropriate techniques &amp; knowing their limi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Communicating in a professional 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629f33"/>
                </a:solidFill>
                <a:latin typeface="Arial"/>
              </a:rPr>
              <a:t>Purpose of viva</a:t>
            </a: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Ascertain it is your own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Make sure you understand what you d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Contribution to knowledge – worthy of Ph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5715000" y="4114800"/>
          <a:ext cx="1981080" cy="1828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715000" y="4114800"/>
                    <a:ext cx="198108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629f33"/>
                </a:solidFill>
                <a:latin typeface="Arial"/>
              </a:rPr>
              <a:t>Reframe Event</a:t>
            </a: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The Viva . . . An Opport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To discuss your work with expe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To improve your arguments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th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To consider where to publis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get free consultancy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6858000" y="4114800"/>
          <a:ext cx="1957320" cy="2133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0" y="4114800"/>
                    <a:ext cx="1957320" cy="213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6854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629f33"/>
                </a:solidFill>
                <a:latin typeface="Arial"/>
              </a:rPr>
              <a:t>The Viva ... the Examiners</a:t>
            </a: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460680" y="2668680"/>
            <a:ext cx="4462560" cy="15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dversa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me examiners will challenge your views, in order to hear your argu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344840" y="4344840"/>
            <a:ext cx="3807000" cy="20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etail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me examiners 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spect every word and phra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n page 32, you say ...     please explain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3662280" y="4267080"/>
          <a:ext cx="1530360" cy="1644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662280" y="4267080"/>
                    <a:ext cx="1530360" cy="164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" name=""/>
          <p:cNvGraphicFramePr/>
          <p:nvPr/>
        </p:nvGraphicFramePr>
        <p:xfrm>
          <a:off x="5562720" y="1523880"/>
          <a:ext cx="2481120" cy="16765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562720" y="1523880"/>
                    <a:ext cx="2481120" cy="167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7" name=""/>
          <p:cNvGraphicFramePr/>
          <p:nvPr/>
        </p:nvGraphicFramePr>
        <p:xfrm>
          <a:off x="609480" y="1676520"/>
          <a:ext cx="2190960" cy="16761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9480" y="1676520"/>
                    <a:ext cx="2190960" cy="16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" name=""/>
          <p:cNvSpPr/>
          <p:nvPr/>
        </p:nvSpPr>
        <p:spPr>
          <a:xfrm>
            <a:off x="565200" y="3583080"/>
            <a:ext cx="2938320" cy="23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riendly &amp; Interes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xaminers will make you feel at ease.  They will want you to explain your researc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57200" y="624852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Twigg (199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7617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629f33"/>
                </a:solidFill>
                <a:latin typeface="Arial"/>
              </a:rPr>
              <a:t>The Viva ... Stay Calm &amp; Confident</a:t>
            </a:r>
            <a:endParaRPr b="0" lang="en-US" sz="26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761760" y="1676520"/>
            <a:ext cx="480060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You are most probably now the world’s expert on your thesis topi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rgue each point with confid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emonstrate your depth/breadth of knowledg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6172200" y="2286000"/>
          <a:ext cx="2514600" cy="3587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172200" y="2286000"/>
                    <a:ext cx="2514600" cy="358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16:22:02Z</dcterms:created>
  <dc:creator>toconnor</dc:creator>
  <dc:description/>
  <dc:language>en-US</dc:language>
  <cp:lastModifiedBy>toconnor</cp:lastModifiedBy>
  <dcterms:modified xsi:type="dcterms:W3CDTF">2010-03-18T15:41:30Z</dcterms:modified>
  <cp:revision>8</cp:revision>
  <dc:subject/>
  <dc:title>Preparing for the PH.D. Viva –  An Oral Examination</dc:title>
</cp:coreProperties>
</file>