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BBE94B-5FC0-438D-9CE7-39E776CF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844365-61F9-4549-B071-EBB9FB494D2C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799ADF-E002-4F3F-AB97-769863FC7426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2B2A82-4F25-4290-B4A2-B5ABF623DEA6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1E8A19-B0C8-439C-A413-90DE6414ED34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5F7D2A-C383-40EE-875B-53DEC807DF6C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2EAE51-6DEF-4F1D-BD93-9899617BD6DB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member, you want to do justice to your writing in the oral format so practice is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B0C592-5625-4D4F-87D5-538B34EC21D9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E1639E-5F76-4B8A-B189-5D1361C854FA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322-540B-4F5D-ABAC-66990E78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1B6-D3E8-4FBF-8875-5EA66202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55B-1BDC-4871-A1C7-200D168F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20A-2E42-4A03-9963-FC1AFB33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68E-FF5F-4372-9C46-E52663E8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6B5-97B2-445E-A6BD-74429A4C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59C4-6876-48A0-A44F-1A40A5EF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B4FF-9474-4F61-842B-0389433C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846-59E3-4626-AE7C-774EF06C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27B8-D392-473B-B1D0-137A9F28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37D-3BD5-4622-8741-3BAAF07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5D3-9C13-49FD-9A92-B15C1E5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F26-8247-4950-A646-20BAC64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FCC8-5757-4CE9-BA4F-76F6AFB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3298-BDAC-4306-8874-5ED93757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002E-F0C2-4156-AF3D-17EE1569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A8A5-ED5C-470B-AF25-BEA36D5C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D99-7103-435A-B540-BFB93781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213-518A-41D5-A4F2-57E2C70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706-503B-4419-9B09-52E9B51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C0D-02F7-4C21-A801-1BDE560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335-F898-4CB4-8587-CA5E20A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EF8-CDAA-4994-95CF-630BC2C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18A-1633-4CCD-8CF7-E92E024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32DD-FE20-4450-9476-194D565187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51F5-8A1D-4E38-BAD1-C03D3EAB0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ing for the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H.D. Viva – 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An </a:t>
            </a:r>
            <a:r>
              <a:rPr b="0" i="1" lang="en-IE" sz="4000" spc="-1" strike="noStrike">
                <a:solidFill>
                  <a:srgbClr val="629f33"/>
                </a:solidFill>
                <a:latin typeface="Arial"/>
              </a:rPr>
              <a:t>Oral</a:t>
            </a: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 Examination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. Tamara O’Con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0" y="1600200"/>
          <a:ext cx="1665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1600200"/>
                    <a:ext cx="1665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vision and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-read cr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ew each chapter and summarise 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ce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motional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19920" y="3581280"/>
          <a:ext cx="182880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81280"/>
                    <a:ext cx="1828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ticipate questions and prepare sampl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asy and har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pen, closed, probing, applied, general, specific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skil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13586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Viva strategies &amp;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illu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def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lab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lecting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286000" cy="21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urray (2003) pp.9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Answer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th different people: students, staff,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viva strategies and defenc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ntal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research with p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you choose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why you chose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an you describe the different steps involved in your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out a response to thi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your “USP”? What is new and different about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You must narrow this down to one or two ideas/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with your partner and report back to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 - Rehearsa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peer or fellow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ise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ealing with nerves!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8" name="Picture 2" descr="C:\Users\jredmon\AppData\Local\Microsoft\Windows\Temporary Internet Files\Content.IE5\D005X43W\MCj03200160000[1].wmf"/>
          <p:cNvPicPr/>
          <p:nvPr/>
        </p:nvPicPr>
        <p:blipFill>
          <a:blip r:embed="rId2"/>
          <a:stretch/>
        </p:blipFill>
        <p:spPr>
          <a:xfrm>
            <a:off x="2500200" y="2000160"/>
            <a:ext cx="334656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Pair work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possible viva question or create a possi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t with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urns to practise your answer keeping in mind what has been covered with regard to effective presentations and tips for surviving your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view viva as a performance event – an or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understand the principles of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explore ways to prepare for this type of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practise writing and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careful what you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pad and pen (although don’t expect to take many 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 but try to deal with it positively/constru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9640" y="2214360"/>
            <a:ext cx="7958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Check 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List of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opy of your thesis, especially your summary and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 long does it las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643040"/>
          <a:ext cx="8643960" cy="50007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ngth of v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ural and applied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s, humanities and social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 to 1 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-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-3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+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ource: Tinkler and Jackson, </a:t>
                      </a:r>
                      <a:r>
                        <a:rPr b="0" i="1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he Doctoral Examination Process</a:t>
                      </a: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SPHE &amp; Open University Press, Maidenhead: 2004, page 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Final Adv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9640" y="1714320"/>
            <a:ext cx="79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ractice your answers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agree with everything they say but don’t be arro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some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clear about importan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lann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ake one minute to make a list of the things you need to do to prepare for your viva as a result of attending thi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1209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5248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lease turn to the person next t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– name, discipline, what you are studying and one other fact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artner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group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jredmon\AppData\Local\Microsoft\Windows\Temporary Internet Files\Content.IE5\DSGPKHKU\MCBD20184_0000[1].wmf"/>
          <p:cNvPicPr/>
          <p:nvPr/>
        </p:nvPicPr>
        <p:blipFill>
          <a:blip r:embed="rId2"/>
          <a:stretch/>
        </p:blipFill>
        <p:spPr>
          <a:xfrm>
            <a:off x="5430960" y="2266920"/>
            <a:ext cx="2970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erformanc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n examination – a performanc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prepare for any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kills development and performance 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derstand the principl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bo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ing your field thoroug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ng your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ing a useful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stering appropriate techniques &amp; knowing their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municating in a professional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urpose of viva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scertain it is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understand what you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ribution to knowledge – worthy of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5000" y="4114800"/>
          <a:ext cx="19810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114800"/>
                    <a:ext cx="198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ram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Viva . . .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discuss your work with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improve your argumen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consider where to pub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free consultan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0" y="4114800"/>
          <a:ext cx="195732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114800"/>
                    <a:ext cx="19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The Viva ... the Examiner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0680" y="2668680"/>
            <a:ext cx="44625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er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will challenge your views, in order to hear your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4840" y="4344840"/>
            <a:ext cx="3807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ect every word and ph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age 32, you say ...     please expl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62280" y="4267080"/>
          <a:ext cx="1530360" cy="16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267080"/>
                    <a:ext cx="15303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62720" y="1523880"/>
          <a:ext cx="248112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481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76520"/>
          <a:ext cx="2190960" cy="16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676520"/>
                    <a:ext cx="2190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5200" y="3583080"/>
            <a:ext cx="29383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iendly &amp;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ers will make you feel at ease.  They will want you to explain your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igg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29f33"/>
                </a:solidFill>
                <a:latin typeface="Arial"/>
              </a:rPr>
              <a:t>The Viva ... Stay Calm &amp; Confid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most probably now the world’s expert on your thes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ue each point with conf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 your depth/breadth of knowled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72200" y="2286000"/>
          <a:ext cx="2514600" cy="35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5146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2:02Z</dcterms:created>
  <dc:creator>toconnor</dc:creator>
  <dc:description/>
  <dc:language>en-US</dc:language>
  <cp:lastModifiedBy>toconnor</cp:lastModifiedBy>
  <dcterms:modified xsi:type="dcterms:W3CDTF">2010-03-18T15:41:30Z</dcterms:modified>
  <cp:revision>8</cp:revision>
  <dc:subject/>
  <dc:title>Preparing for the PH.D. Viva –  An Oral Examination</dc:title>
</cp:coreProperties>
</file>