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5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F877-8D2F-4600-8A22-70FC4E6C59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Make a list of the skills and areas you need to improve and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ink how you’re going to get th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Key part is how to communic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Reflective Journals: after years, when you look back you can wonder where you time w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You can use it to justify why you made the decisions you di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Because a PG study largely involves self-directed learning – self-management is cri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t is an opportunity to develop an effective and highly efficient process for work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erson as an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teady pace – marathon not sprint – burnout – 9/5 jo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 system that reminds you – rather that you having to 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f it works you’ll trust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Graduate research seminars at department level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Research pres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Go to the GSU faculty rep in you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Doesn’t exist –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ttend as many conferences as possible to present you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duate Students’ Union (GSU) is the representative body for all postgraduate students in Trinity Colleg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7A68-92E2-41C7-A473-DB22448F63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xercise on main concerns and 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dea generation and orientation – divergent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econd half – convergent think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Read exemplary theses in your ar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E84-583F-4839-AC30-CB3F38F0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0ED-73DB-4805-B0BC-DD727305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553-607D-4A46-B18A-A69FCB02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724-EB97-45F6-8B07-D9DDA57F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D7BF-F1DE-4D6D-B8BF-9A8B897E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88CA-711F-45C6-A114-04FC51FC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06F2-C1EB-4CCC-BB4B-9F3AEF4D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67F8-489B-4A62-933A-9E898040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E42C-ACD2-4601-A675-E3F433BD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8D3A-C70C-4517-9969-6B1B9EFE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8D67-A551-4C89-9600-5291503D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AF7-C353-420C-99E8-7D00B043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1042-D43D-4FF7-960C-2F09C473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E05C-CCBF-4FE9-80E8-01C63883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9BF8-1C57-4F6B-87D4-2952B4A1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1862-8FB3-4F4F-95B9-F8707E68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F220-B1B7-4CC2-9235-B6FF575E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D44-8CEA-4FD4-AB2C-B5021FD6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B52-CB44-4D51-928E-3CA40C61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446-4343-4787-89CA-2551A830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AC5-435C-403A-8C32-7FDEAE41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455-6306-44DE-8538-F773C212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EDD-AB33-4231-9F87-CE6A83A6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7F9-32A4-40AA-9DFC-5ADF2CA0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E303-7A3F-428E-8377-A38269F64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860B-BCAE-40B8-AF8A-F6A067D99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udent-learning.tcd.ie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udent-learning.tcd.ie/" TargetMode="External"/><Relationship Id="rId3" Type="http://schemas.openxmlformats.org/officeDocument/2006/relationships/hyperlink" Target="http://student-learning.tcd.ie/" TargetMode="External"/><Relationship Id="rId4" Type="http://schemas.openxmlformats.org/officeDocument/2006/relationships/hyperlink" Target="https://podcast.tcd.ie/users/summerschool/" TargetMode="External"/><Relationship Id="rId5" Type="http://schemas.openxmlformats.org/officeDocument/2006/relationships/hyperlink" Target="https://podcast.tcd.ie/users/summerschool/" TargetMode="External"/><Relationship Id="rId6" Type="http://schemas.openxmlformats.org/officeDocument/2006/relationships/hyperlink" Target="https://podcast.tcd.ie/users/summerschool/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cd.ie/orientatio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374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Settling into your</a:t>
            </a:r>
            <a:br>
              <a:rPr sz="2600"/>
            </a:b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Postgraduate Study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965400"/>
            <a:ext cx="439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r. Mark Matthews &amp; Dermot Coo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udent-learning.tcd.i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3645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84720" y="2171880"/>
            <a:ext cx="4711680" cy="468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6920" y="1989000"/>
            <a:ext cx="4319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1pm- 2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3rd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oom 3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Your Toolbox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-181080" y="1773360"/>
            <a:ext cx="8977320" cy="4356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1649520"/>
            <a:ext cx="20509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echnical Sk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29440" y="1773360"/>
            <a:ext cx="205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89800" y="5375160"/>
            <a:ext cx="27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36360" y="5807160"/>
            <a:ext cx="302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1. Subject-Skill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Department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urse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partment 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Self-di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2. Communication Skills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upervisor’s r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Pe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udy Part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scussio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ostgraduate Advisory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3. Research Skill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terature Reviews, Database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Information Syst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oftware support (Word, SPSS, En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Student Learn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ademic Writing, Critical 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flective 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4. Self-Managem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list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eady 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lan where to put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alance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pecific, measurable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Get a diary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heck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es, meet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ctures, tim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2601720" cy="3024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80360" y="1557360"/>
            <a:ext cx="2512800" cy="2513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4103640" cy="2635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2886120" cy="22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373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stressed, try to come back to </a:t>
            </a:r>
            <a:r>
              <a:rPr b="1" lang="en-GB" sz="2400" spc="-1" strike="noStrike">
                <a:solidFill>
                  <a:srgbClr val="2f93e5"/>
                </a:solidFill>
                <a:latin typeface="Arial"/>
              </a:rPr>
              <a:t>what you kno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bored </a:t>
            </a:r>
            <a:r>
              <a:rPr b="1" lang="en-US" sz="2400" spc="-1" strike="noStrike">
                <a:solidFill>
                  <a:srgbClr val="2f93e5"/>
                </a:solidFill>
                <a:latin typeface="Arial"/>
              </a:rPr>
              <a:t>look for the no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561672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93e5"/>
                </a:solidFill>
                <a:latin typeface="Arial"/>
              </a:rPr>
              <a:t>Practical Tip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a time in the day when you do </a:t>
            </a:r>
            <a:r>
              <a:rPr b="0" i="1" lang="en-US" sz="3200" spc="-1" strike="noStrike">
                <a:solidFill>
                  <a:srgbClr val="2f93e5"/>
                </a:solidFill>
                <a:latin typeface="Arial"/>
              </a:rPr>
              <a:t>nothing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to </a:t>
            </a:r>
            <a:r>
              <a:rPr b="0" lang="en-US" sz="3200" spc="-1" strike="noStrike">
                <a:solidFill>
                  <a:srgbClr val="2f93e5"/>
                </a:solidFill>
                <a:latin typeface="Arial"/>
              </a:rPr>
              <a:t>switch o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to rest your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brain stimulation without a break can </a:t>
            </a:r>
            <a:r>
              <a:rPr b="0" lang="en-US" sz="3200" spc="-1" strike="noStrike">
                <a:solidFill>
                  <a:srgbClr val="2f93e5"/>
                </a:solidFill>
                <a:latin typeface="Arial"/>
              </a:rPr>
              <a:t>dra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f93e5"/>
                </a:solidFill>
                <a:latin typeface="Arial"/>
              </a:rPr>
              <a:t>Down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-Meditation, walk, clearing the mind of the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n groups, take some of the challe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written down earlier and </a:t>
            </a:r>
            <a:r>
              <a:rPr b="0" lang="en-IE" sz="3200" spc="-1" strike="noStrike">
                <a:solidFill>
                  <a:srgbClr val="dd9637"/>
                </a:solidFill>
                <a:latin typeface="Arial"/>
              </a:rPr>
              <a:t>fi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for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ossible </a:t>
            </a:r>
            <a:r>
              <a:rPr b="0" lang="en-IE" sz="3200" spc="-1" strike="noStrike">
                <a:solidFill>
                  <a:srgbClr val="dd9637"/>
                </a:solidFill>
                <a:latin typeface="Arial"/>
              </a:rPr>
              <a:t>Solution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Are there common </a:t>
            </a:r>
            <a:r>
              <a:rPr b="0" lang="en-IE" sz="3200" spc="-1" strike="noStrike">
                <a:solidFill>
                  <a:srgbClr val="dd9637"/>
                </a:solidFill>
                <a:latin typeface="Arial"/>
              </a:rPr>
              <a:t>themes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97180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 feel like I’m being taken advan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of – doing work not related to my Ph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95200"/>
            <a:ext cx="4070520" cy="6562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11640" y="549360"/>
            <a:ext cx="4753080" cy="75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2f93e5"/>
                </a:solidFill>
                <a:latin typeface="Arial"/>
              </a:rPr>
              <a:t>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very particular about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where and w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study. I find it more comforting when I am studying in a clean and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comfortable sp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I find it best to study between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late afternoon and even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I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can't st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uch background noise so I usually study in my bedroom with the door closed and the window open for a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nice breez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come throug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Arial"/>
              </a:rPr>
              <a:t>The long distance runner…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72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rogress hard to monitor and much of the work is don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42984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5867280" cy="654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"I'm not a Trinity graduat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've found it difficult to me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eople and get involv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ther things 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00440" y="-390600"/>
            <a:ext cx="4543560" cy="732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Need more help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help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y skil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| 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udent-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earning.tcd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t-graduate Summer Schoo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uns once a year in the summer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odcast.tcd.ie/users/summerschool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writing 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iterature re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 your subject librarian http://www.tcd.ie/Library/support/contact/index.ph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training us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d, Powerpoint, SPSS, Endnote et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formation Systems Servi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http://isservices.tcd.ie/training/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Postgrads may be willing to offer a tutoria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Need more help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advice on dealing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ent Counselling Service |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:018961407 | email: student-counselling@tcd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adv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being a post-grad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tgraduate Advisory Service |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tcd.ie/Senior_Tutor/postgraduat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duate’s Student Union |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gsu.tcd.ie/nod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| http://student-learning.tcd.ie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nt to get involved 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cial ev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involved in a society | http://www.trinitysocieties.i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 the gym | http://www.tcd.ie/Spor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 one of the 50 sports clubs | http://www.ducac.tcdlife.i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f93e5"/>
                </a:solidFill>
                <a:latin typeface="Kozuka Gothic Pro B"/>
              </a:rPr>
              <a:t>You are responsible for your own learning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8002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et involved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soci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skill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systematically and progress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et going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ay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on top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of you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ek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help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if you want to do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2f93e5"/>
                </a:solidFill>
                <a:latin typeface="Arial"/>
              </a:rPr>
              <a:t>What can you do now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can I do to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clarify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what I am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do I need to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formalise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with my supervis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support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can I set up for my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I know if I am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making progres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ill I be coming to the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other Student Learning workshop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ther Resources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705800" cy="4819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3086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s://podcast.tcd.ie/users/summerschoo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Student Learning Developm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4920" y="1628640"/>
            <a:ext cx="4356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ank you for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http://student-learning.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02280" y="1989000"/>
            <a:ext cx="4941720" cy="411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y greatest challenge might be 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f93e5"/>
                </a:solidFill>
                <a:latin typeface="Arial"/>
              </a:rPr>
              <a:t>Problem   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Re-write the problem in your ow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f93e5"/>
                </a:solidFill>
                <a:latin typeface="Arial"/>
              </a:rPr>
              <a:t>Possible Solutions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List as many things to do that you can think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2421000"/>
            <a:ext cx="6480000" cy="1295280"/>
          </a:xfrm>
          <a:prstGeom prst="flowChartProcess">
            <a:avLst/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508640"/>
            <a:ext cx="8280360" cy="2160360"/>
          </a:xfrm>
          <a:prstGeom prst="flowChartProcess">
            <a:avLst/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5240" y="-27000"/>
            <a:ext cx="640548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94000" y="0"/>
            <a:ext cx="6102360" cy="828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student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tor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academic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need to work off own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93960" y="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2f93e5"/>
                </a:solidFill>
                <a:latin typeface="Arial"/>
              </a:rPr>
              <a:t>Getting started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stage are you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are your conc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fusion and lack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ud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00720" y="896760"/>
            <a:ext cx="3743280" cy="5988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Write down on a piece of paper the grea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challenge you will 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My greatest challenge might be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2f93e5"/>
                </a:solidFill>
                <a:latin typeface="Arial"/>
              </a:rPr>
              <a:t>Ask yourself: What is it I most love about my studies?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584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5445000"/>
            <a:ext cx="756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at do I enjoy about my cours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y am I doing thi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at do I want to have learned at the end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69900"/>
                </a:solidFill>
                <a:latin typeface="Arial"/>
              </a:rPr>
              <a:t>Getting Started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ere can I find what I hav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der out of cha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ding ab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it: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cd.ie/orientatio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5:39:04Z</dcterms:created>
  <dc:creator>LUMSDENL</dc:creator>
  <dc:description/>
  <dc:language>en-US</dc:language>
  <cp:lastModifiedBy>MarkM</cp:lastModifiedBy>
  <dcterms:modified xsi:type="dcterms:W3CDTF">2010-11-16T14:28:39Z</dcterms:modified>
  <cp:revision>81</cp:revision>
  <dc:subject/>
  <dc:title>Settling Into Your Post-graduate Study</dc:title>
</cp:coreProperties>
</file>