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004-01DD-4611-8ECE-152EC0FBBB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a list of the skills and areas you need to improve and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nk how you’re going to get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Key part is how to communic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ecause a PG study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t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erson as a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teady pace – marathon not sprint – burnout – 9/5 jo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 system that reminds you – rather that you having to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it works you’ll trus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raduate research seminars at department level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search pres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to the GSU faculty rep in you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Doesn’t exist –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end as many conferences as possible to present you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duate Students’ Union (GSU) is the representative body for all postgraduate students in Trinity Colle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8D87-772B-40BB-A920-7FFE47D36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xercise on main concerns and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DAC-8072-4351-A66E-E8714FE5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542-F31F-4BAD-8C51-1477FDED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029-3418-46A5-B3E8-65C48B82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435-8707-43D4-8EFA-1A8329B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8B9-39A9-4FF7-85AA-7EB423D6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7706-004A-4D03-B9B1-8098A52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E73-5697-4387-9BFD-0168FFD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E03E-D7FA-4610-A6CA-66BC811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DE16-56E6-4A43-A7BF-6580EA1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31A8-016E-4FED-BF23-9C613992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FA87-F711-4CC7-85FF-8FB2B76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53D-8F99-4D5F-9BAE-E78BAF56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82AC-F32A-4899-B2C2-0C52A03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EE45-8B62-4F75-AE2E-C629287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F0D-5359-4ECE-B70A-98B03DED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AA46-D19A-422B-9374-5AE70E71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4F8E-D462-4616-9218-D5333291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422-877C-45DA-9B8C-AB4FC5A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3B-32B2-46C0-9BF4-597BA3C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F06-AD88-4F93-A318-E8476BDE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697-9529-4A36-8408-DD2C96DA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773-24D1-4D68-9602-8C4CCBB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373-29DA-4120-BB71-9021AE2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2BD-4F11-4163-9C66-6C188B6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DE8-172E-4308-A502-86EED2ED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B1B-5D2B-468B-AC7C-50D65ABA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udent-learning.tcd.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udent-learning.tcd.ie/" TargetMode="External"/><Relationship Id="rId3" Type="http://schemas.openxmlformats.org/officeDocument/2006/relationships/hyperlink" Target="http://student-learning.tcd.ie/" TargetMode="External"/><Relationship Id="rId4" Type="http://schemas.openxmlformats.org/officeDocument/2006/relationships/hyperlink" Target="https://podcast.tcd.ie/users/summerschool/" TargetMode="External"/><Relationship Id="rId5" Type="http://schemas.openxmlformats.org/officeDocument/2006/relationships/hyperlink" Target="https://podcast.tcd.ie/users/summerschool/" TargetMode="External"/><Relationship Id="rId6" Type="http://schemas.openxmlformats.org/officeDocument/2006/relationships/hyperlink" Target="https://podcast.tcd.ie/users/summerschool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cd.ie/orient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74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ettling into your</a:t>
            </a:r>
            <a:br>
              <a:rPr sz="2600"/>
            </a:b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Postgraduate Stud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965400"/>
            <a:ext cx="43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. Mark Matthews &amp; Dermot Coo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ent-learning.tcd.i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645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720" y="2171880"/>
            <a:ext cx="471168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1989000"/>
            <a:ext cx="431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pm- 2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rd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oom 3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Your Toolbox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181080" y="1773360"/>
            <a:ext cx="8977320" cy="435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649520"/>
            <a:ext cx="2050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29440" y="1773360"/>
            <a:ext cx="205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9800" y="5375160"/>
            <a:ext cx="27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580716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. Subject-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Department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urse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elf-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2. Communication Skills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upervisor’s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Pe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y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ostgraduate Advisory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3. Research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terature Reviews, Databas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Information 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ftware support (Word, SPSS, En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ademic Writing, Critical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4. Self-Managem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et a di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heck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es, meet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ctures, tim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260172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4103640" cy="263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88612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stressed, try to come back to </a:t>
            </a:r>
            <a:r>
              <a:rPr b="1" lang="en-GB" sz="2400" spc="-1" strike="noStrike">
                <a:solidFill>
                  <a:srgbClr val="2f93e5"/>
                </a:solidFill>
                <a:latin typeface="Arial"/>
              </a:rPr>
              <a:t>what you kn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bored </a:t>
            </a:r>
            <a:r>
              <a:rPr b="1" lang="en-US" sz="2400" spc="-1" strike="noStrike">
                <a:solidFill>
                  <a:srgbClr val="2f93e5"/>
                </a:solidFill>
                <a:latin typeface="Arial"/>
              </a:rPr>
              <a:t>look for the no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61672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93e5"/>
                </a:solidFill>
                <a:latin typeface="Arial"/>
              </a:rPr>
              <a:t>Practical Ti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 time in the day when you do </a:t>
            </a:r>
            <a:r>
              <a:rPr b="0" i="1" lang="en-US" sz="3200" spc="-1" strike="noStrike">
                <a:solidFill>
                  <a:srgbClr val="2f93e5"/>
                </a:solidFill>
                <a:latin typeface="Arial"/>
              </a:rPr>
              <a:t>nothing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o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switch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to rest you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brain stimulation without a break can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ra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ow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-Meditation, walk, clearing the mind of th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 groups, take some of the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ten down earlier and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fi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for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Solution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re there common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theme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9718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 feel like I’m being take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of – doing work not related to my Ph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4070520" cy="6562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49360"/>
            <a:ext cx="475308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2f93e5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very particular about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where and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tudy. I find it more comforting when I am studying in a clean and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omfortable sp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find it best to study between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late afternoon and eve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an't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uch background noise so I usually study in my bedroom with the door closed and the window open for a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nice bree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me thr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The long distance runner…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gress hard to monitor and much of the work i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429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586728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"I'm not a Trinity graduat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've found it difficult to m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ople and get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ther things 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00440" y="-390600"/>
            <a:ext cx="4543560" cy="732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help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y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udent-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.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-graduate Summer 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once a year in the summer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dcast.tcd.ie/users/summerschool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riting 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terature 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your subject librarian http://www.tcd.ie/Library/support/contact/index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training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d, Powerpoint, SPSS, Endnote et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Systems 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ttp://isservices.tcd.ie/training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ostgrads may be willing to offer a tutori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advice on dealing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Counselling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:018961407 | email: student-counselling@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ad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being a post-grad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graduate Advisory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tcd.ie/Senior_Tutor/postgraduat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duate’s Student Union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gsu.tcd.ie/no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http://student-learning.tcd.ie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et involv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ev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volved in a society | http://www.trinitysocieties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the gym | http://www.tcd.ie/Spo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one of the 50 sports clubs | http://www.ducac.tcdlife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Kozuka Gothic Pro B"/>
              </a:rPr>
              <a:t>You are responsible for your own learn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002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involved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kill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systematically and progr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going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on to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f y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ek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hel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f you want to do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can I do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clarif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hat I am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do I need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formalis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ith my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upport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an I set up for my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 know if I am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making progres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ll I be coming to the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other Student Learning workshop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ther Resource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705800" cy="481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308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podcast.tcd.ie/users/summerschoo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greatest challenge might be 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roblem 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Re-write the problem in your ow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ossible Solutions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ist as many things to do that you can think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2421000"/>
            <a:ext cx="6480000" cy="129528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508640"/>
            <a:ext cx="8280360" cy="216036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5240" y="-27000"/>
            <a:ext cx="6405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studen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tor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cadem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need to work off ow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tage are you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are you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fusion and lack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00720" y="896760"/>
            <a:ext cx="3743280" cy="598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e down on a piece of paper the grea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challenge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y greatest challenge might b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2f93e5"/>
                </a:solidFill>
                <a:latin typeface="Arial"/>
              </a:rPr>
              <a:t>Ask yourself: What is it I most love about my studies?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58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445000"/>
            <a:ext cx="75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enjoy about my cours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y am I doing th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want to have learned at the en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69900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can I find what I hav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der out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ing ab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d.ie/orient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39:04Z</dcterms:created>
  <dc:creator>LUMSDENL</dc:creator>
  <dc:description/>
  <dc:language>en-US</dc:language>
  <cp:lastModifiedBy>MarkM</cp:lastModifiedBy>
  <dcterms:modified xsi:type="dcterms:W3CDTF">2010-11-16T14:28:39Z</dcterms:modified>
  <cp:revision>81</cp:revision>
  <dc:subject/>
  <dc:title>Settling Into Your Post-graduate Study</dc:title>
</cp:coreProperties>
</file>