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2D6D-A8D0-453A-AB33-2CE442F835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 PhD is for the most people their first serious piece of academic work. It also the first time, and perhaps the las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That most people will work for a significant period of time in a self-directed manner. This session will give you a few pointers starting ou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Will tell you a few of the pitfalls I encountered on the way and lets you know what supports are on hand should you need th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Breaking the task of producing a thesis/dissertation into manageable “chunk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Challenges and sup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Structured and cumulative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Later sessions will cover specific practical elements of the above in much 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Structure: Does your discipline have an implicit struc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re there book  about thesis production in your are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Have you discussed your structure with your supervisor/pe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Start writing as soon as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Notebook for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Do not write sequentially and be prepared to leave g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Verdana"/>
              </a:rPr>
              <a:t>Copy and paste into the appropriate chapter any material you have already written including preliminary reference sections or bibliographies Set up a “recycle” fil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000000"/>
                </a:solidFill>
                <a:latin typeface="Verdana"/>
              </a:rPr>
              <a:t>Do not delete any paragraph.  Save it you may be able to reuse it somewhere el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SQP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Structur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Look at difference theses types – reading other 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Start planning your structure early on: intro/body/conclu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Link each chap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Use research seminars, study groups, conferences and peers to get feedback on your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Arial"/>
              </a:rPr>
              <a:t>Situ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ow would you describe the current situation (before you did the study) in a way that will be familiar to the reader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ow can it be best described from the primary reader's point of view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ich are the most important and pertinent references to cite and which will the reader expect you to include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ave you demonstrated that you are sufficiently familiar with the relevant literature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an you summarise the relevant findings of previous studies in the fewest words? You don't need to describe each study. Simply summarise the most important finding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at is the key problem that this paper seeks to address? Can you express it in a single sentence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You might find that you can rephrase your main message sentence in the form of a problem statement. For example, supposing your message sentence reads: 'Women farmers are creditworthy because more than 90% were able to repay their loans within three years', you might express your problem statement as: 'Women farmers are unable to obtain loans because they are not considered creditworthy by financial institutions in the region.'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oes the problem lead logically from the description of the 'situation'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e careful that you don't express the problem statement in a way that causes the reader to react negativel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at questions are raised in the reader's mind by the statement of the problem? Which are the most important questions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 example, the problem statement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omen farmers are unable to obtain loans because they are not considered creditworthy by financial institutions in the region. provokes the questions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y? What can be done? How might they be shown to be creditworthy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se are the questions that, presumably, your study will seek to answ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te the objective (or the hypothesis) of your study. Is it a logical response to the question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at did you do to try and answer the question? In other words, summarise in a sentence or two the investigation or study that you carried out to obtain an answe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te your main message. Check that it is a response to the most important question provoked by the problem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This is another reason why you need a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Find out when and how best to contact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Work out what they can best help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Know their strengths &amp; weakn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Set goals and deadlines – outcomes from meetings and revisit next ti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This is another reason why you need a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BBB7238-234B-4A4F-B0B8-6ABC06769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3520" cy="4113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We offer study skills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629f33"/>
                </a:solidFill>
                <a:latin typeface="Arial"/>
              </a:rPr>
              <a:t>Topics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time management, essay writing, motivation, goal setting, revision and exam strate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Visit our website a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629f33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http://www.tcd.ie/Student_Counselling/student-learn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Email your queries to student-learning@tcd.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Phone us on 01 89614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the knack for all research students regardless of discipline is to pinpoint what is required and model your work accordingly (Burnham, 1994:3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Idea generation and orientation – divergent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Second half – convergent think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Read exemplary theses in your are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Identify the tasks that need to be done to complete each chap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Estimate how long each task will t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Use planning tools to establish important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Enter start dates, milestones and completion dates in your di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Review and revise regul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Write down everything you can so that you do not need to keep it in short-term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Staying motiv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Rewards for pro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Research Jou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Manage social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Keep your sense of hum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Because a PhD largely involves self-directed learning – self-management is critic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PhD is an opportunity to develop an effective and highly efficient process for work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Psycholog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Realistic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Steady pa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Plan where to put 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Balanced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Specific, measurable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Rew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Smart goals – Specific/ Measurable / Achievable / Realistic / Time-b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How am I going to write regularly throughout my Ph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W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Reflective Journals: after years, when you look back you can wonder where you time w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You can use it to justify why you made the decisions you d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Free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BBFF-BD87-4F49-A1AA-19C94B3B0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071D-1993-4EAF-876E-331A8189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17A5-26C1-4AE1-BA0D-1A11E4825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99FA-E9F0-4BB7-8A19-F59A762F1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CAB2-27B4-4E09-A01A-89AB2DCFE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1CC0-7D4C-4DFD-963A-8E694AD8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6924-8F6C-4604-89C6-E1E97786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7EA2-BA39-48A0-ABE7-43BA0C0A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EACB-C496-4A78-B2FB-EFD2DA4E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7D80-DEE2-4B0D-BACD-DE33C25F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E26D-5BD5-4501-9BE8-B28797A4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C534-E20B-436B-A6D3-BB4DD731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23CB-D8DF-4D98-92BB-66491BD0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64C2-A98A-4011-BFF7-6B576509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FF93-CFDA-45AB-877D-E66CE9C0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16B3-FDD4-4775-B3B1-3E40417B1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23C5-95E8-4042-910F-327F2E007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9E5A-6846-412C-B5E1-41D40928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0EA4-5F1C-4EF5-B1B2-51566686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5A8C-127F-4B44-B775-13AF0B15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057B-1F10-4144-A368-DB981885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8DD4-DE74-4DC4-A1EE-39F6C673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C6E6-B652-4EFB-8BD8-3E0D9F30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D408-6AB0-4546-8A41-E19C42B1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75A2-990D-49D1-98E9-9DA75DBF7D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C420-0422-48EE-9F90-B940212CD7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cd.ie/Student_Counselling/student-learning/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student-learning.tcd.ie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1699920"/>
            <a:ext cx="85690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Verdana"/>
              </a:rPr>
              <a:t>Planning, Structuring and Managing your PhD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3068640"/>
            <a:ext cx="63691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Verdana"/>
              </a:rPr>
              <a:t>Dr. Mark Matth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620280"/>
            <a:ext cx="822960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Thesis type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400640" y="0"/>
            <a:ext cx="4743360" cy="6524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8000" y="1844640"/>
            <a:ext cx="45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Find out the structure for your discip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Start writing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38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Formalities (one fi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Cover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Key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List of Tables and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Ethics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Statement of original autho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Acknowledg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Chapters (one file ea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Verdana"/>
              </a:rPr>
              <a:t>Chapter 1. Introduction and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Verdana"/>
              </a:rPr>
              <a:t>Chapter 2. Literature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Verdana"/>
              </a:rPr>
              <a:t>Chapter 3. Research 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Verdana"/>
              </a:rPr>
              <a:t>Chapter 4.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Verdana"/>
              </a:rPr>
              <a:t>Chapter 5.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Verdana"/>
              </a:rPr>
              <a:t>Chapter 6.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Verdana"/>
              </a:rPr>
              <a:t>Chapter 7. Summary and 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Verdana"/>
              </a:rPr>
              <a:t>References/bibli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1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Chapter 1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Verdana"/>
              </a:rPr>
              <a:t>What the thesis is about (write n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Verdana"/>
              </a:rPr>
              <a:t>What the chapters say (write after they are writt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Verdana"/>
              </a:rPr>
              <a:t>Summary and conclu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Verdana"/>
              </a:rPr>
              <a:t>Why the research is important (write anytime you work this ou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Structure each chapter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1700280"/>
            <a:ext cx="86756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What is the the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How does it relate to one before and af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Have you explained these relationships start and e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Where and how can these links be made clear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             </a:t>
            </a: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Challenge 4.</a:t>
            </a:r>
            <a:br>
              <a:rPr sz="3000"/>
            </a:b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what is my thesis about? 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Verdana"/>
              </a:rPr>
              <a:t>Research Statement (25-30 wor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Verdana"/>
              </a:rPr>
              <a:t>Get feedback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Verdana"/>
              </a:rPr>
              <a:t>Discuss with supervis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Verdana"/>
              </a:rPr>
              <a:t>Reach agreement as early a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SPQR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How would you describe the current </a:t>
            </a:r>
            <a:r>
              <a:rPr b="0" lang="en-IE" sz="2800" spc="-1" strike="noStrike">
                <a:solidFill>
                  <a:srgbClr val="ff0000"/>
                </a:solidFill>
                <a:latin typeface="Verdana"/>
              </a:rPr>
              <a:t>situation</a:t>
            </a: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What is the key </a:t>
            </a:r>
            <a:r>
              <a:rPr b="0" lang="en-IE" sz="2800" spc="-1" strike="noStrike">
                <a:solidFill>
                  <a:srgbClr val="ff0000"/>
                </a:solidFill>
                <a:latin typeface="Verdana"/>
              </a:rPr>
              <a:t>problem</a:t>
            </a: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 your PhD addre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What </a:t>
            </a:r>
            <a:r>
              <a:rPr b="0" lang="en-IE" sz="2800" spc="-1" strike="noStrike">
                <a:solidFill>
                  <a:srgbClr val="ff0000"/>
                </a:solidFill>
                <a:latin typeface="Verdana"/>
              </a:rPr>
              <a:t>questions</a:t>
            </a: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 arise from prob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What did you do to answer the question? (</a:t>
            </a:r>
            <a:r>
              <a:rPr b="0" lang="en-IE" sz="2800" spc="-1" strike="noStrike">
                <a:solidFill>
                  <a:srgbClr val="ff0000"/>
                </a:solidFill>
                <a:latin typeface="Verdana"/>
              </a:rPr>
              <a:t>response</a:t>
            </a: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hat you want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hat your supervisor wants you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How to contact your supervis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Know supervisor’s strengths/weak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             </a:t>
            </a: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Challenge 5.</a:t>
            </a:r>
            <a:br>
              <a:rPr sz="3000"/>
            </a:b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         Your Supervisor 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Find ou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esearch 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ecent pub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xperience superv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How much time they will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Will you be able to get 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What kind of role does your supervisor exp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Rowena Murray, ‘How to write a thesis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             </a:t>
            </a: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Challenge 5.</a:t>
            </a:r>
            <a:br>
              <a:rPr sz="3000"/>
            </a:b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         Your Supervisor 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629f33"/>
                </a:solidFill>
                <a:latin typeface="Arial"/>
              </a:rPr>
              <a:t>Challenge 6 – managing content</a:t>
            </a:r>
            <a:endParaRPr b="0" lang="en-US" sz="26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2060280"/>
            <a:ext cx="800244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et task targets with your supervi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ake maximum use of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Get your material reviewed by peers (seminars, conferences, publis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ake contact with people doing similar research (networ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What can you do now?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ake a </a:t>
            </a:r>
            <a:r>
              <a:rPr b="0" lang="en-IE" sz="3200" spc="-1" strike="noStrike">
                <a:solidFill>
                  <a:srgbClr val="ff0000"/>
                </a:solidFill>
                <a:latin typeface="Arial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Establish a </a:t>
            </a:r>
            <a:r>
              <a:rPr b="0" lang="en-IE" sz="3200" spc="-1" strike="noStrike">
                <a:solidFill>
                  <a:srgbClr val="ff0000"/>
                </a:solidFill>
                <a:latin typeface="Arial"/>
              </a:rPr>
              <a:t>routine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IE" sz="3200" spc="-1" strike="noStrike">
                <a:solidFill>
                  <a:srgbClr val="ff0000"/>
                </a:solidFill>
                <a:latin typeface="Arial"/>
              </a:rPr>
              <a:t>rhy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0" lang="en-IE" sz="3200" spc="-1" strike="noStrike">
                <a:solidFill>
                  <a:srgbClr val="ff0000"/>
                </a:solidFill>
                <a:latin typeface="Arial"/>
              </a:rPr>
              <a:t>writing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lang="en-IE" sz="3200" spc="-1" strike="noStrike">
                <a:solidFill>
                  <a:srgbClr val="ff0000"/>
                </a:solidFill>
                <a:latin typeface="Arial"/>
              </a:rPr>
              <a:t>one book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on wri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lang="en-IE" sz="3200" spc="-1" strike="noStrike">
                <a:solidFill>
                  <a:srgbClr val="ff0000"/>
                </a:solidFill>
                <a:latin typeface="Arial"/>
              </a:rPr>
              <a:t>one 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et long-term / short-term </a:t>
            </a:r>
            <a:r>
              <a:rPr b="0" lang="en-IE" sz="3200" spc="-1" strike="noStrike">
                <a:solidFill>
                  <a:srgbClr val="ff0000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684840" cy="6885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6040" y="159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6040" y="159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040" y="159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040" y="159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6040" y="159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6040" y="159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47628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99cc00"/>
                </a:solidFill>
                <a:latin typeface="Arial"/>
              </a:rPr>
              <a:t>Further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1916280"/>
            <a:ext cx="813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How to Get a PhD: A Handbook for Students and Their Supervi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y Estelle Phillips &amp; D.S. P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How to Write a Thesis (Paperback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by Rowena Murray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Our Workshop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cc0000"/>
                </a:solidFill>
                <a:latin typeface="Verdana"/>
              </a:rPr>
              <a:t>Thesis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00"/>
                </a:solidFill>
                <a:latin typeface="Verdana"/>
              </a:rPr>
              <a:t>Thu 4 Mar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 16:00 – 18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5039 Arts Buil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cc0000"/>
                </a:solidFill>
                <a:latin typeface="Verdana"/>
              </a:rPr>
              <a:t>Developing Critical Arg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00"/>
                </a:solidFill>
                <a:latin typeface="Verdana"/>
              </a:rPr>
              <a:t>Mon 8 Mar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 13:00 – 15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uce Hall Seminar Ro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Verdana"/>
              </a:rPr>
              <a:t>Viva Pr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00"/>
                </a:solidFill>
                <a:latin typeface="Verdana"/>
              </a:rPr>
              <a:t>Thu 18 Mar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 16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uce Hall Seminar Ro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5000" y="340920"/>
            <a:ext cx="348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Postgraduate Summer School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327480" y="61034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ttps://podcast.tcd.ie/users/summerschoo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546360" y="0"/>
            <a:ext cx="5597640" cy="6093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0" y="1844640"/>
            <a:ext cx="378000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Come to Summer     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Visit th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629f33"/>
                </a:solidFill>
                <a:latin typeface="Arial"/>
              </a:rPr>
              <a:t>Student Learning Development</a:t>
            </a:r>
            <a:endParaRPr b="0" lang="en-US" sz="2600" spc="-1" strike="noStrike">
              <a:solidFill>
                <a:srgbClr val="629f33"/>
              </a:solidFill>
              <a:latin typeface="Arial"/>
            </a:endParaRPr>
          </a:p>
        </p:txBody>
      </p:sp>
      <p:pic>
        <p:nvPicPr>
          <p:cNvPr id="145" name="Picture 3" descr="undergrad_subnav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57680" y="1773360"/>
            <a:ext cx="4486320" cy="44863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250920" y="1628640"/>
            <a:ext cx="43560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Visit our website at: </a:t>
            </a:r>
            <a:r>
              <a:rPr b="0" lang="en-IE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student-learning.tcd.ie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Email q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udent.learning@tcd.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hone us on 01 89614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94000" y="0"/>
            <a:ext cx="6102360" cy="8286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635280" y="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Thesi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Verdana"/>
              </a:rPr>
              <a:t>Your first piece of significant academic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Verdana"/>
              </a:rPr>
              <a:t>Contribution to new knowled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Verdana"/>
              </a:rPr>
              <a:t>AND a learning process for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Common problem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Poor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Methodological difficu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Is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Personal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Super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Brown &amp; Atkins, 1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Challenge 1 – getting started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Find out what you are expected to do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Attending departmental orientation and technical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Course hand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GSO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Books and web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Read excellent 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724360" y="3500280"/>
            <a:ext cx="3419640" cy="3027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When am  I going to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Where will I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How will I know if I’m on the right tra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Avoid anx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Get a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External deadlines &amp; Re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Hopelessly inaccurate estimates are much more efficient than no estimates at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332000" y="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Challenge 2  </a:t>
            </a:r>
            <a:br>
              <a:rPr sz="3000"/>
            </a:b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managing yourself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Technological Need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hat skills do you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emp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Back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Information Support Servic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lanning thesis production using MS Word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Using Endnot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PS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Challenge 3  </a:t>
            </a:r>
            <a:br>
              <a:rPr sz="3000"/>
            </a:b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managing your writing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Verdana"/>
              </a:rPr>
              <a:t>Self-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Verdana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Verdana"/>
              </a:rPr>
              <a:t>Academic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Verdana"/>
              </a:rPr>
              <a:t>Research Jou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10:57:20Z</dcterms:created>
  <dc:creator>username</dc:creator>
  <dc:description/>
  <dc:language>en-US</dc:language>
  <cp:lastModifiedBy>MarkM</cp:lastModifiedBy>
  <dcterms:modified xsi:type="dcterms:W3CDTF">2010-01-26T14:43:38Z</dcterms:modified>
  <cp:revision>54</cp:revision>
  <dc:subject/>
  <dc:title>Producing a dissertation</dc:title>
</cp:coreProperties>
</file>