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1F9C-0EF5-4505-9802-08B00B293D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 PhD is for the most people their first serious piece of academic work. It also the first time, and perhaps the las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at most people will work for a significant period of time in a self-directed manner. This session will give you a few pointers starting ou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ill tell you a few of the pitfalls I encountered on the way and lets you know what supports are on hand should you need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reaking the task of producing a thesis/dissertation into manageable “chunk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hallenges and sup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ructured and cumul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ater sessions will cover specific practical elements of the above in much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ructure: Does your discipline have an implicit stru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re there book  about thesis production in your are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ave you discussed your structure with your supervisor/pe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art writing as soon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Notebook f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Do not write sequentially and be prepared to leave g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Verdana"/>
              </a:rPr>
              <a:t>Copy and paste into the appropriate chapter any material you have already written including preliminary reference sections or bibliographies Set up a “recycle” fi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Verdana"/>
              </a:rPr>
              <a:t>Do not delete any paragraph.  Save it you may be able to reuse it somewhere el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Q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ructu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ook at difference theses types – reading other 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art planning your structure early on: intro/body/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ink each chap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Use research seminars, study groups, conferences and peers to get feedback on your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Situ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ow would you describe the current situation (before you did the study) in a way that will be familiar to the reader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ow can it be best described from the primary reader's point of view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ch are the most important and pertinent references to cite and which will the reader expect you to include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you demonstrated that you are sufficiently familiar with the relevant literature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n you summarise the relevant findings of previous studies in the fewest words? You don't need to describe each study. Simply summarise the most important finding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at is the key problem that this paper seeks to address? Can you express it in a single sentence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ou might find that you can rephrase your main message sentence in the form of a problem statement. For example, supposing your message sentence reads: 'Women farmers are creditworthy because more than 90% were able to repay their loans within three years', you might express your problem statement as: 'Women farmers are unable to obtain loans because they are not considered creditworthy by financial institutions in the region.'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oes the problem lead logically from the description of the 'situation'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 careful that you don't express the problem statement in a way that causes the reader to react negativel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at questions are raised in the reader's mind by the statement of the problem? Which are the most important questions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example, the problem statement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omen farmers are unable to obtain loans because they are not considered creditworthy by financial institutions in the region. provokes the question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y? What can be done? How might they be shown to be creditworth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are the questions that, presumably, your study will seek to ans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te the objective (or the hypothesis) of your study. Is it a logical response to the questio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at did you do to try and answer the question? In other words, summarise in a sentence or two the investigation or study that you carried out to obtain an answe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te your main message. Check that it is a response to the most important question provoked by the problem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is is another reason why you need a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ind out when and how best to contac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ork out what they can best help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Know their strengths &amp; weakn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et goals and deadlines – outcomes from meetings and revisit next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is is another reason why you need a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0221C7-D80C-4360-8592-7D8BF2F95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3520" cy="4113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e offer study skills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629f33"/>
                </a:solidFill>
                <a:latin typeface="Arial"/>
              </a:rPr>
              <a:t>Topics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ime management, essay writing, motivation, goal setting, revision and exam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Visit our website 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629f33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ttp://www.tcd.ie/Student_Counselling/student-lear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mail your queries to student-learning@tcd.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hone us on 01 89614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knack for all research students regardless of discipline is to pinpoint what is required and model your work accordingly (Burnham, 1994: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a generation and orientation – divergent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econd half – convergent thin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ad exemplary theses in your are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ntify the tasks that need to be done to complete each 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stimate how long each task will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Use planning tools to establish important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nter start dates, milestones and completion dates in your di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view and revise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rite down everything you can so that you do not need to keep it in short-ter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aying motiv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wards for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search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Manage social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Keep your sense of hum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ecause a PhD largely involves self-directed learning – self-management is critic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hD is an opportunity to develop an effective and highly efficient process for wor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alistic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eady 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lan where to pu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alance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pecific, measurable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mart goals – Specific/ Measurable / Achievable / Realistic / Time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ow am I going to write regularly throughout my Ph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flective Journals: after years, when you look back you can wonder where you time w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You can use it to justify why you made the decisions you d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ree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1FC-73C9-4C31-AC0B-F59329A4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903-54C4-4B3A-87C2-B40E05C2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5261-8AC3-45A3-B1DB-10AF0258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C3F-F29B-4403-A900-3B857464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6EB4-78AF-42E5-94DF-E0425555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03CF-46B3-468E-8C74-FD49D6A6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5552-B0E7-4307-9001-2CBC4D17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509D-3930-4807-9255-175D2BD3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A2BA-04AE-41C9-9656-1381F5AB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06AF-B4CD-439A-827C-AF787C11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012C-6166-40AD-941C-0170CA36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03E-AE19-4169-AFD3-4DAC783B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9C8C-6DE8-48DA-83EE-773CC98A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7D64-7AF4-462F-91CC-AA43295D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99C7-8873-40F9-987D-05C6DBEB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50DD-05EB-491D-96F7-96ACD1CB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7E14-DDB9-42E8-A1F1-2CC53317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5C4-445F-45C6-A632-11449267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237-88AD-4BEF-9D2A-71B170C3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6BA-477F-4985-8E76-2DBF4543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33A-E5F1-4ACB-A31E-4158FC2F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B03-E457-4F2B-89FF-288B1A2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7F6-3920-4106-B285-7F8883E1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4D0-7886-4CFC-AFB1-27DB18E7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3166-0C2F-421A-A81C-B3E89AEFD4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42B6-57B5-4125-B043-1B09854D2A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cd.ie/Student_Counselling/student-learning/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student-learning.tcd.ie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85690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Verdana"/>
              </a:rPr>
              <a:t>Planning, Structuring and Managing your PhD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3691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Dr. Mark Matth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20280"/>
            <a:ext cx="82296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hesis type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00640" y="0"/>
            <a:ext cx="4743360" cy="6524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84464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Find out the structure for your 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Start writ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Formalities (one f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Ke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List of Tables and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Ethics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tatement of original auth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Acknowled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hapters (one file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hapter 1. Introduction and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hapter 2. Literatur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hapter 3. Research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hapter 4.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hapter 5.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hapter 6.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hapter 7. Summary and 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References/bibl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hapter 1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What the thesis is about (write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What the chapters say (write after they are wri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Summary and conc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Why the research is important (write anytime you work this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Structure each chapter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700280"/>
            <a:ext cx="8675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What is the the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How does it relate to one before and af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Have you explained these relationships start and 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Where and how can these links be made clear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             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hallenge 4.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what is my thesis about? 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Research Statement (25-30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Get feedback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Discuss with supervis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Reach agreement as early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SPQR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How would you describe the current </a:t>
            </a:r>
            <a:r>
              <a:rPr b="0" lang="en-IE" sz="2800" spc="-1" strike="noStrike">
                <a:solidFill>
                  <a:srgbClr val="ff0000"/>
                </a:solidFill>
                <a:latin typeface="Verdana"/>
              </a:rPr>
              <a:t>situation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What is the key </a:t>
            </a:r>
            <a:r>
              <a:rPr b="0" lang="en-IE" sz="2800" spc="-1" strike="noStrike">
                <a:solidFill>
                  <a:srgbClr val="ff0000"/>
                </a:solidFill>
                <a:latin typeface="Verdana"/>
              </a:rPr>
              <a:t>problem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 your PhD addr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0" lang="en-IE" sz="2800" spc="-1" strike="noStrike">
                <a:solidFill>
                  <a:srgbClr val="ff0000"/>
                </a:solidFill>
                <a:latin typeface="Verdana"/>
              </a:rPr>
              <a:t>questions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 arise from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What did you do to answer the question? (</a:t>
            </a:r>
            <a:r>
              <a:rPr b="0" lang="en-IE" sz="2800" spc="-1" strike="noStrike">
                <a:solidFill>
                  <a:srgbClr val="ff0000"/>
                </a:solidFill>
                <a:latin typeface="Verdana"/>
              </a:rPr>
              <a:t>response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you want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your supervisor wants you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to contact your supervis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 supervisor’s strengths/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             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hallenge 5.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         Your Supervisor 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ind ou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search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cent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perience superv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ow much time they will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ill you be able to get 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kind of role does your supervisor exp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owena Murray, ‘How to write a thesi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             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hallenge 5.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         Your Supervisor 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Challenge 6 – managing cont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t task targets with your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e maximum use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t your material reviewed by peers (seminars, conferences, publ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e contact with people doing similar research (net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What can you do now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ke a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stablish a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routine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rhy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writing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one book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on wr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one 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t long-term / short-term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684840" cy="688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604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04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04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04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04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04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76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99cc00"/>
                </a:solidFill>
                <a:latin typeface="Arial"/>
              </a:rPr>
              <a:t>Furthe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916280"/>
            <a:ext cx="81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How to Get a PhD: A Handbook for Students and Their Supervi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Estelle Phillips &amp; D.S. P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How to Write a Thesis (Paperbac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y Rowena Murra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ur Workshop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Verdana"/>
              </a:rPr>
              <a:t>Thesis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00"/>
                </a:solidFill>
                <a:latin typeface="Verdana"/>
              </a:rPr>
              <a:t>Thu 4 M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 16:00 – 18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5039 Arts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Verdana"/>
              </a:rPr>
              <a:t>Developing Critical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00"/>
                </a:solidFill>
                <a:latin typeface="Verdana"/>
              </a:rPr>
              <a:t>Mon 8 M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 13:00 – 15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uce Hall Seminar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Verdana"/>
              </a:rPr>
              <a:t>Viva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00"/>
                </a:solidFill>
                <a:latin typeface="Verdana"/>
              </a:rPr>
              <a:t>Thu 18 M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 16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uce Hall Seminar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5000" y="340920"/>
            <a:ext cx="348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ostgraduate Summer School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27480" y="6103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s://podcast.tcd.ie/users/summerschoo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46360" y="0"/>
            <a:ext cx="5597640" cy="6093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1844640"/>
            <a:ext cx="378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ome to Summer     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Visit th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Student Learning Developm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45" name="Picture 3" descr="undergrad_subnav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57680" y="1773360"/>
            <a:ext cx="4486320" cy="4486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250920" y="1628640"/>
            <a:ext cx="4356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isit our website at: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tudent-learning.tcd.ie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mail q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udent.learning@tcd.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hone us on 01 89614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94000" y="0"/>
            <a:ext cx="6102360" cy="8286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hesi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Your first piece of significant academic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Contribution to new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AND a learning process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ommon problem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Poor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Methodological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Person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Brown &amp; Atkins,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hallenge 1 – getting started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Find out what you are expected to do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Attending departmental orientation and technic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Course hand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GS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Books and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Read excellent 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24360" y="3500280"/>
            <a:ext cx="3419640" cy="302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When am  I going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Where will I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ow will I know if I’m on the right tr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Avoid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Get a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External deadlines &amp;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Hopelessly inaccurate estimates are much more efficient than no estimates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32000" y="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hallenge 2  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managing yourself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echnological Need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skills do you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emp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nformation Support Servi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lanning thesis production using MS Word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Using Endno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PS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hallenge 3  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managing your writ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Self-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Academic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Research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57:20Z</dcterms:created>
  <dc:creator>username</dc:creator>
  <dc:description/>
  <dc:language>en-US</dc:language>
  <cp:lastModifiedBy>MarkM</cp:lastModifiedBy>
  <dcterms:modified xsi:type="dcterms:W3CDTF">2010-01-26T14:43:38Z</dcterms:modified>
  <cp:revision>54</cp:revision>
  <dc:subject/>
  <dc:title>Producing a dissertation</dc:title>
</cp:coreProperties>
</file>