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C22-D804-47E3-ABE9-26EF5CD5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75D-1F07-42C0-9723-806CF642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193-7FB9-4390-8094-4A480F5C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5C0-C306-4624-9971-2A472311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2E9B-A9BA-4250-AD10-59427722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7B0-B31C-410D-AF17-0DB8289E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C7C2-9843-4553-A664-01EF8A4D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EFA-12CE-44A6-875C-C13416A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57C3-18AC-47D8-841C-6F619A0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569-5144-44D5-AE2A-5EBB553D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004-4DE1-4C3A-87F9-96DF806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A11-23D9-48AC-9DDB-5525A6C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3783-1071-46F3-BACC-3BDAAC0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6B85-4CC4-4BC6-A31B-F08A5FF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12D-4333-423E-915F-121032E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EB9E-92F4-4B19-BDB5-D3004D10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8B72-155C-4CF7-8577-C38AB312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4A2-30CD-4E6B-8076-7C63B732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DFD-3928-4932-BF8B-5B49227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C72-5EFE-4804-90E2-0EDA861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B68-47CA-4D09-BB24-C55D7DDE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492-E1F7-479D-92BC-B5E81CF3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7F5-111C-4906-A178-BA3FB56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7D9-045D-48BF-AC11-10FFE1BB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9DA3-3CDC-43E2-8688-84BEADC26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ACA-1AC3-4C7C-AC02-C566BC9B8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reparation for your Personal Best – Essay type examinations</a:t>
            </a:r>
            <a:endParaRPr b="0" lang="en-US" sz="4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Budget your time –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equal time for equal marks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ve time at beginning (to plan) and end (to check)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995040" cy="80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932360" y="515772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877080" y="5157720"/>
            <a:ext cx="995400" cy="80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56000" y="3357720"/>
            <a:ext cx="1726920" cy="1296720"/>
          </a:xfrm>
          <a:prstGeom prst="wedgeRoundRectCallout">
            <a:avLst>
              <a:gd name="adj1" fmla="val -16453"/>
              <a:gd name="adj2" fmla="val 77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708280"/>
            <a:ext cx="1800000" cy="2016000"/>
          </a:xfrm>
          <a:prstGeom prst="wedgeEllipseCallout">
            <a:avLst>
              <a:gd name="adj1" fmla="val 2045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2781360"/>
            <a:ext cx="1800000" cy="2016000"/>
          </a:xfrm>
          <a:prstGeom prst="wedgeRectCallout">
            <a:avLst>
              <a:gd name="adj1" fmla="val 16314"/>
              <a:gd name="adj2" fmla="val 72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57720"/>
            <a:ext cx="2087280" cy="1150920"/>
          </a:xfrm>
          <a:prstGeom prst="wedgeEllipseCallout">
            <a:avLst>
              <a:gd name="adj1" fmla="val -2118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Planning your paper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ximum gains for time are in the early stages of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ad all exam question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 your time and answers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swer your best question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hearse producing quality work into tim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168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Rehearsal techniques for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personal best performance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part of your study space look like an exam 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ave a routine and stick to it.  Review your progress regu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e photos, sketches, etc to bring the exam venue into your study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ntally place yourself in the exam when you are rehear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7716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Rehearsal techniques for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personal best performance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Use imagery – every athlete’s personal best performance is in their mind – so is y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Visualisation, movement, sound, smell etc.</a:t>
            </a: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Multi modal imagery – combining different senses (listening, talking, imag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ink positive thoughts and manage stress through breathing and relaxation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Set goals and review your progress regu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29f33"/>
                </a:solidFill>
                <a:latin typeface="Arial"/>
              </a:rPr>
              <a:t>What if it all goes wrong on the day?</a:t>
            </a:r>
            <a:endParaRPr b="0" lang="en-US" sz="2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your potential examination 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imulate coping with exam anxiety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breathing and relaxation techniques and other recovery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intain your physical and mental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Don’t leave your exam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performance to chance!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your starting procedures (e.g. reading over paper and being clear about what you are asked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writing full answers using your introductions as a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past exam questions (timed and un ti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rk your own answers as critically as possi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Summary –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629f33"/>
                </a:solidFill>
                <a:latin typeface="Arial"/>
              </a:rPr>
              <a:t>the keys to your personal best</a:t>
            </a:r>
            <a:endParaRPr b="0" lang="en-US" sz="2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pproach your preparation strateg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tive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y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ructure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nage your emotional and physical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nk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99009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0099"/>
                </a:solidFill>
                <a:latin typeface="Arial"/>
              </a:rPr>
              <a:t>from Student Learn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These notes cover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inations as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swering the question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eaking down the exam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ning you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hearsing performance at your personal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rol of the examin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veloping strategies and rehearsing techniques for reducing performance anx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3399"/>
                </a:solidFill>
                <a:latin typeface="Arial"/>
              </a:rPr>
              <a:t>Examinations as events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Sporting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 – physical skills – basic to adv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Rules of the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Sports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Fitness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 health, strength, stam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Flexibility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/ability to withstand heavy impacts and 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Event =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Performance rehear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57240">
            <a:solidFill>
              <a:srgbClr val="cc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Academic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Content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 – knowledge – basic to advance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rules of your discipline, college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Fitness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 – health, new knowledge and work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Tolerance of ambiguity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 more than one right answer/no right ans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Event = ex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Performance rehear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6000" spc="-1" strike="noStrike">
                <a:solidFill>
                  <a:srgbClr val="000000"/>
                </a:solidFill>
                <a:latin typeface="Arial"/>
              </a:rPr>
              <a:t>One of the most common reasons for exam failure is……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55432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monstrating that you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understand the ques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s the first step in producing an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you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tructure your answer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s as important as what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is not necessarily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72360" y="3284640"/>
            <a:ext cx="1541160" cy="154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43640" y="3213000"/>
            <a:ext cx="1152720" cy="1513080"/>
          </a:xfrm>
          <a:prstGeom prst="noSmoking">
            <a:avLst>
              <a:gd name="adj" fmla="val 1250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ot Answering the Ques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Build in an introductory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paragraph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introduction is about the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– not the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tate the question in your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ind and use the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w that you know what the point of the question is by defining the key words/concepts/theories etc (see handout on key verb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Study preparation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nerate a list of major topics using your notes and past exam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reate a chart or summary sheet of the main topics and any relationship between t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nerate ideas and plan an outline for each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ollow a structure and review your essays (time spent and quality of your ans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700280"/>
          <a:ext cx="8640360" cy="4149720"/>
        </p:xfrm>
        <a:graphic>
          <a:graphicData uri="http://schemas.openxmlformats.org/drawingml/2006/table">
            <a:tbl>
              <a:tblPr/>
              <a:tblGrid>
                <a:gridCol w="2299320"/>
                <a:gridCol w="3616200"/>
                <a:gridCol w="2724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Issu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lems of Industri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ive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in 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kraking – Spar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tlement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wth of Boss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kraking – B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Follete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no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kraking – Tarb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-Trust legi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Structure for essay writing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472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00"/>
                </a:solidFill>
                <a:latin typeface="Arial"/>
              </a:rPr>
              <a:t>Main body – divided into paragraphs (make point, expand and give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dapted from: Rosenwasser, David and Jill Stephen. Writing Analytically.  3</a:t>
            </a:r>
            <a:r>
              <a:rPr b="1" lang="en-IE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ed. Boston: Heinle/Thompson Learning. Inc, 2003.  Seattle University Writing Centre. For more information: Hacker, Diana.  A Writer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Reference. 5</a:t>
            </a:r>
            <a:r>
              <a:rPr b="1" lang="en-IE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ed. Boston: Bedford/St. Martin’s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1557360"/>
            <a:ext cx="1008000" cy="1008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2565360"/>
            <a:ext cx="1008000" cy="2305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4869000"/>
            <a:ext cx="936720" cy="1224000"/>
          </a:xfrm>
          <a:prstGeom prst="flowChartExtra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9:55:14Z</dcterms:created>
  <dc:creator>mgallag9</dc:creator>
  <dc:description/>
  <dc:language>en-US</dc:language>
  <cp:lastModifiedBy>toconnor</cp:lastModifiedBy>
  <dcterms:modified xsi:type="dcterms:W3CDTF">2010-03-29T10:35:00Z</dcterms:modified>
  <cp:revision>32</cp:revision>
  <dc:subject/>
  <dc:title>Preparation for your Personal Best – Essay type examinations</dc:title>
</cp:coreProperties>
</file>