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6.wmf" ContentType="image/x-wmf"/>
  <Override PartName="/ppt/media/coin.wav" ContentType="audio/x-wav"/>
  <Override PartName="/ppt/media/arrow.wav" ContentType="audio/x-wav"/>
  <Override PartName="/ppt/media/image4.png" ContentType="image/png"/>
  <Override PartName="/ppt/media/voltage.wav" ContentType="audio/x-wav"/>
  <Override PartName="/ppt/media/image3.wmf" ContentType="image/x-wmf"/>
  <Override PartName="/ppt/media/image2.wmf" ContentType="image/x-wmf"/>
  <Override PartName="/ppt/media/image10.wmf" ContentType="image/x-wmf"/>
  <Override PartName="/ppt/media/explode.wav" ContentType="audio/x-wav"/>
  <Override PartName="/ppt/media/image9.wmf" ContentType="image/x-wmf"/>
  <Override PartName="/ppt/media/image8.png" ContentType="image/png"/>
  <Override PartName="/ppt/media/image7.wmf" ContentType="image/x-wmf"/>
  <Override PartName="/ppt/media/wind.wav" ContentType="audio/x-wav"/>
  <Override PartName="/ppt/media/chimes.wav" ContentType="audio/x-wav"/>
  <Override PartName="/ppt/media/hammer.wav" ContentType="audio/x-wav"/>
  <Override PartName="/ppt/media/type.wav" ContentType="audio/x-wav"/>
  <Override PartName="/ppt/media/image1.wmf" ContentType="image/x-wmf"/>
  <Override PartName="/ppt/media/drumroll.wav" ContentType="audio/x-wav"/>
  <Override PartName="/ppt/media/image5.wmf" ContentType="image/x-wmf"/>
  <Override PartName="/ppt/media/applaus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E47E3-7F6F-4E37-9AF9-6E9E0F737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2670-A11B-49C7-B0D8-D95877EE3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0C83-4F45-429C-BD15-1F7A2F611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8F98-CEE7-4859-8D81-33488AB6D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D754-4577-4098-B3C1-62BDE5F1E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58A1-E1BE-4EA9-9440-046F416E0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EEDF-0637-4DEC-85A7-2C4ABADA8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D180-F1B5-4592-B509-C04ACA723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E814-A758-4880-9465-B323BE046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0185-CB40-4034-9F1C-D19B38B12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3B29-5652-4F54-A638-FA0BF771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6ED5-37D5-4E88-A698-A243B74AB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72208-461D-4C8A-9B9B-BFBE2F7FD6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oin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2565000"/>
            <a:ext cx="777240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udent Learning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udent Counselling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inity College Dubl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udent.learning@tcd.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ttp://student-learning.tcd.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384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Your Personal Best Examination Performance</a:t>
            </a:r>
            <a:br>
              <a:rPr sz="4000"/>
            </a:b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Get Ready – Exams are Com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re Active Revi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63280" y="1600200"/>
            <a:ext cx="705636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revision f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vision strategies where you move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 pictures, maps, cartoons, diagrams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t key points around your w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 “someone” else and ask them key questions (answer the questions yoursel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en to tapes or view video/DVD versions of the mate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exam preparation a social occa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85800" y="2052720"/>
            <a:ext cx="1101600" cy="114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331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898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898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898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898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898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898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898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5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Play to your strengths</a:t>
            </a:r>
            <a:br>
              <a:rPr sz="4000"/>
            </a:b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www.vark-learn.c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619280" y="1916280"/>
            <a:ext cx="5975280" cy="4481280"/>
          </a:xfrm>
          <a:prstGeom prst="rect">
            <a:avLst/>
          </a:prstGeom>
          <a:ln w="0">
            <a:noFill/>
          </a:ln>
        </p:spPr>
      </p:pic>
    </p:spTree>
  </p:cSld>
  <p:transition>
    <p:cut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Learning and rec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Two processes not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Recall is triggered by physical situations and emotional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Material learned in one physical situation or emotional state will not necessarily be easily accessible in another physical situation or emotional state unless revised in that 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Conclus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Personal Exam Prep 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Self Confi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1628280"/>
            <a:ext cx="7924680" cy="461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objective is to do you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sonal b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k of exams as an opportunity for you to show what you kn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familiar with the examination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 outcomes are proportionate to the effort you put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learning targets and rewards for your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 what you know now with what you knew at the beginning of the y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d"/>
    <p:sndAc>
      <p:stSnd>
        <p:snd r:embed="rId1" name="chimes.wav"/>
      </p:stSnd>
    </p:sndAc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3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6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9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2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5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8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aging Str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3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up on stress and time management 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http://student-learning.tcd.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tablish habits that support concentration and examination prepa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 to the new Sports Hall and get involved in stress management physical 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588000" y="2637000"/>
            <a:ext cx="1981440" cy="185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20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:  The Keys to Your Personal Be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412640"/>
            <a:ext cx="64785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p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gan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elligence/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tive re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y foc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ucture and con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age your emotional and physical respon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nk positiv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For all your study skills need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http://student-learning.tcd.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380360" y="2276640"/>
            <a:ext cx="1157040" cy="32684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  <p:sndAc>
      <p:stSnd>
        <p:snd r:embed="rId2" name="applause.wav"/>
      </p:stSnd>
    </p:sndAc>
  </p:transition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195640" y="1268280"/>
            <a:ext cx="626256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xplore ways to prepare for exa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Review active revision strateg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Build self confid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Establish exam prep pl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68360" y="4292640"/>
            <a:ext cx="1425600" cy="20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inations as Ev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4000" y="1628640"/>
            <a:ext cx="380988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porting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hysical skills - basic to adv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it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r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m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v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formance rehea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8320" y="1700280"/>
            <a:ext cx="417168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cademic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nowledge - basic to advan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it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rk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Tolerance of ambigu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v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formance rehea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now Yoursel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your exam concer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o you have these concern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do wel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ould you do bett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friends developed strategies that you can u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you manage your stres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5" dur="1" fill="hold"/>
                                  <p:tgtEl>
                                    <p:spTgt spid="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3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84872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t Organised 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keys to your personal best is preparation and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4360" y="2349000"/>
            <a:ext cx="5486400" cy="37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cus on the subjects you are si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move distr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 a study program and time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Revision checkli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77080" y="3141720"/>
            <a:ext cx="1768320" cy="187164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  <p:sndAc>
      <p:stSnd>
        <p:snd r:embed="rId2" name="explode.wav"/>
      </p:stSnd>
    </p:sndAc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 from the pa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62520" y="19810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t detailed information about what your exam paper looks li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dentify and revise topics you do not know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Course handbook and marking crit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900000" y="2637000"/>
            <a:ext cx="2157480" cy="21571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  <p:sndAc>
      <p:stSnd>
        <p:snd r:embed="rId2" name="voltage.wav"/>
      </p:stSnd>
    </p:sndAc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79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Where is my exam timetable and my past exam paper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2492280"/>
            <a:ext cx="2592360" cy="1081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859280" y="4365720"/>
            <a:ext cx="1800360" cy="718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627280" y="3357720"/>
            <a:ext cx="2160720" cy="1295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27280" y="1197000"/>
            <a:ext cx="5000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-324000" y="-104760"/>
            <a:ext cx="9792000" cy="706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1" dur="250" autoRev="1" fill="hold"/>
                                        <p:tgtEl>
                                          <p:spTgt spid="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ive Revision Strateg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628640"/>
            <a:ext cx="53989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dense your no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Chu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Memor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Concept maps, grid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Foc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Answer past papers &amp;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Flash cards for memoris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Test your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7020000" y="3213000"/>
            <a:ext cx="1542960" cy="1549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  <p:sndAc>
      <p:stSnd>
        <p:snd r:embed="rId2" name="arrow.wav"/>
      </p:stSnd>
    </p:sndAc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5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velop a Structure for Your Answ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916360" y="1981080"/>
            <a:ext cx="55418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what is being ask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answer the QUES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include material that is irrelevant to the QUES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the format in which your answers are requi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e and practice answering previous exam questions using the required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39640" y="2565360"/>
            <a:ext cx="2033640" cy="223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5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0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5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0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5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9T11:20:50Z</dcterms:created>
  <dc:creator>TCD Accouint</dc:creator>
  <dc:description/>
  <dc:language>en-US</dc:language>
  <cp:lastModifiedBy>toconnor</cp:lastModifiedBy>
  <dcterms:modified xsi:type="dcterms:W3CDTF">2010-03-22T14:47:35Z</dcterms:modified>
  <cp:revision>38</cp:revision>
  <dc:subject/>
  <dc:title>Preparation for your Personal Best</dc:title>
</cp:coreProperties>
</file>