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682-81CA-4028-A983-AE3BCD62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98D-0C65-4D96-8218-D18687A8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BE36-CFC7-4614-88F4-6FCE0F8F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D6D-3473-438B-8002-688DC73E1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E12-BA5F-4518-BF97-46FAF7F8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E74-E281-4E9C-ABFC-987512F0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BED8-30D3-445B-9F5A-1D442BFB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1DC-30EB-4061-9E59-8479D729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037B-BDC7-4FED-BD18-D54A6256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072-9A9E-4EED-829B-5C10A5D7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194-CED8-41F4-9309-E6720F84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478F-C233-45D4-9F13-D7150DB0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2EA2-C6C6-40C3-A708-D255B6431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udent.learning@tcd.ie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Preparation for Your Personal Best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Science Exam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4360" y="2924280"/>
            <a:ext cx="57592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r. Tamara O’Conn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udent Learning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 Counselling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rinity College Dubl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student.learning@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http://student-learning.tcd.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896-14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88000" y="3500280"/>
            <a:ext cx="167796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us for revision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hink vocabulary, words, terms, concepts,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ake flash cards &amp; test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Recite for pr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Verbal &amp; visual strategies to check mast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reate summary sheets, diagrams, charts, tables, mind ma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Go!  Conditioned Reflex – </a:t>
            </a:r>
            <a:br>
              <a:rPr sz="4400"/>
            </a:b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MCQ Practi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26920" y="2276640"/>
            <a:ext cx="57913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each question care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le key words or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y modifiers and qualifiers (e.g. only, never, someti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all options before making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 answer before looking at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before marking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718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19529" t="26024" r="37072" b="4577"/>
          <a:stretch/>
        </p:blipFill>
        <p:spPr>
          <a:xfrm>
            <a:off x="533520" y="3352680"/>
            <a:ext cx="19047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808000"/>
                </a:solidFill>
                <a:latin typeface="Times New Roman"/>
              </a:rPr>
              <a:t>The following are all bones of the skull except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ariet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empor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ars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rontal b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The function of dendrites is to: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ow down nerve impul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yelin coating for ne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thesize neurotransmit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nerve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Go! Conditioned Reflex –</a:t>
            </a:r>
            <a:br>
              <a:rPr sz="4000"/>
            </a:b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Short Answer Practic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onstruct th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nk in own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and use key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 what you know: Define key words, concepts,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y 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808000"/>
                </a:solidFill>
                <a:latin typeface="Times New Roman"/>
              </a:rPr>
              <a:t>Outline the structure of fats OR carbohydrate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Choose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hat are they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ow would I answer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ow would I revise in order to be able to answer t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actice answering this type of question, varying t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Outline and briefly discuss the three main approaches to understanding and defining stress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7772400" cy="29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ss – what is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main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&amp; contrast – definitions, caus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Revision – Problem solv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Use active learning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Develop a range of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are textbook &amp;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imilarities &amp; differences between problem types &amp; solution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ow apply different situations or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ry to solve the problem as far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Revision – Problem solv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ractise problem-solving without your not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ork with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ork problems ‘out of contex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hearse performing at your personal best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e by anticipating ques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e by answering old exam Q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 your own answer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actice – un-timed and tim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mulate exam condi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8000"/>
                </a:solidFill>
                <a:latin typeface="Times New Roman"/>
              </a:rPr>
              <a:t>Objectives</a:t>
            </a:r>
            <a:br>
              <a:rPr sz="6000"/>
            </a:br>
            <a:endParaRPr b="0" lang="en-US" sz="6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00360" y="1981080"/>
            <a:ext cx="5975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lore a framework for managing ex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 about active examination preparat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hearse performance at your personal best – exam taking strategies for science &amp; problem-solving exa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00000" y="2349360"/>
            <a:ext cx="173700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Simulating Exam Conditions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key to both intellectual and emotional preparation for exams is 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The closer a simulation is to the actual event, the more likely it is that preparation will be eff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 simulation eng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both intellectual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motional respon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01000" y="1981080"/>
            <a:ext cx="457200" cy="5335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56724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rcRect l="42061" t="25783" r="19856" b="36869"/>
          <a:stretch/>
        </p:blipFill>
        <p:spPr>
          <a:xfrm>
            <a:off x="5638680" y="4032360"/>
            <a:ext cx="284976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Rehearse Techniques for Personal Best Performa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9880" y="2285640"/>
            <a:ext cx="46483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t the exam venue and get comfortable i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hotos, sketches, etc to bring the exam venue into your stud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ntally place yourself in the exam venue when you are rehe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71560" y="13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49913" t="39311" r="32732" b="43529"/>
          <a:stretch/>
        </p:blipFill>
        <p:spPr>
          <a:xfrm>
            <a:off x="609480" y="2743200"/>
            <a:ext cx="2743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Visualis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924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ery athlete’s PB is in their 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sualisation is a vital part of performance prepa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ly ever visualise performing at your b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362320" y="39625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1800" y="716040"/>
            <a:ext cx="7340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00"/>
                </a:solidFill>
                <a:latin typeface="Times New Roman"/>
              </a:rPr>
              <a:t>Keys to Your Personal Best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554184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me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 from the 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tness training using active revision strate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rehearsal using practice and simu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otional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tellectual pr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516720" y="1557360"/>
            <a:ext cx="1700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Examinations As an Even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kills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tness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m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49532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ademic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new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dersta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Personal Best Performan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manag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ning = Gam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ion = Fitness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e = Performance Rehea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 Taking =  Performanc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Anx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Game Plan - Preparation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Know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Familiarise yourself with ex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What topics to revi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kim all materials to determine what to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Overview work to be done &amp; schedule time to d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Know Yourself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your exam concerns?  Wh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do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ld you do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stud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trategies do you use to prep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you manage your str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Learn from the pas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t detailed information about what your exam paper loo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and revise topics you do not kn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works for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1240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00"/>
                </a:solidFill>
                <a:latin typeface="Times New Roman"/>
              </a:rPr>
              <a:t>Organise an Active Revision Program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81080" y="1600200"/>
            <a:ext cx="6477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 your learning sty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revision 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revision strategies where you mov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 pictures, maps, cartoons, diagra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 key points around your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 “someone” else and ask them key questions (answer the questions your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to tapes or view video/DVD versions of th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e exam preparation a social occ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5800" y="2052720"/>
            <a:ext cx="110160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808000"/>
                </a:solidFill>
                <a:latin typeface="Times New Roman"/>
              </a:rPr>
              <a:t>Revision – Fitness Training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9000"/>
            <a:ext cx="77724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MCQ Exams     recognition &amp; accurate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knowle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hort Answer    knowledge &amp;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understanding key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deas/facts at basic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03640" y="4581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20:50Z</dcterms:created>
  <dc:creator>TCD Accouint</dc:creator>
  <dc:description/>
  <dc:language>en-US</dc:language>
  <cp:lastModifiedBy>toconnor</cp:lastModifiedBy>
  <dcterms:modified xsi:type="dcterms:W3CDTF">2010-03-31T10:12:28Z</dcterms:modified>
  <cp:revision>37</cp:revision>
  <dc:subject/>
  <dc:title>Preparation for your Personal Best</dc:title>
</cp:coreProperties>
</file>