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12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98640" y="728280"/>
            <a:ext cx="4860720" cy="36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923580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71AF0-52EB-4DD6-AC8B-6CB4F2758F3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Above All the biggest reason for losing marks is poor hand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Poor Handwriting is one of the biggest reasons for losing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calpel vs. Ha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Biggest Reason for Losing Ma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A9D7-C9CC-40C1-BA93-B4E5BF5C0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6BB8-024D-4152-B158-F4E11209FAB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923616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C479-07F8-460D-A633-273D4F8BBA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2520" cy="36464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Time was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60720" cy="36464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617720"/>
            <a:ext cx="54864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Why avo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ave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Sometimes good for conf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74D-2DA8-46CA-BBF7-1B7B67DB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5B2-2747-40B4-A154-65DD8F864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676-92D8-4AB8-8C63-BD9FA839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5FB8-6091-45C3-93E1-47CDA30C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52EC-FD74-4C64-84C9-DEFB08863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4E9C-96D2-4CF6-8A36-43E99E41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B32BF-A2CA-455D-A9D7-2595368B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6865A-8F1C-42D9-ADC7-00A8F8A2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B1FE-B6EE-4E90-9E07-019F4C2C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8173-135C-4977-B90E-EA337562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FB660-CEBB-4B54-9EB0-22F47A9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27C9-50DE-4DE4-96E2-F2DAAAB9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AAEF-0908-4FB7-BE66-7275CCDF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736D-2B9A-4FA6-B4CC-0250A14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E746-3077-4118-A4AD-F79D9C21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85626-74EE-49FA-AE13-414A667E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46FF-F7B3-4601-A43C-42EE44736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7DDC-82D8-40B4-B0B5-EDC4AD6B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39E9-D481-4CD9-85C2-15BE2366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359-4BAA-461C-B4FB-E877DB91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078F-F882-4C01-AC0B-D1801B0A5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C4FE-B947-4048-A030-226E5322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0BFD-AEC0-43E7-A7E5-DFAE077F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E361-976C-4048-9FD1-926A58E7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0C4D-CF91-41DD-A110-558850AFF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48AC-6296-4596-8280-D76BFA7D2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cd.ie/Student_Counselling/student-learning/workshops/exam_revision/player.html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mpowertheuser.com:8080/ASPIREv4SC/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00720" y="1988640"/>
            <a:ext cx="411480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x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Taking Strate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Dr. Mark Matth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udent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5435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upplemental </a:t>
            </a:r>
            <a:br>
              <a:rPr sz="3000"/>
            </a:b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Exams 2010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36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vercomplic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Decision trees are used in data mining as a way of progressiv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breaking down data into groups.  As this happens, the number in e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classification may be noted.  A customer database may break down 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70% male, 30% female.  The males may be divided into those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Arial"/>
              </a:rPr>
              <a:t>spend over €1,000 a year with us (90%) and those that do not (10%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same subdivision for female shows that only 2% of females sp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ver €1,000 with us.  The high spending males break-down into 77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under 30 and 23% over 30 years of age.  When females are divi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o high and low spending, it might be found that 80% of high spen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are repeat customers and 20% are not.  Low spending females, on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ther hand, might be 90% non repeating customers.  A parallel analy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of high spending male customers might show th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29f33"/>
                </a:solidFill>
                <a:latin typeface="Verdana"/>
              </a:rPr>
              <a:t>Unbalance Answers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469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ximum gains for time are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arly stages of your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an your time in ad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hearse producing qua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 in tim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Verdana"/>
              </a:rPr>
              <a:t>Equal Time for Equal Ma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648320" y="1600200"/>
          <a:ext cx="4038480" cy="4800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1600200"/>
                    <a:ext cx="403848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8501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100" spc="-1" strike="noStrike">
                <a:solidFill>
                  <a:srgbClr val="629f33"/>
                </a:solidFill>
                <a:latin typeface="Verdana"/>
              </a:rPr>
              <a:t>Not Answering the Question</a:t>
            </a:r>
            <a:endParaRPr b="0" lang="en-US" sz="21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989840" cy="31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ing that you understand the question is the first step in producing an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you structure your answer is as important as what you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s not necessarily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404640"/>
            <a:ext cx="784692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Verdana"/>
              </a:rPr>
              <a:t>Keep Focussed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2205000"/>
            <a:ext cx="80802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f an idea for a future question </a:t>
            </a: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“pops into your head”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ke some very brief notes so that you don’t loose i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o straight back to the answer you are workin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f you have completed an answer and something relev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at you have left out “pops into your head”, go back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dd  the information </a:t>
            </a: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as dot points</a:t>
            </a: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 at the end of you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swer. Do not try to fit it in over your original script –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d legibility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How you lose mark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-interpreting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Not Answering Multiple Choic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or 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ullet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Padd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breakdown structures are important.  They are used in all projects including civi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chanical and electrical engineering projects as well as software projects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breakdown structures decompose the work to be done in a project into successiv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maller components.  The result is a hierarchical structure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This is usually done by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manager, but may be done by sub managers or engineers.  Being able to prepa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work breakdown is an important project management skill and needs experienc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alist engineers may be required to complete a WBS where specialised work i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volved.   The work breakdown structure enables the project manager to estimate mor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urately and later on helps in controlling the project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 typical breakdown may star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ith a project being divided into phases, stages, activities and tasks.  The lowest level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he breakdown is usually a task though occasionally task may be further subdivided i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ub-task or even steps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number of  tasks in a project can be very large.  The absence of a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down structure can cause problems in a project as it may not be possible to estimate accurat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assign work effectively.  If the work breakdown structure is not complete in some way, then t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ject is almost certain to overrun.  One project manager was quoted as saying that a good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reakdown structure is of ‘monumental importance’.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 proper work breakdown structure is normal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coded with a simple numeric coding system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The work breakdown structure may also be reflected in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ntt chart.  A Gantt chart is a sort of horizontal bar chart used for showing the timing and duration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various stages of a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-36360" y="0"/>
            <a:ext cx="10188360" cy="6897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47640" y="620640"/>
            <a:ext cx="33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Think about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IE" sz="2400" spc="-1" strike="noStrike">
                <a:solidFill>
                  <a:srgbClr val="ffffff"/>
                </a:solidFill>
                <a:latin typeface="Arial"/>
              </a:rPr>
              <a:t>exam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46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Verdana"/>
              </a:rPr>
              <a:t>Answer the Ques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062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ubject-specific hea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ck to your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how much you can write in th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y why the issues raised by the question ar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Structure your answer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lea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Clear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Doing Well in Exams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Gr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asons for losing 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On the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68360" y="6165720"/>
            <a:ext cx="669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5229360"/>
            <a:ext cx="6049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ourc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Exam Stress Guide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, SU &amp; Student Lear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How to Do Badly in Examinations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, Dr. Frank Bannist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763640" y="1844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No practice leads to..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or Hand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rain Dum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r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or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unning out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Anx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29f33"/>
                </a:solidFill>
                <a:latin typeface="Verdana"/>
              </a:rPr>
              <a:t>Conditional Reflex</a:t>
            </a:r>
            <a:endParaRPr b="0" lang="en-US" sz="21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699920"/>
            <a:ext cx="92887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00"/>
                </a:solidFill>
                <a:latin typeface="Arial"/>
              </a:rPr>
              <a:t>Develop Your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onstruct the 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tate the question in your own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and use the ke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that you know what the point of the question is by defining the key words/concepts/theories/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y how you are going to answer the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7184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26028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0000"/>
                </a:solidFill>
                <a:latin typeface="Arial"/>
              </a:rPr>
              <a:t>Exam Cent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-36360" y="692280"/>
            <a:ext cx="334800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Dozens of exam cen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ind out where y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exam 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isit the exam ven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763640" y="1844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On the 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44280"/>
            <a:ext cx="9612360" cy="6766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828720" y="1557360"/>
            <a:ext cx="36720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ill out your answer 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on’t hang around outs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on’t discuss the paper af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Verdana"/>
              </a:rPr>
              <a:t>Which question first?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9185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ect the questions you want to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best question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up your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question you know least well l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time to check your work and add dot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56052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Verdana"/>
              </a:rPr>
              <a:t>Planning your answer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econstruct the question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o quick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ough notes under hea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hen begin to write your 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87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Verdana"/>
              </a:rPr>
              <a:t>Performance on the day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772400" cy="43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up - make the examiners decide if you know enough to p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common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and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 for maximum g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 performance anx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Upcoming Workshop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anaging Exam N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ursday, August 26th, 1 - 2 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oom 3126, Arts Build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63640" y="184464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Gr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Exam Revision Workshop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63" name="Picture 4" descr="exam_workshop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1593720"/>
            <a:ext cx="7667640" cy="50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Exam_Stress_gui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360" y="-2700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Student Learning Development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4920" y="1628640"/>
            <a:ext cx="4356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hank you for you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Visit our website at: </a:t>
            </a:r>
            <a:r>
              <a:rPr b="0" lang="en-IE" sz="2400" spc="-1" strike="noStrike">
                <a:solidFill>
                  <a:srgbClr val="cc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202280" y="1989000"/>
            <a:ext cx="4941720" cy="411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Grad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809880" cy="2095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79280" y="1628640"/>
            <a:ext cx="507708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orough, deep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ritical thinking, insight, cre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ell writt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arly all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I.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ood grasp of su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ritical &amp; Analytical th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ogical Clear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early all key po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Grad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48360" y="1628640"/>
            <a:ext cx="3809880" cy="2095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1628640"/>
            <a:ext cx="5077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I.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olid 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Knowledge beyond lec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ood on 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Writing good, some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Knowledge Facts, but little ins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Narrow/ No critical thou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oorly written / incoher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ittle Factual Content &amp;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63640" y="1844640"/>
            <a:ext cx="4896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79640" y="2060640"/>
            <a:ext cx="4896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Why you lo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0000"/>
                </a:solidFill>
                <a:latin typeface="Gill Sans Ultra Bold"/>
              </a:rPr>
              <a:t>ma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Time Wast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riting out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Writing out multiple ch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Pointless Defini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Unnecessary conten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aking a long time to get to </a:t>
            </a: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rrelev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pet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Present what you k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Add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ff0000"/>
                </a:solidFill>
                <a:latin typeface="Arial"/>
              </a:rPr>
              <a:t>Get to th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Overcomplication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What is meant by each of the follow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mining terms?  In each case, include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simple example to illustrate your answ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Decision tre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Clust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Accuracy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Covera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3200" spc="-1" strike="noStrike">
                <a:solidFill>
                  <a:srgbClr val="000000"/>
                </a:solidFill>
                <a:latin typeface="Arial"/>
              </a:rPr>
              <a:t>(8 Mar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1:20:50Z</dcterms:created>
  <dc:creator>TCD Accouint</dc:creator>
  <dc:description/>
  <dc:language>en-US</dc:language>
  <cp:lastModifiedBy>MarkM</cp:lastModifiedBy>
  <dcterms:modified xsi:type="dcterms:W3CDTF">2010-08-19T09:51:27Z</dcterms:modified>
  <cp:revision>76</cp:revision>
  <dc:subject/>
  <dc:title>Preparation for your Personal Best</dc:title>
</cp:coreProperties>
</file>