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9126D6-0B23-4DFA-98C5-4A924895D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1A1080-10A9-45D8-9AFF-1225D9DF175A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645F09-A5EA-4EAB-AC83-09466FA3D64A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557335-CC13-4607-91F5-ACFBD6EDF180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047C0F-EF81-4C2F-97CD-22FE70665C98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8A9D5B-78C7-4895-A5E4-724EB39DDD28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81B608-3A75-4003-B06A-09AE14DBB4FB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member, you want to do justice to your writing in the oral format so practice is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20D180-0EB4-47C8-81AC-58516CDC69C9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22BC09-DBB8-4D16-8CBB-3DDC13580124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259-5252-43F0-B5B9-FC481CC5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A70-FC6E-4E68-B901-F4E381D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D33-B130-469F-B3B1-7412F692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655-8883-46C8-B8DD-C99D73FA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D413-1738-44EF-B72F-0F7B8542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CB71-BEDE-46D4-A91C-B960ABEF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B7DA-451A-421B-9C38-725FA75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713B-2CA0-4D42-B616-D314788A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D3A1-E768-4DD0-BCBD-A3CC8BFE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3EF9-333E-4804-9415-25A0B64E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CBBE-0AF8-4BF3-B24E-2920FB7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4CA-5AA1-4B29-A245-6D35D808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75A9-E153-4BBC-9C44-E79B8C9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5565-CA3A-4A49-883E-AEFBB79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0E32-B421-418C-83EB-E0A287A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D27A-8F8F-4AC5-88CD-EEAF906F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179F-E1D4-4961-A099-3BDDCA69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3D3-B9B7-443E-A458-97D2EF1A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622-FB00-47E5-B717-9D656767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C62-349A-4343-AF3F-FE8F6AB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98D-3665-4872-9F32-5FCCD8E4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8DB-1140-4FC1-B5EE-3ABFE5D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0BF-0CA6-4AD9-8D59-C2AE1858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A0C-341C-4557-ABA4-6858A9D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1269-47AF-4E57-840F-F635117186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A19E-7D48-4824-8CE4-02EAFB98E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reparing for the</a:t>
            </a:r>
            <a:br>
              <a:rPr sz="4000"/>
            </a:b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H.D. Viva – </a:t>
            </a:r>
            <a:br>
              <a:rPr sz="4000"/>
            </a:b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An </a:t>
            </a:r>
            <a:r>
              <a:rPr b="0" i="1" lang="en-IE" sz="4000" spc="-1" strike="noStrike">
                <a:solidFill>
                  <a:srgbClr val="629f33"/>
                </a:solidFill>
                <a:latin typeface="Arial"/>
              </a:rPr>
              <a:t>Oral</a:t>
            </a: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 Examination</a:t>
            </a:r>
            <a:endParaRPr b="0" lang="en-US" sz="4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. Tamara O’Con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0" y="1600200"/>
          <a:ext cx="1665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1600200"/>
                    <a:ext cx="1665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vision and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-read cr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view each chapter and summarise i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ence of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motional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19920" y="3581280"/>
          <a:ext cx="182880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581280"/>
                    <a:ext cx="18288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ticipate questions and prepare sample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asy and har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pen, closed, probing, applied, general, specific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 skill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13586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Viva strategies &amp; 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f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ine &amp; illu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ine &amp; def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ing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ing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labo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flecting cri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286000" cy="218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urray (2003) pp.90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act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Answer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ith different people: students, staff,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ing viva strategies and defenc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ntal prac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iscuss research with p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Why did you choose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Spend 1 minute writing why you chose thi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Can you describe the different steps involved in your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Spend 1 minute writing out a response to thi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your “USP”? What is new and different about your top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You must narrow this down to one or two ideas/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with your partner and report back to group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actice - Rehearsal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ck viva rehearsal with peer or fellow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ck viva rehearsal with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isualise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Dealing with nerves!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48" name="Picture 2" descr="C:\Users\jredmon\AppData\Local\Microsoft\Windows\Temporary Internet Files\Content.IE5\D005X43W\MCj03200160000[1].wmf"/>
          <p:cNvPicPr/>
          <p:nvPr/>
        </p:nvPicPr>
        <p:blipFill>
          <a:blip r:embed="rId2"/>
          <a:stretch/>
        </p:blipFill>
        <p:spPr>
          <a:xfrm>
            <a:off x="2500200" y="2000160"/>
            <a:ext cx="334656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Pair work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possible viva question or create a possibl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it with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urns to practise your answer keeping in mind what has been covered with regard to effective presentations and tips for surviving your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view viva as a performance event – an or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understand the principles of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explore ways to prepare for this type of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practise writing and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n the da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e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e careful what you 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ring a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ring a pad and pen (although don’t expect to take many n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to be nervous but try to deal with it positively/constru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n the day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9640" y="2214360"/>
            <a:ext cx="7958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Check 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List of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Copy of your thesis, especially your summary and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How long does it last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4200" y="1643040"/>
          <a:ext cx="8643960" cy="5000760"/>
        </p:xfrm>
        <a:graphic>
          <a:graphicData uri="http://schemas.openxmlformats.org/drawingml/2006/table">
            <a:tbl>
              <a:tblPr/>
              <a:tblGrid>
                <a:gridCol w="2881440"/>
                <a:gridCol w="2881440"/>
                <a:gridCol w="288108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ngth of v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ural and applied science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s, humanities and social science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p to 1 h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-2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-3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+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74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ource: Tinkler and Jackson, </a:t>
                      </a:r>
                      <a:r>
                        <a:rPr b="0" i="1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he Doctoral Examination Process</a:t>
                      </a: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, SPHE &amp; Open University Press, Maidenhead: 2004, page 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Final Adv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09640" y="1714320"/>
            <a:ext cx="7958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to be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Practice your answers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agree with everything they say but don’t be arro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some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Make sure you are clear about importan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lann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ake one minute to make a list of the things you need to do to prepare for your viva as a result of attending this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95680" y="4572000"/>
            <a:ext cx="1209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752480"/>
            <a:ext cx="4619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lease turn to the person next to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e yourself – name, discipline, what you are studying and one other fact abou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e your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artner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to the group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jredmon\AppData\Local\Microsoft\Windows\Temporary Internet Files\Content.IE5\DSGPKHKU\MCBD20184_0000[1].wmf"/>
          <p:cNvPicPr/>
          <p:nvPr/>
        </p:nvPicPr>
        <p:blipFill>
          <a:blip r:embed="rId2"/>
          <a:stretch/>
        </p:blipFill>
        <p:spPr>
          <a:xfrm>
            <a:off x="5430960" y="2266920"/>
            <a:ext cx="29700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erformance Ev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D is an examination – a performanc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 you prepare for any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eparation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kills development and performance rehe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nderstand the principl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D is abou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nowing your field thoroug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ng your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ing a useful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stering appropriate techniques &amp; knowing their 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municating in a professional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urpose of viva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scertain it is your ow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ke sure you understand what you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tribution to knowledge – worthy of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5000" y="4114800"/>
          <a:ext cx="19810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4114800"/>
                    <a:ext cx="1981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Reframe Ev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Viva . . . A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discuss your work with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improve your argumen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consider where to pub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t free consultanc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0" y="4114800"/>
          <a:ext cx="195732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114800"/>
                    <a:ext cx="19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The Viva ... the Examiner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60680" y="2668680"/>
            <a:ext cx="44625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ers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aminers will challenge your views, in order to hear your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4840" y="4344840"/>
            <a:ext cx="38070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aminer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ect every word and ph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page 32, you say ...     please expl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62280" y="4267080"/>
          <a:ext cx="1530360" cy="16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2280" y="4267080"/>
                    <a:ext cx="153036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62720" y="1523880"/>
          <a:ext cx="248112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4811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1676520"/>
          <a:ext cx="2190960" cy="167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1676520"/>
                    <a:ext cx="21909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65200" y="3583080"/>
            <a:ext cx="293832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iendly &amp;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iners will make you feel at ease.  They will want you to explain your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wigg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29f33"/>
                </a:solidFill>
                <a:latin typeface="Arial"/>
              </a:rPr>
              <a:t>The Viva ... Stay Calm &amp; Confid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most probably now the world’s expert on your thesis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gue each point with conf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nstrate your depth/breadth of knowled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72200" y="2286000"/>
          <a:ext cx="2514600" cy="358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51460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22:02Z</dcterms:created>
  <dc:creator>toconnor</dc:creator>
  <dc:description/>
  <dc:language>en-US</dc:language>
  <cp:lastModifiedBy>toconnor</cp:lastModifiedBy>
  <dcterms:modified xsi:type="dcterms:W3CDTF">2010-03-18T15:41:30Z</dcterms:modified>
  <cp:revision>8</cp:revision>
  <dc:subject/>
  <dc:title>Preparing for the PH.D. Viva –  An Oral Examination</dc:title>
</cp:coreProperties>
</file>