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8EF706-C862-41B1-80D7-E30E4028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D82899-D559-4E57-9566-AF7B9DF4E416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6B3115-4D72-40A7-A672-5B8B588BEAEF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D9559B-CF32-419F-B55A-38A6ECCC968C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26A98A-CD4F-4630-A656-7FAD5EBF0385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5A125-82D8-47FF-B854-3C08F338D124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342E76-9C1B-4AF7-AD2F-EF5A60E30F65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member, you want to do justice to your writing in the oral format so practice is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E7FC9B-C252-4DE4-B63A-2909B0F05939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3B6A46-0EA6-4A2B-9872-90323F397A31}" type="slidenum">
              <a:rPr b="0" lang="en-IE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622-13B4-43B7-9D8C-11A6668D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BE3-BE32-430D-ACA5-63B58DEE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F6B-CD0C-4F60-ABDA-4B924B44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138-B766-47E3-98C8-CEB348E7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C5B6-51DC-4C79-8451-0C6EB559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B4E5-7BAC-462E-A511-6750329C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561-EC39-4460-8953-1E88E0F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8F66-5A10-4ED7-BF7A-43E984E0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43C-1159-4FDA-9DAE-0E29F666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200E-74C4-4D0A-BE9B-2CFFDF0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1ECE-6302-4315-A252-FC65F395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840-9113-407B-A8F3-25B1945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802B-0B7B-4A62-B9ED-679E3EC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C566-926E-4C6D-9EF1-EC6617D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8455-D762-4C54-BE57-8FC3336B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07E-E351-4260-B4F8-4C3E254A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54B4-7D68-4D21-A01A-E9D8ED39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F1B-7628-46D4-B095-ACBDFFDC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D69-FFB9-4642-9A56-0EEA5CB9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078-EFC2-4663-8349-03E17B0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314-3113-4FBC-AC75-61CEB2E8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C18-C2A7-4E77-990D-B60620C1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975-9734-47A3-8A34-AB57A7FE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023-2317-4470-A4AE-C26DF26B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4287-EB10-467A-B0B4-F29FAF08F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4A93-D262-4BF1-8AF6-217045BCD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reparing for the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PH.D. Viva – </a:t>
            </a:r>
            <a:br>
              <a:rPr sz="4000"/>
            </a:b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An </a:t>
            </a:r>
            <a:r>
              <a:rPr b="0" i="1" lang="en-IE" sz="4000" spc="-1" strike="noStrike">
                <a:solidFill>
                  <a:srgbClr val="629f33"/>
                </a:solidFill>
                <a:latin typeface="Arial"/>
              </a:rPr>
              <a:t>Oral</a:t>
            </a:r>
            <a:r>
              <a:rPr b="0" lang="en-IE" sz="4000" spc="-1" strike="noStrike">
                <a:solidFill>
                  <a:srgbClr val="629f33"/>
                </a:solidFill>
                <a:latin typeface="Arial"/>
              </a:rPr>
              <a:t> Examination</a:t>
            </a:r>
            <a:endParaRPr b="0" lang="en-US" sz="4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. Tamara O’Con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0" y="1600200"/>
          <a:ext cx="1665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1600200"/>
                    <a:ext cx="1665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vision and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-read cri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view each chapter and summarise i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ence of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motional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19920" y="3581280"/>
          <a:ext cx="182880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581280"/>
                    <a:ext cx="18288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ticipate questions and prepare sample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asy and har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pen, closed, probing, applied, general, specific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skil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13586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Viva strategies &amp;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illu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fine &amp; def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ing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labo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flecting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286000" cy="21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urray (2003) pp.90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Answer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th different people: students, staff,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viva strategies and defenc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ental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iscuss research with p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y did you choose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why you chose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an you describe the different steps involved in your re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Spend 1 minute writing out a response to this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Key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your “USP”? What is new and different about your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You must narrow this down to one or two ideas/com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with your partner and report back to group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actice - Rehearsa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peer or fellow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ock viva rehearsal with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ise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ealing with nerves!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48" name="Picture 2" descr="C:\Users\jredmon\AppData\Local\Microsoft\Windows\Temporary Internet Files\Content.IE5\D005X43W\MCj03200160000[1].wmf"/>
          <p:cNvPicPr/>
          <p:nvPr/>
        </p:nvPicPr>
        <p:blipFill>
          <a:blip r:embed="rId2"/>
          <a:stretch/>
        </p:blipFill>
        <p:spPr>
          <a:xfrm>
            <a:off x="2500200" y="2000160"/>
            <a:ext cx="334656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Pair work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possible viva question or create a possibl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it with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urns to practise your answer keeping in mind what has been covered with regard to effective presentations and tips for surviving your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view viva as a performance event – an or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understand the principles of v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explore ways to prepare for this type of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practise writing and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e careful what you 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Bring a pad and pen (although don’t expect to take many 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 but try to deal with it positively/constru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n the day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9640" y="2214360"/>
            <a:ext cx="7958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Check 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List of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en and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Copy of your thesis, especially your summary and abs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 long does it last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4200" y="1643040"/>
          <a:ext cx="8643960" cy="500076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ngth of v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ural and applied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s, humanities and social sciences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Up to 1 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-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-3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+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74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ource: Tinkler and Jackson, </a:t>
                      </a:r>
                      <a:r>
                        <a:rPr b="0" i="1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he Doctoral Examination Process</a:t>
                      </a:r>
                      <a:r>
                        <a:rPr b="0" lang="en-IE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SPHE &amp; Open University Press, Maidenhead: 2004, page 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Final Adv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09640" y="1714320"/>
            <a:ext cx="79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to be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Practice your answers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agree with everything they say but don’t be arrog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Expect some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clear about importan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lann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ake one minute to make a list of the things you need to do to prepare for your viva as a result of attending this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1209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752480"/>
            <a:ext cx="4619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lease turn to the person next to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self – name, discipline, what you are studying and one other fact about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e your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partner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to the group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:\Users\jredmon\AppData\Local\Microsoft\Windows\Temporary Internet Files\Content.IE5\DSGPKHKU\MCBD20184_0000[1].wmf"/>
          <p:cNvPicPr/>
          <p:nvPr/>
        </p:nvPicPr>
        <p:blipFill>
          <a:blip r:embed="rId2"/>
          <a:stretch/>
        </p:blipFill>
        <p:spPr>
          <a:xfrm>
            <a:off x="5430960" y="2266920"/>
            <a:ext cx="29700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erformanc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n examination – a performanc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do you prepare for any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eparation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kills development and performance rehe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derstand the principl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hD is abo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Knowing your field thoroug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ng your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ing a useful 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stering appropriate techniques &amp; knowing their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municating in a professional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urpose of viva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scertain it is your ow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sure you understand what you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ntribution to knowledge – worthy of Ph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5000" y="4114800"/>
          <a:ext cx="19810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4114800"/>
                    <a:ext cx="1981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Reframe Ev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 Viva . . . A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discuss your work with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improve your argumen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o consider where to pub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free consultanc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0" y="4114800"/>
          <a:ext cx="195732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114800"/>
                    <a:ext cx="19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The Viva ... the Examiner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0680" y="2668680"/>
            <a:ext cx="44625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ers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will challenge your views, in order to hear your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4840" y="4344840"/>
            <a:ext cx="380700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examiner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ect every word and ph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age 32, you say ...     please explai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62280" y="4267080"/>
          <a:ext cx="1530360" cy="16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2280" y="4267080"/>
                    <a:ext cx="15303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62720" y="1523880"/>
          <a:ext cx="2481120" cy="167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523880"/>
                    <a:ext cx="24811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9480" y="1676520"/>
          <a:ext cx="2190960" cy="167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1676520"/>
                    <a:ext cx="2190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65200" y="3583080"/>
            <a:ext cx="293832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iendly &amp;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iners will make you feel at ease.  They will want you to explain your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wigg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29f33"/>
                </a:solidFill>
                <a:latin typeface="Arial"/>
              </a:rPr>
              <a:t>The Viva ... Stay Calm &amp; Confid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most probably now the world’s expert on your thesis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gue each point with conf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nstrate your depth/breadth of knowled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72200" y="2286000"/>
          <a:ext cx="2514600" cy="358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2286000"/>
                    <a:ext cx="251460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2:02Z</dcterms:created>
  <dc:creator>toconnor</dc:creator>
  <dc:description/>
  <dc:language>en-US</dc:language>
  <cp:lastModifiedBy>toconnor</cp:lastModifiedBy>
  <dcterms:modified xsi:type="dcterms:W3CDTF">2010-03-18T15:41:30Z</dcterms:modified>
  <cp:revision>8</cp:revision>
  <dc:subject/>
  <dc:title>Preparing for the PH.D. Viva –  An Oral Examination</dc:title>
</cp:coreProperties>
</file>