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BC2-CC37-4EB4-AFAB-7CF615183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509-8DDB-4D3C-94FC-1CC15BC43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E2AE-AD26-4F11-912A-5250FE74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2313-A3C2-4E07-9439-DF315436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9900-AD6A-4259-8041-4E0025D39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3472-E303-4017-884F-D624D9C1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C37E-0BD7-452D-A7DC-C9ECE663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CE4E-DD92-41CA-B4C0-DC5D4061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1414-0ED7-4D84-93DB-EB71943E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279D-DF18-4EED-881A-500AD45F0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88A07-F6A8-4DE6-A18F-0C2E2A4E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F13-F9F0-423D-9584-91AF7B4FE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1AD79-624D-4F73-906F-F55137D3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9634-9360-4BF1-9E06-0EFF7BCC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0C3B5-1A9E-46D4-8195-D33CD52D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77F79-68CB-4F10-83D6-C9CFA007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510D-C5D9-475C-A8AD-38E00240A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926C-2152-45C8-8D57-41FEC0AA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E61D-B5F4-46BA-B8E0-E5E52C8D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B6B-985B-43FF-BF85-52EB0A76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0CB-D7A0-4BC8-A7AE-BEB18245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B52E-EF5A-438E-BA2A-F9A55AB5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AC02-0FB0-45E7-A501-C4CB92C22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2AB-11EB-409E-AFF5-0FE6DA28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1B58-AC16-4B35-9FCA-673ABBD21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29f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F24E-B9CB-4CF1-8CCD-214C223C9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cd.ie/library/support/referencing.php" TargetMode="External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629f33"/>
                </a:solidFill>
                <a:latin typeface="Arial"/>
              </a:rPr>
              <a:t>10 top tips to manage your essay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art 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ind out marking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nderstand the ques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Organise your thoughts, ideas and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reate outline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Keep one idea per para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se the correct referencing 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cknowledge the ideas of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raft and redra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Edit and proof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629f33"/>
                </a:solidFill>
                <a:latin typeface="Arial"/>
              </a:rPr>
              <a:t>10 top tips for your memory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reate meaning to improve storage and recall of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sk ques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reate strong images, mind maps or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each someone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raw on practical examples where possible (e.g. lab demonstr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est yourself to see if you can recal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ummarise information in bullet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earn new information when your mind is fresh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se memory aids such as mnemonics (e.g. making up words or sentences to remember facts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actice past exam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10 top tips to manage your time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t a di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t organ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t your priorities r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t in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t motiv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t 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t to know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t foc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t a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t a disaster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629f33"/>
                </a:solidFill>
                <a:latin typeface="Arial"/>
              </a:rPr>
              <a:t>10 top tips to manage your exam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art 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lan your revision 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ioritise your 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chedule in bre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actice past exam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ay foc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Practice relaxatio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rrive early to exam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ttempt all required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ay until the end of the ex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629f33"/>
                </a:solidFill>
                <a:latin typeface="Arial"/>
              </a:rPr>
              <a:t>10 top tips to avoid procrastination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tart 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reak down responsibilities into smaller ta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Do hardest tasks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ocus on effort no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Just do 5 minutes work now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ross tasks off lists when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ward yourself for tasks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Get support from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uild on past suc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629f33"/>
                </a:solidFill>
                <a:latin typeface="Arial"/>
              </a:rPr>
              <a:t>10 top tips for your presentation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an in adv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reate an out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Know your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actice and time your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Keep slides clear and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ngage the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actice breathing and stress management techniques to manage ne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e aware of eye contact, voice and body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actice using the technology and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edict and prepare answers to questions from aud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10 top tips for taking notes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e brie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Be 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se abbrev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isten for ke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Use your ow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Summaris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Review notes before and after l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ook for links and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Keep notes tidy and organi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Compare note taking style and content with fri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629f33"/>
                </a:solidFill>
                <a:latin typeface="Arial"/>
              </a:rPr>
              <a:t>10 top tips for critical thinking</a:t>
            </a:r>
            <a:endParaRPr b="0" lang="en-US" sz="30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nalyse information rather than accepting it on fac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sk questions: Who? What? Where? Why? Wh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tart with a strong 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ook at alternative arguments or persp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ink of the topic from all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ive evidence to back up your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esent information cl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eck for any flaws or bias in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ink your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nd on a strong 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629f33"/>
                </a:solidFill>
                <a:latin typeface="Arial"/>
              </a:rPr>
              <a:t>10 top tips for citing and referencing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eck which referencing style your department 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Keep records of information sources on index c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lways acknowledge the work and ideas of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se exact page number for quo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ranslate ideas into your own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Use the correct format (e.g. author, date, title and publis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heck your sources for accura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oof read your references before submitting an assig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ake use of automated referencing systems (e.g. Endno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For further information refe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cd.ie/library/support/referencing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629f33"/>
                </a:solidFill>
                <a:latin typeface="Arial"/>
              </a:rPr>
              <a:t>10 top tips literature reviews</a:t>
            </a:r>
            <a:endParaRPr b="0" lang="en-US" sz="2600" spc="-1" strike="noStrike">
              <a:solidFill>
                <a:srgbClr val="629f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Understand what you want from the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fine your key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fine the scope and direction of the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repare a draft outline of key concep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Keep a record of the sources and information you ga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ritically evaluate the literature and the extent to which it answers your 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fine your search for recent and relevant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heck your sources for accur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ink points clea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valuate the clarity and structure of your arg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kM</cp:lastModifiedBy>
  <dcterms:modified xsi:type="dcterms:W3CDTF">2009-12-04T13:07:4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