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93CE-1D52-4735-8075-195720CAE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827-C61D-4388-B5AB-CC3FED0F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522D-05FA-480E-AF28-279FB89D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7E3C-C14A-474F-B03E-E9C30BE0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A8EE-3440-4C35-87B2-D6C43CDF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4F58-1B87-4DF3-9743-7655B5E2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AEBD1-67F7-42CE-8088-C67DC2CB8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2303-A361-4F31-991F-D4508103D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9C1B-61CD-4464-B6B2-18922148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4CAF-F96E-42E9-86C7-BC3826369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06194-89D0-4895-B597-0B798E31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60C-00AC-4AD7-9648-15790A13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4D45A-CE1C-48DD-BCCA-E6F44AFF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6695-0954-4599-9B83-F7436125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0B72-2630-4A2F-A4C7-DFC916CA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F57C-441A-4BC1-A34E-2FF3C822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450D-D65E-465C-B3FD-DEE6743BB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C4C-257B-46E0-8E0F-7DB3B3E6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5B21-6BF8-48C8-BA8D-BE9277CF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42C-FED1-4527-BA51-CF64CC149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EFD-A3FE-4BC1-AAC0-EEC67CE9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FAB7-65A9-4EF8-ACF7-57BD51FB5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08B2-C4C3-46AD-B7C5-BC3FD6684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22A-4C09-493F-9899-BC4C0D7A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1027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ced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1028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1029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49A08-F27D-4195-96CD-E2D9DFADBCB4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EFB5-1D75-4A75-8933-E68F4E396E8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Writing Essay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3141720"/>
            <a:ext cx="64008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08366"/>
                </a:solidFill>
                <a:latin typeface="Times New Roman"/>
              </a:rPr>
              <a:t>Dr. Tamara O’Connor &amp; Sylvia Moone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a08366"/>
                </a:solidFill>
                <a:latin typeface="Times New Roman"/>
              </a:rPr>
              <a:t>Student Learning Developmen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a08366"/>
                </a:solidFill>
                <a:latin typeface="Times New Roman"/>
              </a:rPr>
              <a:t>Student Counselling Servic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a08366"/>
                </a:solidFill>
                <a:latin typeface="Times New Roman"/>
              </a:rPr>
              <a:t>896-1407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a08366"/>
                </a:solidFill>
                <a:latin typeface="Times New Roman"/>
              </a:rPr>
              <a:t>student.learning@tcd.i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a08366"/>
                </a:solidFill>
                <a:latin typeface="Times New Roman"/>
              </a:rPr>
              <a:t>http://student-learning.tcd.i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tart writing earl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xtend outlin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ne idea or section at a tim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get something down!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e first, rough draf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vise &amp; improve draft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ow many drafts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4" name="Object 1024" descr=""/>
          <p:cNvPicPr/>
          <p:nvPr/>
        </p:nvPicPr>
        <p:blipFill>
          <a:blip r:embed="rId1"/>
          <a:stretch/>
        </p:blipFill>
        <p:spPr>
          <a:xfrm>
            <a:off x="6324480" y="2286000"/>
            <a:ext cx="2057400" cy="19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Develop your argumen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source materi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mpare and contras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how awareness of complexiti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how line of reason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link poi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entral guiding lin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Your conclusions - based on evidenc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33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Why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redit sources of information &amp; ide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ader can locate for further information if require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monstrate breadth of reading &amp; knowledg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29" name="Picture 4" descr="BS00554_"/>
          <p:cNvPicPr/>
          <p:nvPr/>
        </p:nvPicPr>
        <p:blipFill>
          <a:blip r:embed="rId1"/>
          <a:stretch/>
        </p:blipFill>
        <p:spPr>
          <a:xfrm>
            <a:off x="3635280" y="4797360"/>
            <a:ext cx="21463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33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spcAft>
                <a:spcPts val="2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2000"/>
                </a:solidFill>
                <a:latin typeface="Times New Roman"/>
              </a:rPr>
              <a:t>When?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irect quot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araphras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tatistics/Studi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eori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terpretat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ce9964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acts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3300"/>
                </a:solidFill>
                <a:latin typeface="Times New Roman"/>
              </a:rPr>
              <a:t>Plagiarism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402000"/>
                </a:solidFill>
                <a:latin typeface="Times New Roman"/>
              </a:rPr>
              <a:t>Using someone’s words or ideas and presenting them as your own (Marshall &amp; Rowland, 1998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402000"/>
                </a:solidFill>
                <a:latin typeface="Times New Roman"/>
              </a:rPr>
              <a:t>Inappropriate use of ideas from books, articles, internet, or other students’ wor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1143000" y="48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r>
              <a:rPr b="1" lang="en-GB" sz="4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r>
              <a:rPr b="1" lang="en-GB" sz="4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r>
              <a:rPr b="1" lang="en-GB" sz="4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???</a:t>
            </a:r>
            <a:r>
              <a:rPr b="0" lang="en-US" sz="11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3300"/>
                </a:solidFill>
                <a:latin typeface="Times New Roman"/>
              </a:rPr>
              <a:t>Reference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402000"/>
                </a:solidFill>
                <a:latin typeface="Times New Roman"/>
              </a:rPr>
              <a:t>How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eference system e.g. Harvar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ecord sourc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Take careful not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Reference lis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2000"/>
                </a:solidFill>
                <a:latin typeface="Times New Roman"/>
              </a:rPr>
              <a:t>In-text citing or referenc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ample marking criteria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cusing on a topic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tructuring an essa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onten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Formulating argume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resent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ferenc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vidence of language skill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Use of learning resourc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Edit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oof re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ut loud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ime ou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eer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rite up references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nal draf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resent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ubmit!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nal deadli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hecklis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eedback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3300"/>
                </a:solidFill>
                <a:latin typeface="Times New Roman"/>
              </a:rPr>
              <a:t>Session objective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402000"/>
                </a:solidFill>
                <a:latin typeface="Times New Roman"/>
              </a:rPr>
              <a:t>Focus on writing process instead of produc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402000"/>
                </a:solidFill>
                <a:latin typeface="Times New Roman"/>
              </a:rPr>
              <a:t>Look at the phases of writing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402000"/>
                </a:solidFill>
                <a:latin typeface="Times New Roman"/>
              </a:rPr>
              <a:t>Explore strategies for starting writing earli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402000"/>
                </a:solidFill>
                <a:latin typeface="Times New Roman"/>
              </a:rPr>
              <a:t>Understand the importance of structure to an academic essa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402000"/>
                </a:solidFill>
                <a:latin typeface="Times New Roman"/>
              </a:rPr>
              <a:t>Review examples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402000"/>
                </a:solidFill>
                <a:latin typeface="Times New Roman"/>
              </a:rPr>
              <a:t>Learn about some useful writing resourc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Writing Stages/Phases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lann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hink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search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rit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Edit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95" name="Diagram 4"/>
          <p:cNvGrpSpPr/>
          <p:nvPr/>
        </p:nvGrpSpPr>
        <p:grpSpPr>
          <a:xfrm>
            <a:off x="4838760" y="2249640"/>
            <a:ext cx="3965400" cy="3433320"/>
            <a:chOff x="4838760" y="2249640"/>
            <a:chExt cx="3965400" cy="3433320"/>
          </a:xfrm>
        </p:grpSpPr>
        <p:sp>
          <p:nvSpPr>
            <p:cNvPr id="96" name="_s1028"/>
            <p:cNvSpPr/>
            <p:nvPr/>
          </p:nvSpPr>
          <p:spPr>
            <a:xfrm>
              <a:off x="5611680" y="2249640"/>
              <a:ext cx="2419560" cy="2419200"/>
            </a:xfrm>
            <a:custGeom>
              <a:avLst/>
              <a:gdLst>
                <a:gd name="textAreaLeft" fmla="*/ 0 w 2419560"/>
                <a:gd name="textAreaRight" fmla="*/ 2419920 w 2419560"/>
                <a:gd name="textAreaTop" fmla="*/ 0 h 2419200"/>
                <a:gd name="textAreaBottom" fmla="*/ 2419200 h 241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7" name="_s1029"/>
            <p:cNvSpPr/>
            <p:nvPr/>
          </p:nvSpPr>
          <p:spPr>
            <a:xfrm rot="7200000">
              <a:off x="5942160" y="2820600"/>
              <a:ext cx="2419200" cy="2419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8" name="_s1030"/>
            <p:cNvSpPr/>
            <p:nvPr/>
          </p:nvSpPr>
          <p:spPr>
            <a:xfrm rot="14400000">
              <a:off x="5281560" y="2820600"/>
              <a:ext cx="2419200" cy="2419560"/>
            </a:xfrm>
            <a:custGeom>
              <a:avLst/>
              <a:gdLst>
                <a:gd name="textAreaLeft" fmla="*/ 0 w 2419200"/>
                <a:gd name="textAreaRight" fmla="*/ 2419200 w 2419200"/>
                <a:gd name="textAreaTop" fmla="*/ 0 h 2419560"/>
                <a:gd name="textAreaBottom" fmla="*/ 2419920 h 2419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ce9964"/>
            </a:solidFill>
            <a:ln w="9360">
              <a:solidFill>
                <a:srgbClr val="402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99" name="_s1031"/>
            <p:cNvSpPr/>
            <p:nvPr/>
          </p:nvSpPr>
          <p:spPr>
            <a:xfrm>
              <a:off x="7483320" y="2690640"/>
              <a:ext cx="9716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402000"/>
                  </a:solidFill>
                  <a:latin typeface="Times New Roman"/>
                </a:rPr>
                <a:t>Think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0" name="_s1032"/>
            <p:cNvSpPr/>
            <p:nvPr/>
          </p:nvSpPr>
          <p:spPr>
            <a:xfrm>
              <a:off x="6335640" y="4680000"/>
              <a:ext cx="97164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402000"/>
                  </a:solidFill>
                  <a:latin typeface="Times New Roman"/>
                </a:rPr>
                <a:t>Write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01" name="_s1033"/>
            <p:cNvSpPr/>
            <p:nvPr/>
          </p:nvSpPr>
          <p:spPr>
            <a:xfrm>
              <a:off x="5186520" y="2690640"/>
              <a:ext cx="971280" cy="9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1200" spc="-1" strike="noStrike">
                  <a:solidFill>
                    <a:srgbClr val="402000"/>
                  </a:solidFill>
                  <a:latin typeface="Times New Roman"/>
                </a:rPr>
                <a:t>Plan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Planning the assignment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nderstand the ques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Breakdow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Verb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quirement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Length, Word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Referenc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stablish Time Fram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4" name="Object 4" descr=""/>
          <p:cNvPicPr/>
          <p:nvPr/>
        </p:nvPicPr>
        <p:blipFill>
          <a:blip r:embed="rId1"/>
          <a:stretch/>
        </p:blipFill>
        <p:spPr>
          <a:xfrm>
            <a:off x="6004080" y="2514600"/>
            <a:ext cx="246996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Planning time fram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List task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eliminari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Gathering Inform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rganising Informat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ough outlin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raft 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raft 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ferenc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roofreading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reate deadli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_____________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Thinking 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rainstorm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de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hat know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Try mindmapping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eliminary read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fine topi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tinues throughout proces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10" name="Object 8" descr=""/>
          <p:cNvPicPr/>
          <p:nvPr/>
        </p:nvPicPr>
        <p:blipFill>
          <a:blip r:embed="rId1"/>
          <a:stretch/>
        </p:blipFill>
        <p:spPr>
          <a:xfrm>
            <a:off x="6781680" y="1828800"/>
            <a:ext cx="12956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3300"/>
                </a:solidFill>
                <a:latin typeface="Times New Roman"/>
              </a:rPr>
              <a:t>Discuss the contribution of nursing models to the development of practice</a:t>
            </a:r>
            <a:endParaRPr b="0" lang="en-US" sz="36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2060640"/>
            <a:ext cx="77724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402000"/>
                </a:solidFill>
                <a:latin typeface="Times New Roman"/>
              </a:rPr>
              <a:t>Key Words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402000"/>
                </a:solidFill>
                <a:latin typeface="Times New Roman"/>
              </a:rPr>
              <a:t>Discus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402000"/>
                </a:solidFill>
                <a:latin typeface="Times New Roman"/>
              </a:rPr>
              <a:t>Nursing mod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402000"/>
                </a:solidFill>
                <a:latin typeface="Times New Roman"/>
              </a:rPr>
              <a:t>Practi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402000"/>
                </a:solidFill>
                <a:latin typeface="Times New Roman"/>
              </a:rPr>
              <a:t>Key themes &amp; argume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402000"/>
                </a:solidFill>
                <a:latin typeface="Times New Roman"/>
              </a:rPr>
              <a:t>Define mod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402000"/>
                </a:solidFill>
                <a:latin typeface="Times New Roman"/>
              </a:rPr>
              <a:t>Argument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402000"/>
                </a:solidFill>
                <a:latin typeface="Times New Roman"/>
              </a:rPr>
              <a:t>Advantages &amp; Disadvantages of using model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Structure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utline of essa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in se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ain point 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82800" indent="-19656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etails, evidenc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Main point B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ummary of main point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639000" indent="-24552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ersonal conclus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5435640" y="1828800"/>
            <a:ext cx="2925720" cy="5029200"/>
            <a:chOff x="5435640" y="1828800"/>
            <a:chExt cx="2925720" cy="5029200"/>
          </a:xfrm>
        </p:grpSpPr>
        <p:sp>
          <p:nvSpPr>
            <p:cNvPr id="116" name="AutoShape 5"/>
            <p:cNvSpPr/>
            <p:nvPr/>
          </p:nvSpPr>
          <p:spPr>
            <a:xfrm>
              <a:off x="5435640" y="1828800"/>
              <a:ext cx="2925720" cy="50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7" name="Rectangle 6"/>
            <p:cNvSpPr/>
            <p:nvPr/>
          </p:nvSpPr>
          <p:spPr>
            <a:xfrm>
              <a:off x="6121080" y="3200400"/>
              <a:ext cx="1142640" cy="182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6007320" y="5029200"/>
              <a:ext cx="1370880" cy="1257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9" name="AutoShape 8"/>
            <p:cNvSpPr/>
            <p:nvPr/>
          </p:nvSpPr>
          <p:spPr>
            <a:xfrm flipV="1">
              <a:off x="6007320" y="1942920"/>
              <a:ext cx="1398960" cy="1257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Researching</a:t>
            </a:r>
            <a:endParaRPr b="0" lang="en-US" sz="4400" spc="-1" strike="noStrike">
              <a:solidFill>
                <a:srgbClr val="0033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ough outline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Gather information relevant to topic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Keep good not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organise content according to outlin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choose what to includ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Keep referenc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igest and reflect on inform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0:31:15Z</dcterms:created>
  <dc:creator>General Paints Celbridge</dc:creator>
  <dc:description/>
  <dc:language>en-US</dc:language>
  <cp:lastModifiedBy>Administrator</cp:lastModifiedBy>
  <dcterms:modified xsi:type="dcterms:W3CDTF">2010-11-02T10:39:34Z</dcterms:modified>
  <cp:revision>9</cp:revision>
  <dc:subject/>
  <dc:title>Essay Writing</dc:title>
</cp:coreProperties>
</file>