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45C-6454-47E4-AFCE-4EBB933B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AB0-04C0-4384-92CF-6FDF9E60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D76-2814-4394-89A7-A890F46C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271-FFD8-492A-BA99-71E99CF4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B5B-C996-4E72-9B4D-AD707990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8A2-32F0-441E-87C1-EC009F06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1E5-C781-4FE9-AE8C-D30AF9C5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282-10D7-4D0A-A92F-282EB409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D9E-0942-43E9-A7CA-5DD85120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99A-C01F-415C-AEC1-BC006387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C02-F4DE-437A-8E26-9ECF1369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A83-B5F9-4EEB-A324-16AB8F9E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BAC7-17EF-4E32-9146-9EBC18C14E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14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629f33"/>
                </a:solidFill>
                <a:latin typeface="Arial"/>
              </a:rPr>
              <a:t>Citing and referencing academic sources</a:t>
            </a:r>
            <a:endParaRPr b="0" lang="en-US" sz="44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357720"/>
            <a:ext cx="63691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ent Counselling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ent.learning@tcd.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tudent-learning.tcd.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96-14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How? Citation or reference styl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citation style or reference system is a standardised system for referring to materials used in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are several different citation styles developed independently by professional orga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Departments generally stipulate which style to use for your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he Harvard Referencing styl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most commonly used system in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lso known as the “author date syst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are very specific rules for textual c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are very specific rules for listing your references at the end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Refernces or Bibliography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7336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ibliography” and “Referenc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conventions of your subject will determine which term you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the Harvard system, references are listed alphab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is a double space between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itation listed in ‘References’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785600"/>
            <a:ext cx="82296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evens, P. (2003) </a:t>
            </a: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The Voyage of the Catalpa: A Perilous Journey and Six Irish Rebels’ Escape to Freedom.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don: Weidenfeld and Nicol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itation listed in a ‘References’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8568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Journal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evens, P. (2003) ‘The Voyage of the Catalpa: A Perilous Journey and Six Irish Rebels’ Escape to Freedom’.  </a:t>
            </a: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Irish Journal of Social History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50 (2) 34-4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“Irish Journal of Social History” is fictitious and for this exampl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Avoiding plagiarism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availability of text in digital form increases the possibility of accidentally using someone else's material without acknowle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ke sure you record all the details of the material you make notes on at the time so that you know who’s it i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y all means use quotes and paraphrased material but cite it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Oval 3"/>
          <p:cNvSpPr/>
          <p:nvPr/>
        </p:nvSpPr>
        <p:spPr>
          <a:xfrm>
            <a:off x="-324000" y="4149720"/>
            <a:ext cx="1238400" cy="55548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684000" y="3645000"/>
            <a:ext cx="431640" cy="72072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-324000" y="-104760"/>
            <a:ext cx="979200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629f33"/>
                </a:solidFill>
                <a:latin typeface="Arial"/>
              </a:rPr>
              <a:t>Further information</a:t>
            </a:r>
            <a:endParaRPr b="0" lang="en-US" sz="38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tcd.ie/Library/support/referencing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learnhigher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coventry.ac.uk/c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cite.auckland.ac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629f33"/>
                </a:solidFill>
                <a:latin typeface="Arial"/>
              </a:rPr>
              <a:t>Demystifying citation</a:t>
            </a:r>
            <a:endParaRPr b="0" lang="en-US" sz="38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717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ssion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is a reference or c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amples of c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is a citation or reference sty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Harvard Referenc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voiding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ere to get more information about citing and re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hat is a reference or citation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way of giving credit for someone's thinking, writing 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You mark the material when you use it (a citation) and give the full identification at the end (a refer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academic writing you are obliged to attribute every piece of material you use to its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hy cite or reference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sources of information &amp;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 can locate for further information if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Validate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crease and sprea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ow depth, breadth &amp; quality of your read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When to cite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7856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qu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/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S00554_"/>
          <p:cNvPicPr/>
          <p:nvPr/>
        </p:nvPicPr>
        <p:blipFill>
          <a:blip r:embed="rId1"/>
          <a:stretch/>
        </p:blipFill>
        <p:spPr>
          <a:xfrm>
            <a:off x="5724360" y="3068640"/>
            <a:ext cx="21607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Example citation in text –summary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7146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prologue to Peter Stevens’ (2003) “The Voyage of the Catalpa” has a strong Irish flavour yet it is clearly set on the eastern seaboard of the United States of Ameri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by O'Connor of the CIBA foundation found that 52 scientific journals had used 33 different reference styles (cited by Garfield 1986, p.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Example of citation in text – 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araphras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207144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beautifully refitted and well equipped ship carried supplies for two years at sea whaling in the Atlantic (Stevens, 200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l perceive the world around us in ways that are often unique to us through a series of personal filters and we 'construct' our own versions of reality (Kelly 195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Example of citation in text –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quot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0040" y="20718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conspiratorial tone of the prologue is no better expressed than in the final line,  “Not a man but ourselves had the least suspicion of her true mission, and she is well on her way now.” (Stevens, 2003, p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Another example quot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cent study (Oshagbemi, 2004) also suggests that older managers can bring balance to a management team, as older managers, compared to younger, consult more widely and favour more participation, which tends to be well-received by other staff. Oshagbemi asserts that: "older workers tend to have a maturity and wisdom that enables them to anticipate problems and to respond to them calmly and with confidence" (p.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54:15Z</dcterms:created>
  <dc:creator>lumsdenl</dc:creator>
  <dc:description/>
  <dc:language>en-US</dc:language>
  <cp:lastModifiedBy>Administrator</cp:lastModifiedBy>
  <dcterms:modified xsi:type="dcterms:W3CDTF">2011-11-03T10:29:58Z</dcterms:modified>
  <cp:revision>12</cp:revision>
  <dc:subject/>
  <dc:title>Citing and referencing academic sources</dc:title>
</cp:coreProperties>
</file>