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2FFA-0E79-4521-9DAB-2B62DCFB4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95F1-0934-4ACF-9168-45B0AFF5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84C5-4E41-44E1-A015-99272B7E3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FC46-72A8-45A6-A947-DCBC622D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E259-FE02-477C-BA4C-50C746EC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E54B-6FF9-4DA6-A8BE-03D08D8C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D09A-0B57-44EA-BDC8-EE5CC61F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49CC-B9B8-49DC-B275-0C53C936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84CF-D229-455A-82D7-4CCE0661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444B-6787-4E12-9E70-AEEAE235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75DC-807A-40DB-B0A5-505A5602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137A-64F8-4A22-9941-210C1C11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87EA-3A2A-4AB1-8F83-98E38F6C1E2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21428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629f33"/>
                </a:solidFill>
                <a:latin typeface="Arial"/>
              </a:rPr>
              <a:t>Citing and referencing academic sources</a:t>
            </a:r>
            <a:endParaRPr b="0" lang="en-US" sz="44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3357720"/>
            <a:ext cx="63691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udent Learning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udent Counselling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udent.learning@tcd.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student-learning.tcd.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96-14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How? Citation or reference style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 citation style or reference system is a standardised system for referring to materials used in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re are several different citation styles developed independently by professional organis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University Departments generally stipulate which style to use for your su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The Harvard Referencing style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177336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 most commonly used system in Colle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lso known as the “author date syste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re are very specific rules for textual c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re are very specific rules for listing your references at the end of your e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Refernces or Bibliography 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773360"/>
            <a:ext cx="8362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Bibliography” and “Referenc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 conventions of your subject will determine which term you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n the Harvard system, references are listed alphabe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re is a double space between 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Citation listed in ‘References’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785600"/>
            <a:ext cx="822960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Bo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tevens, P. (2003) </a:t>
            </a:r>
            <a:r>
              <a:rPr b="0" i="1" lang="en-IE" sz="3200" spc="-1" strike="noStrike">
                <a:solidFill>
                  <a:srgbClr val="000000"/>
                </a:solidFill>
                <a:latin typeface="Arial"/>
              </a:rPr>
              <a:t>The Voyage of the Catalpa: A Perilous Journey and Six Irish Rebels’ Escape to Freedom.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London: Weidenfeld and Nicol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Harv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Citation listed in a ‘References’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856880"/>
            <a:ext cx="82296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Journal 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tevens, P. (2003) ‘The Voyage of the Catalpa: A Perilous Journey and Six Irish Rebels’ Escape to Freedom’.  </a:t>
            </a:r>
            <a:r>
              <a:rPr b="0" i="1" lang="en-IE" sz="3200" spc="-1" strike="noStrike">
                <a:solidFill>
                  <a:srgbClr val="000000"/>
                </a:solidFill>
                <a:latin typeface="Arial"/>
              </a:rPr>
              <a:t>Irish Journal of Social History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50 (2) 34-4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he “Irish Journal of Social History” is fictitious and for this example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Avoiding plagiarism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 availability of text in digital form increases the possibility of accidentally using someone else's material without acknowle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ake sure you record all the details of the material you make notes on at the time so that you know who’s it is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By all means use quotes and paraphrased material but cite it prope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Oval 3"/>
          <p:cNvSpPr/>
          <p:nvPr/>
        </p:nvSpPr>
        <p:spPr>
          <a:xfrm>
            <a:off x="-324000" y="4149720"/>
            <a:ext cx="1238400" cy="555480"/>
          </a:xfrm>
          <a:prstGeom prst="ellipse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Line 4"/>
          <p:cNvSpPr/>
          <p:nvPr/>
        </p:nvSpPr>
        <p:spPr>
          <a:xfrm flipH="1">
            <a:off x="684000" y="3645000"/>
            <a:ext cx="431640" cy="72072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-324000" y="-104760"/>
            <a:ext cx="9792000" cy="70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277920"/>
            <a:ext cx="80755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800" spc="-1" strike="noStrike">
                <a:solidFill>
                  <a:srgbClr val="629f33"/>
                </a:solidFill>
                <a:latin typeface="Arial"/>
              </a:rPr>
              <a:t>Further information</a:t>
            </a:r>
            <a:endParaRPr b="0" lang="en-US" sz="38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234936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tcd.ie/Library/support/referencing.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learnhigher.ac.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coventry.ac.uk/c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cite.auckland.ac.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6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800" spc="-1" strike="noStrike">
                <a:solidFill>
                  <a:srgbClr val="629f33"/>
                </a:solidFill>
                <a:latin typeface="Arial"/>
              </a:rPr>
              <a:t>Demystifying citation</a:t>
            </a:r>
            <a:endParaRPr b="0" lang="en-US" sz="38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7176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ession Objec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hat is a reference or ci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Examples of c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hat is a citation or reference sty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 Harvard Referencing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voiding plagia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here to get more information about citing and refere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What is a reference or citation?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 way of giving credit for someone's thinking, writing or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You mark the material when you use it (a citation) and give the full identification at the end (a refer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n academic writing you are obliged to attribute every piece of material you use to its auth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Why cite or reference?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t sources of information &amp;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er can locate for further information if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Validate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ncrease and spread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how depth, breadth &amp; quality of your read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629f33"/>
                </a:solidFill>
                <a:latin typeface="Arial"/>
              </a:rPr>
              <a:t>When to cite?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00040" y="17856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qu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/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phr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BS00554_"/>
          <p:cNvPicPr/>
          <p:nvPr/>
        </p:nvPicPr>
        <p:blipFill>
          <a:blip r:embed="rId1"/>
          <a:stretch/>
        </p:blipFill>
        <p:spPr>
          <a:xfrm>
            <a:off x="5724360" y="3068640"/>
            <a:ext cx="216072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Example citation in text –summary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28760" y="171468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he prologue to Peter Stevens’ (2003) “The Voyage of the Catalpa” has a strong Irish flavour yet it is clearly set on the eastern seaboard of the United States of Americ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udy by O'Connor of the CIBA foundation found that 52 scientific journals had used 33 different reference styles (cited by Garfield 1986, p.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Example of citation in text – </a:t>
            </a:r>
            <a:br>
              <a:rPr sz="3000"/>
            </a:b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paraphrase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8760" y="2071440"/>
            <a:ext cx="82296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 beautifully refitted and well equipped ship carried supplies for two years at sea whaling in the Atlantic (Stevens, 200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ll perceive the world around us in ways that are often unique to us through a series of personal filters and we 'construct' our own versions of reality (Kelly 1955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Example of citation in text –</a:t>
            </a:r>
            <a:br>
              <a:rPr sz="3000"/>
            </a:b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quotation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00040" y="207180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he conspiratorial tone of the prologue is no better expressed than in the final line,  “Not a man but ourselves had the least suspicion of her true mission, and she is well on her way now.” (Stevens, 2003, p. 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Another example quote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cent study (Oshagbemi, 2004) also suggests that older managers can bring balance to a management team, as older managers, compared to younger, consult more widely and favour more participation, which tends to be well-received by other staff. Oshagbemi asserts that: "older workers tend to have a maturity and wisdom that enables them to anticipate problems and to respond to them calmly and with confidence" (p.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6:54:15Z</dcterms:created>
  <dc:creator>lumsdenl</dc:creator>
  <dc:description/>
  <dc:language>en-US</dc:language>
  <cp:lastModifiedBy>Administrator</cp:lastModifiedBy>
  <dcterms:modified xsi:type="dcterms:W3CDTF">2011-11-03T10:29:58Z</dcterms:modified>
  <cp:revision>12</cp:revision>
  <dc:subject/>
  <dc:title>Citing and referencing academic sources</dc:title>
</cp:coreProperties>
</file>