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suction.wav" ContentType="audio/x-wav"/>
  <Override PartName="/ppt/media/image7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F2E-751F-49B0-B14E-20E96049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25B-1BE3-47D8-81AD-9796D7BC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281-C96D-4C7C-BCCF-07F332EE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1D3-E284-4D7D-AD85-EFFE9086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EB63-9B7A-4121-8E1C-673304EE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B9C0-0C4A-44C1-A04C-50FA3485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EB46-C836-42DD-8425-AAAB6AA4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4D84-3155-4549-B08B-EC14534D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18EA-EC7C-4A71-A66F-8681C07B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E468-CC1F-482B-A7C4-512E919C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65DD-C8B2-4259-B140-B6D9417D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843-D291-4754-846B-051F1A91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4C13-A9AC-4748-AD6D-0009A8E8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8967-34EE-4129-80A5-2F367131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A0B8-9244-4223-9DBB-80304442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DCC1-BE72-4192-8319-8526AE3F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9FB2-C6AD-490F-BF67-393E8A4C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15A-D494-461A-A9A7-0D7D9227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C74-058C-467C-B116-006F4D1C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23B-41FB-4027-B732-547757B3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BA5-6E64-43B1-A9B7-2C2F2F9E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B16-04DE-467D-9E10-09BB2E4C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533-3753-43D4-9A3A-6A12B65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29B-A0BD-4AE1-9ED7-E8F42C51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AB27-8ACC-4EF3-B1E5-84CB059B6D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C83E-BE0F-480E-AF21-31B51DC329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tudent-learning.tcd.ie/" TargetMode="External"/><Relationship Id="rId3" Type="http://schemas.openxmlformats.org/officeDocument/2006/relationships/hyperlink" Target="mailto:student.learning@tcd.ie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258560" y="1557360"/>
            <a:ext cx="66978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rocrastination &amp; Concent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Presented by: Dr Derek Rich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cc00"/>
                </a:solidFill>
                <a:latin typeface="Verdana"/>
              </a:rPr>
              <a:t>Student Learning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76720" y="2349360"/>
            <a:ext cx="1800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629f33"/>
                </a:solidFill>
                <a:latin typeface="Arial"/>
              </a:rPr>
              <a:t>Controlling Internal Distractions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ist of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orr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ind wandering/daydr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ental rehea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re active in the study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093080" y="2349360"/>
            <a:ext cx="1342800" cy="18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629f33"/>
                </a:solidFill>
                <a:latin typeface="Arial"/>
              </a:rPr>
              <a:t>Improving Motiv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ocus on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lter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ositive self-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Go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osi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Visu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940360" y="1773360"/>
            <a:ext cx="1515960" cy="2016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508720" y="4437000"/>
            <a:ext cx="2735280" cy="720720"/>
          </a:xfrm>
          <a:prstGeom prst="wedgeEllipseCallout">
            <a:avLst>
              <a:gd name="adj1" fmla="val -82731"/>
              <a:gd name="adj2" fmla="val -111231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Yes I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29f33"/>
                </a:solidFill>
                <a:latin typeface="Arial"/>
              </a:rPr>
              <a:t>Conclus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 why you procrast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y or plan for  overcoming procras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your di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es for controlling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es for increasing your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ur detail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I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tudent-learning.tcd.ie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IE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tudent.learning@tcd.i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acebook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 u="sng">
                <a:solidFill>
                  <a:srgbClr val="009999"/>
                </a:solidFill>
                <a:uFillTx/>
                <a:latin typeface="Arial"/>
              </a:rPr>
              <a:t>facebook.com/sldt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witter: </a:t>
            </a:r>
            <a:r>
              <a:rPr b="1" lang="en-GB" sz="3200" spc="-1" strike="noStrike" u="sng">
                <a:solidFill>
                  <a:srgbClr val="009999"/>
                </a:solidFill>
                <a:uFillTx/>
                <a:latin typeface="Arial"/>
              </a:rPr>
              <a:t>twitter.com/StudentLearnin1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hone: </a:t>
            </a:r>
            <a:r>
              <a:rPr b="1" lang="en-IE" sz="2800" spc="-1" strike="noStrike" u="sng">
                <a:solidFill>
                  <a:srgbClr val="009999"/>
                </a:solidFill>
                <a:uFillTx/>
                <a:latin typeface="Arial"/>
              </a:rPr>
              <a:t>01-89614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796000" y="5229360"/>
            <a:ext cx="244944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29f33"/>
                </a:solidFill>
                <a:latin typeface="Arial"/>
              </a:rPr>
              <a:t>Learning Objective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ore reasons for procra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strategies for overcoming procra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ine causes of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 ways to control concentration and improve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629f33"/>
                </a:solidFill>
                <a:latin typeface="Arial"/>
              </a:rPr>
              <a:t>PROCRASTINATION</a:t>
            </a:r>
            <a:endParaRPr b="0" lang="en-US" sz="39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732040"/>
            <a:ext cx="8229600" cy="3394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s to delay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needlessly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mething that we believe would be to our benef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me reasons for procrast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otional - perfectionism, self-judgement, fear of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cuses and ha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588000" y="3860640"/>
            <a:ext cx="1646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The psychology of procrastin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364000" y="2739960"/>
            <a:ext cx="3024360" cy="226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49800" y="36450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pat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02880" y="36450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29f33"/>
                </a:solidFill>
                <a:latin typeface="Arial"/>
              </a:rPr>
              <a:t>Overcoming Procrastin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ami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ve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ork on related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o the hardest bit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e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ward yourself for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227640" y="2276640"/>
            <a:ext cx="18338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900" spc="-1" strike="noStrike">
                <a:solidFill>
                  <a:srgbClr val="629f33"/>
                </a:solidFill>
                <a:latin typeface="Arial"/>
              </a:rPr>
              <a:t>CON</a:t>
            </a:r>
            <a:r>
              <a:rPr b="0" lang="en-GB" sz="3900" spc="-1" strike="noStrike">
                <a:solidFill>
                  <a:srgbClr val="629f33"/>
                </a:solidFill>
                <a:latin typeface="Arial"/>
              </a:rPr>
              <a:t>CENTRATION</a:t>
            </a:r>
            <a:endParaRPr b="0" lang="en-US" sz="39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2781360"/>
            <a:ext cx="7772400" cy="2463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s the act of focu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ur attention and 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948360" y="2492280"/>
            <a:ext cx="12067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629f33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actions as events which divert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ources of Dis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ol Distraction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1981080" cy="183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629f33"/>
                </a:solidFill>
                <a:latin typeface="Arial"/>
              </a:rPr>
              <a:t>Controlling External Distractions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ructure study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stablish a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egot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unplug TV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227640" y="2637000"/>
            <a:ext cx="1150920" cy="178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2T20:59:38Z</dcterms:created>
  <dc:creator>Kevin O'Connor</dc:creator>
  <dc:description/>
  <cp:keywords/>
  <dc:language>en-US</dc:language>
  <cp:lastModifiedBy>TCDuser</cp:lastModifiedBy>
  <cp:lastPrinted>2000-09-10T20:02:02Z</cp:lastPrinted>
  <dcterms:modified xsi:type="dcterms:W3CDTF">2013-01-29T12:44:05Z</dcterms:modified>
  <cp:revision>95</cp:revision>
  <dc:subject/>
  <dc:title>OBJECTIVES</dc:title>
</cp:coreProperties>
</file>