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A645-1240-42C6-8D64-E23CFFC28C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www.tcd.ie/Library/support/subjects/nursing-midwifery/Harvard%20Ref%20System%202009-2010.pdf" TargetMode="External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cus on writing process instead of pro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ook at the phases of wri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xplore strategies for starting writing ear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nderstand the importance of structure to an academic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Review examp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earn about some useful writing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other ways to revise, ask friends, tutors etc. what they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tcd.ie/Library/support/subjects/nursing-midwifery/Harvard%20Ref%20System%202009-2010.pdf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Harvard system is a simple method of quoting references in which names and dates are given in the body of the text and alphabetically listed at the end of the essay / assignment / project. Footnotes may not be used as they are not in keeping with the Harvard referencing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921-DED5-4BA4-A825-1B8249B62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nline essay writing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ssignment Tool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Video on essay writing w/Alan Tuff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45F-6BC3-4178-AEFB-996A0FC9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9AD-13B3-4EAB-9969-6165254D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66B-8C63-4927-8C12-51402B00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1E6-9D06-4E9F-8969-34D8450F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DE7F-8CC0-45DE-A98C-FAA33376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E478-DFB7-476C-BE8F-4D2BA23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8745-72C7-4194-9866-FCEF9E7F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204E-BE54-43C6-9851-72DFB3CA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8632-D001-4AE7-B2DC-AF282054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FC84-569C-4F56-A174-043C4934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683A-2E46-452A-BBD0-76690FF8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57F-E9BD-43A9-BC40-9410D3B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7B2D-4513-4EEE-ADF5-289B23C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DDBF-E068-418C-91A9-0354E3C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5EB4-08B3-42A3-A124-816E879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88C6-76D4-4325-922C-F72158E1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8538-1E68-4390-91AD-C4B001FE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E64-9B87-4E65-92EE-F22F66A9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34D-7FDD-493B-BC5C-974F8C3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CE8-DC40-4FDF-9FE8-C5E23005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9BB-5EEF-4130-B0CC-A2A6C5B3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9D4-B287-4E66-94E8-E1FF7F7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FF1-7D75-44F2-98BA-E3B44EE5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110-B73C-475C-92FD-A56FE75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503F-016E-4F8F-A948-6EF34C6033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4B6D-26DA-4E19-B1BB-771417B797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cd.ie/Library/support/referencing.php" TargetMode="External"/><Relationship Id="rId2" Type="http://schemas.openxmlformats.org/officeDocument/2006/relationships/hyperlink" Target="http://www.cs.qub.ac.uk/emm/10170987/cite2write/" TargetMode="External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81480" y="577800"/>
            <a:ext cx="5334120" cy="3537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1948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000" spc="-1" strike="noStrike">
                <a:solidFill>
                  <a:srgbClr val="000000"/>
                </a:solidFill>
                <a:latin typeface="Arial"/>
              </a:rPr>
              <a:t>Essay Writing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32240" y="3657600"/>
            <a:ext cx="439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r. Mark Matth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4320" y="304812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the contribution of nursing models to the development 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y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urs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y themes &amp;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vantages &amp; Disadvantages of us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Key Message: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are well-identified weaknesses with the dominant Nursing model that are overcome by using the new Vygotsky mo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72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the contribution of nursing models to the development of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Arial"/>
              </a:rPr>
              <a:t>Outlining – Level 1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560" y="1989000"/>
            <a:ext cx="6019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. Nursing an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. History of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. The Markov Model: Strengths &amp;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4. An alternative: Vygot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. 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Arial"/>
              </a:rPr>
              <a:t>Outlining – Level 2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6560" y="836640"/>
            <a:ext cx="83534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ursing an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.1 Brief history of Nursing 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.2 The purpose of 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. History of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.1 The firs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.2 Development and tim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 The Markov Model: Strengths &amp;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1 What is th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2 Str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.3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. An alternative: Vygot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.1 What is Vygotsk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.2 How overcomes w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. Conclu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29400" y="4419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6560" y="836640"/>
            <a:ext cx="8353440" cy="74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Nursing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.1 Brief history of Nursing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egan formally 1790 (Nighting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argely disorgan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Original mission to heal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.2 The purpose of a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Because of disorganisation,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rgument for a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2. History of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2.1 The firs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Johnson 18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2.2 Development and time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 The Markov Model: Strengths &amp;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1 What is th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ulti-te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2 Streng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3.3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4. An alternative: Vygots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4.1 What is Vygotsky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4.2 How overcomes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5. Conclu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Arial"/>
              </a:rPr>
              <a:t>Outlining – Le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36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tle: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Hazards of Movie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oductory stat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is statement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 like watching movies but I prefer watching them at hom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rst Supporting Idea (Topic Sentence)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just getting to the theater presents difficult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ad weath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long drive and limited parking sp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long waiting to buy tick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cond Supporting Idea (Topic Sentence)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acing the problems of the theater itsel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old theater's problems such as smelly carpet, worn-out seat, et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ew theater's problems such as smaller size, noise from next movie theater, et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oth floors will be rubber-like dirty at the end of the movi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ird Supporting Idea (Topic Sentence)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ome of the patrons are annoy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ad behavior such as running, talking loud, et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uman noise and disturb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osing stat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tate thesis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 prefer to watch movies at home where it is comfortable, clean and saf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ccff"/>
                </a:solidFill>
                <a:latin typeface="Arial"/>
              </a:rPr>
              <a:t>Introduction Outline (5 mi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 Good health v. im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O’s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car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d with countries able to pay for th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This repor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an be done to change health systems to achieve universal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s on new research and countrie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28480" y="286920"/>
            <a:ext cx="84362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world health report - Health systems financing: the path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al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health is essential to human welfare and to sustained 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cial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's Member States have set themselves the target of developing their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ncing systems to ensure that all people can use health services, while be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ected against financial hardship associated with paying for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report, the World Health Organization maps out what countries can do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their financing systems so they can move more quickly towards this go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builds on new research and lessons learnt from 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n from Executive Summary to WHO repor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who.int/whr/2010/en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28480" y="444600"/>
            <a:ext cx="843624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world health report - Health systems financing: the path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al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health is essential to human welfare and to sustained 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cial development. WHO's Member States have set themselves the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developing their health financing systems to ensure that all people can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 services, while being protected against financial hardship associated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ying for them. In this report, the World Health Organization maps out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 can do to modify their financing systems so they can move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ickly towards this goal; it builds on new research and lessons learn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experi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n from Executive Summary to WHO repor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who.int/whr/2010/en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&amp; Rese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evidence in as wit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 relevant to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good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 content according to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 and reflect 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ccff"/>
                </a:solidFill>
                <a:latin typeface="Arial"/>
              </a:rPr>
              <a:t>Discussion (5 mi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go about completing an assig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n do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get from the question 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mpleted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 Thing you would like help with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riting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dea or section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thing d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irst, rough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&amp; improve dr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draf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ject 1024" descr=""/>
          <p:cNvPicPr/>
          <p:nvPr/>
        </p:nvPicPr>
        <p:blipFill>
          <a:blip r:embed="rId1"/>
          <a:stretch/>
        </p:blipFill>
        <p:spPr>
          <a:xfrm>
            <a:off x="6324480" y="228600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 your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ur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wareness of complex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line of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guidi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onclusions - based on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sources of information &amp;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 can locate for further information if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breadth of reading &amp;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3635280" y="4797360"/>
            <a:ext cx="2146320" cy="144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8912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/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Plagi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someone’s words or ideas and presenting them as your own (Marshall &amp; Rowland, 19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appropriate use of ideas from books, articles, internet, or other students’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43000" y="48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arvard referenc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nd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brary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www.tcd.ie/Library/support/referencing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te2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cs.qub.ac.uk/emm/10170987/cite2wr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mark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ing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ing an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ng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languag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learn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0800" y="126828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up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1341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m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4920" y="1628640"/>
            <a:ext cx="4356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ail q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student.learning@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hone u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01-89614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Stages/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Diagram 4"/>
          <p:cNvGrpSpPr/>
          <p:nvPr/>
        </p:nvGrpSpPr>
        <p:grpSpPr>
          <a:xfrm>
            <a:off x="4838760" y="2249640"/>
            <a:ext cx="3965400" cy="3433320"/>
            <a:chOff x="4838760" y="2249640"/>
            <a:chExt cx="3965400" cy="3433320"/>
          </a:xfrm>
        </p:grpSpPr>
        <p:sp>
          <p:nvSpPr>
            <p:cNvPr id="98" name="_s1028"/>
            <p:cNvSpPr/>
            <p:nvPr/>
          </p:nvSpPr>
          <p:spPr>
            <a:xfrm>
              <a:off x="5611680" y="2249640"/>
              <a:ext cx="2419560" cy="2419200"/>
            </a:xfrm>
            <a:custGeom>
              <a:avLst/>
              <a:gdLst>
                <a:gd name="textAreaLeft" fmla="*/ 0 w 2419560"/>
                <a:gd name="textAreaRight" fmla="*/ 2419920 w 2419560"/>
                <a:gd name="textAreaTop" fmla="*/ 0 h 2419200"/>
                <a:gd name="textAreaBottom" fmla="*/ 2419200 h 24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1029"/>
            <p:cNvSpPr/>
            <p:nvPr/>
          </p:nvSpPr>
          <p:spPr>
            <a:xfrm rot="7200000">
              <a:off x="5942160" y="2820600"/>
              <a:ext cx="2419200" cy="241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030"/>
            <p:cNvSpPr/>
            <p:nvPr/>
          </p:nvSpPr>
          <p:spPr>
            <a:xfrm rot="14400000">
              <a:off x="5281560" y="282060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031"/>
            <p:cNvSpPr/>
            <p:nvPr/>
          </p:nvSpPr>
          <p:spPr>
            <a:xfrm>
              <a:off x="7483320" y="2690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Times New Roman"/>
                </a:rPr>
                <a:t>Th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>
              <a:off x="6335640" y="468000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5186520" y="2690640"/>
              <a:ext cx="97128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08000" y="3068640"/>
            <a:ext cx="9167760" cy="6130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the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, W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tim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765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333333"/>
                </a:solidFill>
                <a:latin typeface="Times New Roman"/>
              </a:rPr>
              <a:t>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0146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333333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1577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333333"/>
                </a:solidFill>
                <a:latin typeface="Times New Roman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00360" y="44280"/>
            <a:ext cx="1127160" cy="1920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96000" y="0"/>
            <a:ext cx="216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Organ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Key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27280" y="245268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84360" y="5668920"/>
            <a:ext cx="2158920" cy="1432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2527200"/>
            <a:ext cx="216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What do you want to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5056200"/>
            <a:ext cx="273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333333"/>
                </a:solidFill>
                <a:latin typeface="Times New Roman"/>
              </a:rPr>
              <a:t>you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mind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throughou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8" descr=""/>
          <p:cNvPicPr/>
          <p:nvPr/>
        </p:nvPicPr>
        <p:blipFill>
          <a:blip r:embed="rId1"/>
          <a:stretch/>
        </p:blipFill>
        <p:spPr>
          <a:xfrm>
            <a:off x="6781680" y="182880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119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Wh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re your reader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Why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re they read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hat is your </a:t>
            </a:r>
            <a:r>
              <a:rPr b="0" lang="en-IE" sz="3600" spc="-1" strike="noStrike">
                <a:solidFill>
                  <a:srgbClr val="cc0000"/>
                </a:solidFill>
                <a:latin typeface="Arial"/>
              </a:rPr>
              <a:t>goal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of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,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ma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5435640" y="1828800"/>
            <a:ext cx="2925720" cy="5029200"/>
            <a:chOff x="5435640" y="1828800"/>
            <a:chExt cx="2925720" cy="5029200"/>
          </a:xfrm>
        </p:grpSpPr>
        <p:sp>
          <p:nvSpPr>
            <p:cNvPr id="133" name="AutoShape 5"/>
            <p:cNvSpPr/>
            <p:nvPr/>
          </p:nvSpPr>
          <p:spPr>
            <a:xfrm>
              <a:off x="5435640" y="1828800"/>
              <a:ext cx="292572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121080" y="3200400"/>
              <a:ext cx="114264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6007320" y="5029200"/>
              <a:ext cx="1370880" cy="125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 flipV="1">
              <a:off x="6007320" y="1942920"/>
              <a:ext cx="1398960" cy="125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340000" y="1268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0:31:15Z</dcterms:created>
  <dc:creator>General Paints Celbridge</dc:creator>
  <dc:description/>
  <dc:language>en-US</dc:language>
  <cp:lastModifiedBy>MarkM</cp:lastModifiedBy>
  <dcterms:modified xsi:type="dcterms:W3CDTF">2011-11-02T15:38:17Z</dcterms:modified>
  <cp:revision>38</cp:revision>
  <dc:subject/>
  <dc:title>Essay Writing</dc:title>
</cp:coreProperties>
</file>