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105-BDAA-4FEC-95D3-AC5F81A79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www.tcd.ie/Library/support/subjects/nursing-midwifery/Harvard%20Ref%20System%202009-2010.pdf" TargetMode="External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cus on writing process instead of pro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ook at the phases of wri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xplore strategies for starting writing ear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nderstand the importance of structure to an academic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Review examp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earn about some useful writing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other ways to revise, ask friends, tutors etc. what they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tcd.ie/Library/support/subjects/nursing-midwifery/Harvard%20Ref%20System%202009-2010.pdf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Harvard system is a simple method of quoting references in which names and dates are given in the body of the text and alphabetically listed at the end of the essay / assignment / project. Footnotes may not be used as they are not in keeping with the Harvard referencing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A46-B969-4CD7-A81D-BDD31520B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nline essay writing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ssignment Tool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Video on essay writing w/Alan Tuff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6D6-4D02-42E5-B337-A70B0D67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897-C026-4FA1-B9F0-CF7974B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547-2896-42A9-9D3F-4A943D56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6FF-6183-4D29-B1F0-9D1044F4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81F-268B-4E65-A476-CB60AFD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1591-5E23-4F6C-A7D8-BDC1344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18B9-16FD-4C53-8E21-A569D38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606D-3584-4019-8884-A467E39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FF8-1515-4004-9A41-FE8939D8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4B65-3710-42DD-9775-5654F7A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9BCA-64F8-451A-847B-CE93FF2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B80-4430-4621-9243-7C5C2BE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6B84-DC94-4E8E-84AD-3AF8B7E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07A9-DAC6-41E5-9F0D-A7244B0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00E4-51B4-4BA5-AA97-D98DB7D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7EF-458D-4296-9591-B8CE2D38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0917-8D97-419C-9BF3-076ABAA0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77C-DE52-46DA-8DB5-5395046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8EA-6248-4094-B8C9-0B6072E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270-19CF-4FA7-A851-791F46B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DEF-1ECA-438D-B583-8B60A4C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697-3B28-4122-917F-0CB2F1E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2ED-BF34-4207-9ABA-C1F5C42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45D-D590-48A1-A811-9C4BE1E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BB53-0D1D-4B7B-9C2A-5EED66D00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B21-669B-49DA-AA7F-479F33FCBB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cd.ie/Library/support/referencing.php" TargetMode="External"/><Relationship Id="rId2" Type="http://schemas.openxmlformats.org/officeDocument/2006/relationships/hyperlink" Target="http://www.cs.qub.ac.uk/emm/10170987/cite2write/" TargetMode="External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1480" y="577800"/>
            <a:ext cx="5334120" cy="3537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948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000" spc="-1" strike="noStrike">
                <a:solidFill>
                  <a:srgbClr val="000000"/>
                </a:solidFill>
                <a:latin typeface="Arial"/>
              </a:rPr>
              <a:t>Essay Writing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32240" y="3657600"/>
            <a:ext cx="43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4320" y="304812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the contribution of nursing models to the development 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urs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themes &amp;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vantages &amp; Disadvantages of us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Key Message: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are well-identified weaknesses with the dominant Nursing model that are overcome by using the new Vygotsky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the contribution of nursing models to the development of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1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560" y="1989000"/>
            <a:ext cx="60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. Nursing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2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6560" y="836640"/>
            <a:ext cx="83534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rsing an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.1 Brief history of Nursing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.2 The purpose of 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1 The firs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2 Development and tim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1 What is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2 Str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3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1 What is Vygotsk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2 How overcomes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940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6560" y="836640"/>
            <a:ext cx="8353440" cy="74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Nursing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.1 Brief history of Nursing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egan formally 1790 (Nighting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argely disorgan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riginal mission to heal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.2 The purpose of 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ecause of disorganisation,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rgument for a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1 The firs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Johnson 1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2 Development and time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1 What is th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ulti-te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2 Streng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3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1 What is Vygotsky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2 How overcomes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36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Hazards of Movie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oductory 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is statement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 like watching movies but I prefer watching them at hom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st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just getting to the theater presents difficu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d weath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long drive and limited parking sp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long waiting to buy tick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cond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acing the problems of the theater itsel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ld theater's problems such as smelly carpet, worn-out seat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ew theater's problems such as smaller size, noise from next movie theater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oth floors will be rubber-like dirty at the end of the movi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ird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ome of the patrons are annoy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d behavior such as running, talking loud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uman noise and disturb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osing 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tate thesis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 prefer to watch movies at home where it is comfortable, clean and saf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ccff"/>
                </a:solidFill>
                <a:latin typeface="Arial"/>
              </a:rPr>
              <a:t>Introduction Outline (5 mi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 Good health v. im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O’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car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d with countries able to pay for th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This repor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be done to change health systems to achieve universal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s on new research and countrie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28480" y="286920"/>
            <a:ext cx="84362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orld health report - Health systems financing: the path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health is essential to human welfare and to sustained 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cial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's Member States have set themselves the target of developing their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ncing systems to ensure that all people can use health services, while be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ected against financial hardship associated with paying for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report, the World Health Organization maps out what countries can do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their financing systems so they can move more quickly towards this go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builds on new research and lessons learnt from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n from Executive Summary to WHO repor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who.int/whr/2010/en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28480" y="444600"/>
            <a:ext cx="84362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orld health report - Health systems financing: the path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health is essential to human welfare and to sustained 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cial development. WHO's Member States have set themselves the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developing their health financing systems to ensure that all people can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 services, while being protected against financial hardship associate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ing for them. In this report, the World Health Organization maps out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 can do to modify their financing systems so they can move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ickly towards this goal; it builds on new research and lessons learn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n from Executive Summary to WHO repor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who.int/whr/2010/en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&amp; Re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evidence in as wit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 relevant to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ood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 content according to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 and reflect 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ccff"/>
                </a:solidFill>
                <a:latin typeface="Arial"/>
              </a:rPr>
              <a:t>Discussion (5 mi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go about completing an assig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n do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get from the question 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mpleted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 Thing you would like help with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riting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dea or section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thing d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irst, rough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&amp; improve dr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raf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ject 1024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 your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ur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wareness of complex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line of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guidi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onclusions - based on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sources of information &amp;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 can locate for further information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breadth of reading &amp;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3635280" y="4797360"/>
            <a:ext cx="214632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8912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/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someone’s words or ideas and presenting them as your own (Marshall &amp; Rowland, 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appropriate use of ideas from books, articles, internet, or other student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43000" y="48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arvard referenc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nd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brary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www.tcd.ie/Library/support/referencing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te2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cs.qub.ac.uk/emm/10170987/cite2wr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mark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ing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ing an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ng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languag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earn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0800" y="126828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up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m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4920" y="1628640"/>
            <a:ext cx="4356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 q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student.learning@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hone u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01-89614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Stages/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Diagram 4"/>
          <p:cNvGrpSpPr/>
          <p:nvPr/>
        </p:nvGrpSpPr>
        <p:grpSpPr>
          <a:xfrm>
            <a:off x="4838760" y="2249640"/>
            <a:ext cx="3965400" cy="3433320"/>
            <a:chOff x="4838760" y="2249640"/>
            <a:chExt cx="3965400" cy="3433320"/>
          </a:xfrm>
        </p:grpSpPr>
        <p:sp>
          <p:nvSpPr>
            <p:cNvPr id="98" name="_s1028"/>
            <p:cNvSpPr/>
            <p:nvPr/>
          </p:nvSpPr>
          <p:spPr>
            <a:xfrm>
              <a:off x="5611680" y="2249640"/>
              <a:ext cx="2419560" cy="2419200"/>
            </a:xfrm>
            <a:custGeom>
              <a:avLst/>
              <a:gdLst>
                <a:gd name="textAreaLeft" fmla="*/ 0 w 2419560"/>
                <a:gd name="textAreaRight" fmla="*/ 2419920 w 2419560"/>
                <a:gd name="textAreaTop" fmla="*/ 0 h 2419200"/>
                <a:gd name="textAreaBottom" fmla="*/ 2419200 h 24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1029"/>
            <p:cNvSpPr/>
            <p:nvPr/>
          </p:nvSpPr>
          <p:spPr>
            <a:xfrm rot="7200000">
              <a:off x="5942160" y="2820600"/>
              <a:ext cx="2419200" cy="241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030"/>
            <p:cNvSpPr/>
            <p:nvPr/>
          </p:nvSpPr>
          <p:spPr>
            <a:xfrm rot="14400000">
              <a:off x="5281560" y="282060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>
              <a:off x="7483320" y="2690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Th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6335640" y="468000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5186520" y="2690640"/>
              <a:ext cx="9712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08000" y="3068640"/>
            <a:ext cx="9167760" cy="6130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he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, W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im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76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0146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1577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00360" y="44280"/>
            <a:ext cx="1127160" cy="192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96000" y="0"/>
            <a:ext cx="216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Organ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Key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27280" y="245268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84360" y="5668920"/>
            <a:ext cx="2158920" cy="1432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2527200"/>
            <a:ext cx="216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What do you want to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5056200"/>
            <a:ext cx="27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you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mind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throughou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8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Wh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re your reade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re they read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hat is your </a:t>
            </a:r>
            <a:r>
              <a:rPr b="0" lang="en-IE" sz="36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of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,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ma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5435640" y="1828800"/>
            <a:ext cx="2925720" cy="5029200"/>
            <a:chOff x="5435640" y="1828800"/>
            <a:chExt cx="2925720" cy="5029200"/>
          </a:xfrm>
        </p:grpSpPr>
        <p:sp>
          <p:nvSpPr>
            <p:cNvPr id="133" name="AutoShape 5"/>
            <p:cNvSpPr/>
            <p:nvPr/>
          </p:nvSpPr>
          <p:spPr>
            <a:xfrm>
              <a:off x="5435640" y="1828800"/>
              <a:ext cx="292572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121080" y="3200400"/>
              <a:ext cx="114264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007320" y="5029200"/>
              <a:ext cx="137088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 flipV="1">
              <a:off x="6007320" y="1942920"/>
              <a:ext cx="139896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0:31:15Z</dcterms:created>
  <dc:creator>General Paints Celbridge</dc:creator>
  <dc:description/>
  <dc:language>en-US</dc:language>
  <cp:lastModifiedBy>MarkM</cp:lastModifiedBy>
  <dcterms:modified xsi:type="dcterms:W3CDTF">2011-11-02T15:38:17Z</dcterms:modified>
  <cp:revision>38</cp:revision>
  <dc:subject/>
  <dc:title>Essay Writing</dc:title>
</cp:coreProperties>
</file>