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57CD-D148-48C0-B4E5-565DEAF2C6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If an idea for a future question </a:t>
            </a:r>
            <a:r>
              <a:rPr b="0" lang="en-IE" sz="1200" spc="-1" strike="noStrike">
                <a:solidFill>
                  <a:srgbClr val="ff0000"/>
                </a:solidFill>
                <a:latin typeface="Times New Roman"/>
              </a:rPr>
              <a:t>“pops into your head”</a:t>
            </a: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make some very brief notes so that you don’t loose i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go straight back to the answer you are working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If you have completed an answer and something releva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at you have left out “pops into your head”, go back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dd  the information </a:t>
            </a:r>
            <a:r>
              <a:rPr b="0" lang="en-IE" sz="1200" spc="-1" strike="noStrike">
                <a:solidFill>
                  <a:srgbClr val="ff0000"/>
                </a:solidFill>
                <a:latin typeface="Times New Roman"/>
              </a:rPr>
              <a:t>as dot points</a:t>
            </a: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 at the end of y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nswer. Do not try to fit it in over your original script – ti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nd leg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how much you can write in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Why avo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Sav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Sometimes good for conf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ime wa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bove All the biggest reason for losing marks is poor hand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Poor Handwriting is one of the biggest reasons for losing 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Hea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Clea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Clea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subject-specific hea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ick to your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w how much you can write in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y why the issues raised by the question are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Biggest Reason for Losing 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e key to both intellectual and emotional preparation for exams is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e closer a simulation is to the actual event, the more likely it is that preparation will be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Bring the exam hall into your study 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ole play doing the exa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ake your study space into the exam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onstruct the 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tate the question in your ow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 and use the key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w that you know what the point of the question is by defining the key words/concepts/theories/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y how you are going to answer the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imed brainstor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imed wri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imed brainstor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imed wri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48A7-CBA5-44DF-995D-41D9A591B2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059A-D892-4762-889C-EB8CAF5175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AFA-5CD7-490A-B63F-DBA8529C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B29-A8AC-4A1F-90F9-739B9483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252D-B0DF-439B-AEA1-2DAC06E4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069-E825-4422-A987-DD8C7269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E86A-F270-4380-9433-DF69DA43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0DA0-FC80-429D-94F9-CCE34F02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2433-D563-4357-A895-E477A671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436F-E088-4E28-B8F4-F5DEFE48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12F7-02BC-461A-8B03-0B893901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62C2-8D47-4934-9931-5EC41641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0942-5907-4458-95E6-E3B82FEF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AAC-4478-4893-98BE-97A80F16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8B44-C94A-48A8-A340-E6F9891C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43D3-3A46-402F-8584-98B8B005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B9E8-42EB-4ABC-8F10-12D87C99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71F2-D0DA-4BB5-B40E-C9E4D2F4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ED78-724A-4597-A0F8-5A55E85E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398-965D-44A2-BD12-5450BFC5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6E8-06D6-4F84-94DC-A76BC483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DCB-22DB-4371-9A2C-BB7F632D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58B-CEE4-4B27-96D4-8657CBA8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882-BBDD-41B3-BD5E-3C6E3027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209B-382A-4F41-926A-A70A33A9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39E-8C0A-4186-A2C3-101BD5BD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8F04-EC22-4CA7-9854-CB84CBFB22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5990-04C3-45BB-9A79-B389D3F3E6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cd.ie/Student_Counselling/student-learning/workshops/exam_revision/player.html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671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836640"/>
            <a:ext cx="489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Gill Sans Ultra Bold"/>
              </a:rPr>
              <a:t>Last Min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Gill Sans Ultra Bold"/>
              </a:rPr>
              <a:t>Exa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Gill Sans Ultra Bold"/>
              </a:rPr>
              <a:t>Prepa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64000" y="4292640"/>
            <a:ext cx="4114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r. Mark Matth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29f33"/>
                </a:solidFill>
                <a:latin typeface="Verdana"/>
              </a:rPr>
              <a:t>Unbalanced Answers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69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imum gains for time ar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ly stages of your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 your time in ad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hearse producing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in tim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Equal Time for Equal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48320" y="1600200"/>
          <a:ext cx="4038480" cy="480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600200"/>
                    <a:ext cx="40384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189000"/>
            <a:ext cx="82296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Equal time for equal marks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eave time at beginning (to plan) and end (to check)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55640" y="5013360"/>
            <a:ext cx="995400" cy="801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059280" y="5157720"/>
            <a:ext cx="995040" cy="801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932360" y="5157720"/>
            <a:ext cx="995400" cy="801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877080" y="5157720"/>
            <a:ext cx="995400" cy="801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56000" y="3357720"/>
            <a:ext cx="1726920" cy="1296720"/>
          </a:xfrm>
          <a:prstGeom prst="wedgeRoundRectCallout">
            <a:avLst>
              <a:gd name="adj1" fmla="val -16453"/>
              <a:gd name="adj2" fmla="val 7778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40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2708280"/>
            <a:ext cx="1800000" cy="2016000"/>
          </a:xfrm>
          <a:prstGeom prst="wedgeEllipseCallout">
            <a:avLst>
              <a:gd name="adj1" fmla="val 2045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40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20000" y="2781360"/>
            <a:ext cx="1800000" cy="2016000"/>
          </a:xfrm>
          <a:prstGeom prst="wedgeRectCallout">
            <a:avLst>
              <a:gd name="adj1" fmla="val 16314"/>
              <a:gd name="adj2" fmla="val 72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40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357720"/>
            <a:ext cx="2087280" cy="1150920"/>
          </a:xfrm>
          <a:prstGeom prst="wedgeEllipseCallout">
            <a:avLst>
              <a:gd name="adj1" fmla="val -2118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40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ver-complic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What is meant by each of the follow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mining terms?  In each case, includ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simple example to illustrate your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ff0000"/>
                </a:solidFill>
                <a:latin typeface="Arial"/>
              </a:rPr>
              <a:t>Decision tre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Cluste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Accura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Cover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(8 Mar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vercomplic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Decision trees are used in data mining as a way of progressiv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breaking down data into groups.  As this happens, the number in e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classification may be noted.  A customer database may break down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70% male, 30% female.  The males may be divided into those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spend over €1,000 a year with us (90%) and those that do not (10%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same subdivision for female shows that only 2% of females sp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ver €1,000 with us.  The high spending males break-down into 77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der 30 and 23% over 30 years of age.  When females are divi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o high and low spending, it might be found that 80% of high spen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re repeat customers and 20% are not.  Low spending females, o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ther hand, might be 90% non repeating customers.  A parallel 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f high spending male customers might show tha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add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breakdown structures are important.  They are used in all projects including civil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chanical and electrical engineering projects as well as software projects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eakdown structures decompose the work to be done in a project into successive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maller components.  The result is a hierarchical structure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This is usually done by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manager, but may be done by sub managers or engineers.  Being able to prep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work breakdown is an important project management skill and needs experienc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ist engineers may be required to complete a WBS where specialised work 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olved.   The work breakdown structure enables the project manager to estimate m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urately and later on helps in controlling the project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 typical breakdown may st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ith a project being divided into phases, stages, activities and tasks.  The lowest level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breakdown is usually a task though occasionally task may be further subdivided i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b-task or even steps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umber of  tasks in a project can be very large.  The absence of a 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down structure can cause problems in a project as it may not be possible to estimate accurate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assign work effectively.  If the work breakdown structure is not complete in some way, the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is almost certain to overrun.  One project manager was quoted as saying that a good 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down structure is of ‘monumental importance’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 proper work breakdown structure is normal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ded with a simple numeric coding system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The work breakdown structure may also be reflected in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tt chart.  A Gantt chart is a sort of horizontal bar chart used for showing the timing and dur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various stages of a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200" y="1628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hat is meant by a work breakdown structure?  Illustrate your answer with an example.     </a:t>
            </a: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(6 mark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Unnecessary conten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aking a long time to get to </a:t>
            </a: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th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r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Present what you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Ad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Get to th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10188360" cy="6897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47640" y="620640"/>
            <a:ext cx="338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Think about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exam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46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Writ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ot the same level a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eep your writing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hort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ew sub-cl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actice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void unsupported value ju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- “World War II was really importan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7850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629f33"/>
                </a:solidFill>
                <a:latin typeface="Verdana"/>
              </a:rPr>
              <a:t>Not Answering the Question</a:t>
            </a:r>
            <a:endParaRPr b="0" lang="en-US" sz="21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798984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ng that you understand the question is the first step in producing an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you structure your answer is as important as what you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s not necessarily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020000" y="981000"/>
            <a:ext cx="2160360" cy="1735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920" y="3789360"/>
            <a:ext cx="2664000" cy="1824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V="1">
            <a:off x="2627280" y="2204640"/>
            <a:ext cx="453708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First of All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777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what is being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s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nswer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nclud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rrelev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orm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your answers ar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swering previous exam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imu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am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63640" y="184464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Gill Sans Ultra Bold"/>
              </a:rPr>
              <a:t>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 rot="945000">
            <a:off x="755280" y="981000"/>
            <a:ext cx="2703600" cy="4005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9280" y="580536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uld you sit your driving test without ever driving a car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53737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ractice makes perfec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020000" y="981000"/>
            <a:ext cx="2160360" cy="1735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4920" y="3789360"/>
            <a:ext cx="2664000" cy="1824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2627280" y="2204640"/>
            <a:ext cx="453708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92960" cy="4800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594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Outputs of Revis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A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d-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udio (podcasts, your voice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nything e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29f33"/>
                </a:solidFill>
                <a:latin typeface="Verdana"/>
              </a:rPr>
              <a:t>Conditional Reflex</a:t>
            </a:r>
            <a:endParaRPr b="0" lang="en-US" sz="21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9288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Arial"/>
              </a:rPr>
              <a:t>Develop Your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onstruct the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tate the question in your own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and use the ke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that you know what the point of the question is by defining the key words/concepts/theories/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y how you are going to answer th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7184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5605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Develop your techniqu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construct the question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o quick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ough notes under hea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n begin to write your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actice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Steps to Practic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t sample exam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actice your start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actice analysing questions (5 m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actice generating ideas (5 m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actice developing a structure (5 m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actice writing Introduction (5 m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actice past exam questions (timed and un tim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rk your own answers as critically as possi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Exam Prepar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with the Exam – What do I need to know to do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 your Revision: What questions am I going to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ke Notes: Revision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actice Recall: Check what you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actise Questions: Exam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Exam Prepar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with the Exam – What do I need to know to do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 your Revision: What questions am I going to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ke Notes: Revision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actice Recall: Check what you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actise Questions: Exam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Upcoming Workshop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anaging Exam N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ursday, August 24th, 1 - 2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Exam Revision Workshop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74" name="Picture 4" descr="exam_worksho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593720"/>
            <a:ext cx="7667640" cy="500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Arial"/>
              </a:rPr>
              <a:t>Student Learning Development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4920" y="1628640"/>
            <a:ext cx="4356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ank you for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isit our website at: </a:t>
            </a: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http://student-learning.tcd.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202280" y="1989000"/>
            <a:ext cx="4941720" cy="4111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Doing Well in Exams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	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Gr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Reasons for losing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n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6165720"/>
            <a:ext cx="66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43280" y="5229360"/>
            <a:ext cx="604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our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Exam Stress Guide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, SU &amp; Student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How to Do Badly in Examinations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, Dr. Frank Bannis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63640" y="184464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Gill Sans Ultra Bold"/>
              </a:rPr>
              <a:t>Gr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Grad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809880" cy="2095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1628640"/>
            <a:ext cx="50770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orough, deep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ritical thinking, insight, crea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ell wri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arly all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II.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ood grasp of su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ritical &amp; Analytical thi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ogical Clear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arly all key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Grad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809880" cy="2095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1628640"/>
            <a:ext cx="5077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II.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olid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Knowledge beyond l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ood on 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riting good, some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Knowledge Facts, but little ins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arrow/ No critical thou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oorly written / incohe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ittle Factual Content &amp;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63640" y="1844640"/>
            <a:ext cx="489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2060640"/>
            <a:ext cx="4896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Gill Sans Ultra Bold"/>
              </a:rPr>
              <a:t>Where mark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Gill Sans Ultra Bold"/>
              </a:rPr>
              <a:t>are l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Time Wast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riting out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riting out 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ointless Defin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1:20:50Z</dcterms:created>
  <dc:creator>TCD Accouint</dc:creator>
  <dc:description/>
  <dc:language>en-US</dc:language>
  <cp:lastModifiedBy>MarkM</cp:lastModifiedBy>
  <dcterms:modified xsi:type="dcterms:W3CDTF">2011-11-11T10:55:20Z</dcterms:modified>
  <cp:revision>97</cp:revision>
  <dc:subject/>
  <dc:title>Preparation for your Personal Best</dc:title>
</cp:coreProperties>
</file>