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DD3-0355-459E-A0D7-0A67163908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an idea for a future question </a:t>
            </a:r>
            <a:r>
              <a:rPr b="0" lang="en-IE" sz="1200" spc="-1" strike="noStrike">
                <a:solidFill>
                  <a:srgbClr val="ff0000"/>
                </a:solidFill>
                <a:latin typeface="Times New Roman"/>
              </a:rPr>
              <a:t>“pops into your head”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make some very brief notes so that you don’t loose i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go straight back to the answer you are working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If you have completed an answer and something relev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at you have left out “pops into your head”, go back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dd  the information </a:t>
            </a:r>
            <a:r>
              <a:rPr b="0" lang="en-IE" sz="1200" spc="-1" strike="noStrike">
                <a:solidFill>
                  <a:srgbClr val="ff0000"/>
                </a:solidFill>
                <a:latin typeface="Times New Roman"/>
              </a:rPr>
              <a:t>as dot points</a:t>
            </a: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 at the end of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nswer. Do not try to fit it in over your original script –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nd leg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how much you can write in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Why avo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av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ometimes good for conf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ime w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bove All the biggest reason for losing marks is poor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oor Handwriting is one of the biggest reasons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He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Clea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Clea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subject-specific he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ick to your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w how much you can write in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why the issues raised by the question are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iggest Reason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key to both intellectual and emotional preparation for exams is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e closer a simulation is to the actual event, the more likely it is that preparation will be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Bring the exam hall into your study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ole play doing the ex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ake your study space into the exam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nstruct the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tate the question in your ow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and use the key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 that you know what the point of the question is by defining the key words/concepts/theories/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y how you are going to answer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brainsto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brainsto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im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574-D535-41AC-B79E-B376678FF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FF9-5299-4B98-A979-92F13C7E8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AFD-DBC6-48EF-B934-639B1253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418-6220-426C-A926-FC3C30E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716-E988-49C4-BC16-4D706255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ECD-77C4-4D3A-8C3E-F8151641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A28-BF30-4731-BC36-8EEC168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2AD8-26DF-4F8F-832C-47E7901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5267-40DD-4ED4-AE98-1917FD8F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A3C-F50A-454B-84DE-910638C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B4DD-AFC2-40C8-AC83-BA00013D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005-31F8-4E5F-A5AE-A682E775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7F9-2F0D-437B-8E03-5565EFD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C74-01C6-4D8D-BDE6-9A96457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585-4FE6-4195-ACA9-C8D24C9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048-CD71-4DD6-855F-0E719D1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825E-EEAF-48C0-A61C-079EE155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FA2C-2CE2-4355-AA13-C52DCCCC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47A-6EF7-4303-9D67-9D20FF71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FE2-9948-4990-AA8A-59551E9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EDA-B7FF-4399-BAD5-F40A6C3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9CD-3EBF-459E-ACB2-A3E7CFC4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098-5E71-40A7-BD8D-D7147DF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88C-F1EF-4545-85A4-FF31F7B2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63C-FBF5-4734-98C1-79FD624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621-5296-4CFD-A156-28ECEAA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4937-44D1-4E0D-BB48-38F3B7E48C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1D07-753A-4710-AFDA-3E33FD14A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Student_Counselling/student-learning/workshops/exam_revision/player.htm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836640"/>
            <a:ext cx="48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Gill Sans Ultra Bold"/>
              </a:rPr>
              <a:t>Last Min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Ex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Pr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64000" y="4292640"/>
            <a:ext cx="4114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29f33"/>
                </a:solidFill>
                <a:latin typeface="Verdana"/>
              </a:rPr>
              <a:t>Unbalanced Answer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6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gains for time ar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ly stages of your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your time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hearse producing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in tim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qual Time for Equal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48320" y="1600200"/>
          <a:ext cx="403848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629f33"/>
                </a:solidFill>
                <a:latin typeface="Arial"/>
              </a:rPr>
              <a:t>Equal time for equal marks</a:t>
            </a:r>
            <a:endParaRPr b="0" lang="en-US" sz="32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ve time at beginning (to plan) and end (to check)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5640" y="501336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995040" cy="80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932360" y="5157720"/>
            <a:ext cx="995400" cy="801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99540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56000" y="3357720"/>
            <a:ext cx="1726920" cy="1296720"/>
          </a:xfrm>
          <a:prstGeom prst="wedgeRoundRectCallout">
            <a:avLst>
              <a:gd name="adj1" fmla="val -16453"/>
              <a:gd name="adj2" fmla="val 77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708280"/>
            <a:ext cx="1800000" cy="2016000"/>
          </a:xfrm>
          <a:prstGeom prst="wedgeEllipseCallout">
            <a:avLst>
              <a:gd name="adj1" fmla="val 2045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781360"/>
            <a:ext cx="1800000" cy="2016000"/>
          </a:xfrm>
          <a:prstGeom prst="wedgeRectCallout">
            <a:avLst>
              <a:gd name="adj1" fmla="val 16314"/>
              <a:gd name="adj2" fmla="val 72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357720"/>
            <a:ext cx="2087280" cy="1150920"/>
          </a:xfrm>
          <a:prstGeom prst="wedgeEllipseCallout">
            <a:avLst>
              <a:gd name="adj1" fmla="val -2118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4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-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at is meant by each of the follow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mining terms?  In each case, includ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simple example to illustrate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ff0000"/>
                </a:solidFill>
                <a:latin typeface="Arial"/>
              </a:rPr>
              <a:t>Decision tre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lust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Accura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over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(8 Ma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Decision trees are used in data mining as a way of progress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breaking down data into groups.  As this happens, the number in e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classification may be noted.  A customer database may break dow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70% male, 30% female.  The males may be divided into those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spend over €1,000 a year with us (90%) and those that do not (10%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ame subdivision for female shows that only 2% of females sp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ver €1,000 with us.  The high spending males break-down into 7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er 30 and 23% over 30 years of age.  When females are div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o high and low spending, it might be found that 80% of high sp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repeat customers and 20% are not.  Low spending females,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hand, might be 90% non repeating customers.  A parallel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f high spending male customers might show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ad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breakdown structures are important.  They are used in all projects including civi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 and electrical engineering projects as well as software projects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eakdown structures decompose the work to be done in a project into success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er components.  The result is a hierarchical structur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is is usually done by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, but may be done by sub managers or engineers.  Being able to prep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ork breakdown is an important project management skill and needs experien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st engineers may be required to complete a WBS where specialised work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lved.   The work breakdown structure enables the project manager to estimate m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ly and later on helps in controlling the project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typical breakdown may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th a project being divided into phases, stages, activities and tasks.  The lowest leve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breakdown is usually a task though occasionally task may be further subdivided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b-task or even steps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 tasks in a project can be very large.  The absence of a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can cause problems in a project as it may not be possible to estimate accurat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ssign work effectively.  If the work breakdown structure is not complete in some way, t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is almost certain to overrun.  One project manager was quoted as saying that a good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is of ‘monumental importance’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proper work breakdown structure is norm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ded with a simple numeric coding syste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e work breakdown structure may also be reflected in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tt chart.  A Gantt chart is a sort of horizontal bar chart used for showing the timing and dur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arious stages of a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200" y="1628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hat is meant by a work breakdown structure?  Illustrate your answer with an example.     </a:t>
            </a: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(6 mark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necessary cont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king a long time to get to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r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resent what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et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8360" cy="689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47640" y="620640"/>
            <a:ext cx="33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hink about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xa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46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t the same level a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eep your writing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rt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ew sub-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void unsupported value ju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“World War II was really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629f33"/>
                </a:solidFill>
                <a:latin typeface="Verdana"/>
              </a:rPr>
              <a:t>Not Answering the Question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8984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at you understand the question is the first step in producing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you structure your answer is as important as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s not necessarily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2160360" cy="1735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0" y="378936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2627280" y="2204640"/>
            <a:ext cx="4537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First of Al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77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what is be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nswer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rrelev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orm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your answers ar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ing previous exam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mu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 rot="945000">
            <a:off x="755280" y="981000"/>
            <a:ext cx="2703600" cy="4005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5805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uld you sit your driving test without ever driving a car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5373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actice makes perfec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020000" y="981000"/>
            <a:ext cx="2160360" cy="1735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4920" y="3789360"/>
            <a:ext cx="2664000" cy="182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2627280" y="2204640"/>
            <a:ext cx="4537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9296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594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Outputs of Revis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-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udio (podcasts, your voice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29f33"/>
                </a:solidFill>
                <a:latin typeface="Verdana"/>
              </a:rPr>
              <a:t>Conditional Reflex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928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Develop You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nstruct the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ate the question in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and use the 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at you know what the point of the question is by defining the key words/concepts/theories/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y how you are going to answer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718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5605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Develop your techniqu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construct the question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o quick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ough notes under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n begin to write your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ctic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eps to Practi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sample exam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your start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analysing questions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generating ideas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developing a structure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writing Introduction (5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ractice past exam questions (timed and un tim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rk your own answers as critically as possi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 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the Exam – What do I need to know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your Revision: What questions am I going to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Notes: Revision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Recall: Check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se Questions: Exa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 Prepar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the Exam – What do I need to know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your Revision: What questions am I going to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Notes: Revision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Recall: Check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se Questions: Exa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pcoming Worksho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naging Exam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ursday, August 24th, 1 - 2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Exam Revision Workshop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74" name="Picture 4" descr="exam_worksho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593720"/>
            <a:ext cx="766764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oing Well in Exam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easons for losing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n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616572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5229360"/>
            <a:ext cx="60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Exam Stress Guid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SU &amp; Student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How to Do Badly in Examination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Dr. Frank Bann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G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628640"/>
            <a:ext cx="507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orough, deep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thinking, insight, cre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ell 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grasp of 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&amp; Analytical 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gical Clea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key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1628640"/>
            <a:ext cx="507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lid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beyond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on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riting good, som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Facts, but little ins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arrow/ No critical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oorly written / incoh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ttle Factual Content &amp;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1844640"/>
            <a:ext cx="489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2060640"/>
            <a:ext cx="489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Where mark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are l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ime Was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intless 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MarkM</cp:lastModifiedBy>
  <dcterms:modified xsi:type="dcterms:W3CDTF">2011-11-11T10:55:20Z</dcterms:modified>
  <cp:revision>97</cp:revision>
  <dc:subject/>
  <dc:title>Preparation for your Personal Best</dc:title>
</cp:coreProperties>
</file>