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2D85-C938-4DAC-8225-419689BCDD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D603-FE34-421F-9C68-81B0A914FC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545E-0C32-4E5D-AEBF-32B0EF0B3E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6A2F-5476-4640-AE56-C1BE26DE98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2612-01AB-4383-8504-922D786FDD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B8B1-32AE-4C85-BFF6-7ED6171E98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40A4-9066-4EDA-A181-E2BFC353D9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E26F-5A2D-4A9B-B971-D0CEF2AAEA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6B3E-05C3-4F97-960D-D4DC9A19A4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917640" y="744480"/>
            <a:ext cx="4962600" cy="3722760"/>
          </a:xfrm>
          <a:prstGeom prst="rect">
            <a:avLst/>
          </a:prstGeom>
          <a:ln w="0">
            <a:noFill/>
          </a:ln>
        </p:spPr>
      </p:sp>
      <p:sp>
        <p:nvSpPr>
          <p:cNvPr id="35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DA4C-6EB9-4841-850A-269DEC60B8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917640" y="744480"/>
            <a:ext cx="4962600" cy="3722760"/>
          </a:xfrm>
          <a:prstGeom prst="rect">
            <a:avLst/>
          </a:prstGeom>
          <a:ln w="0">
            <a:noFill/>
          </a:ln>
        </p:spPr>
      </p:sp>
      <p:sp>
        <p:nvSpPr>
          <p:cNvPr id="35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84FA-5BA4-45B3-99A4-9BC39DB7AF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917640" y="744480"/>
            <a:ext cx="4962600" cy="3722760"/>
          </a:xfrm>
          <a:prstGeom prst="rect">
            <a:avLst/>
          </a:prstGeom>
          <a:ln w="0">
            <a:noFill/>
          </a:ln>
        </p:spPr>
      </p:sp>
      <p:sp>
        <p:nvSpPr>
          <p:cNvPr id="36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42C8-EAE3-47F5-9CEF-7F47E5ABD5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6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917640" y="744480"/>
            <a:ext cx="4962600" cy="3722760"/>
          </a:xfrm>
          <a:prstGeom prst="rect">
            <a:avLst/>
          </a:prstGeom>
          <a:ln w="0">
            <a:noFill/>
          </a:ln>
        </p:spPr>
      </p:sp>
      <p:sp>
        <p:nvSpPr>
          <p:cNvPr id="37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FFED-EF12-4D82-A5CB-42B13FEDE8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917640" y="744480"/>
            <a:ext cx="4962600" cy="3722760"/>
          </a:xfrm>
          <a:prstGeom prst="rect">
            <a:avLst/>
          </a:prstGeom>
          <a:ln w="0">
            <a:noFill/>
          </a:ln>
        </p:spPr>
      </p:sp>
      <p:sp>
        <p:nvSpPr>
          <p:cNvPr id="26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1FE7-AD66-4685-A98B-C70C97BCBB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7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F071-2635-462B-9395-885DA38D8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8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97CF-0921-4B50-8229-8A49099034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B54F-2E42-4246-ACE0-72D8834E2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9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74CB-2000-4BD2-A639-DEBC1339D7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1B2D-0269-449B-A01E-850CF46E84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0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18B9-CB5A-4330-926A-2DDE608FBA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134-4147-4D7A-B8EA-FCC65C7670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59A6-1DAC-4264-A227-EAAFE4C055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434C-A004-43B8-BE8B-125A47A590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1327-D6D2-410B-A39F-E9539F00B8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7DE4-62DD-4425-935C-B70E280775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terature Re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re than a description of current research/knowledge of a topic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itically evaluate theoretical positions and quality of research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ystematic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re tha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Same level of rigour to reviewing research evidence as used in producing the research evidence” (www.evidence-based-medicine.co.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Find all relevant studies published and unpublished, assess each study, synthesise the findings from individual studies in unbiased way and present balanced and impartial summary of findings with due consideration of any flaws in the evidence.” (www.evidence-based-medicine.co.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scribe the method used to conduct the rigourous sear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A99B-F97C-4335-9B66-0836643BF1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09AF-6434-4122-8E7B-29C12ACC28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DF85-39B6-4C7F-9C31-E4F002B04E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AD6D-60AA-4260-81FB-93B9ABD31C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0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1A8B9-4C02-4786-89A0-DC9A2DC5F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FB78-F403-49F4-B170-567B0CC2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55707-6CD6-40C5-BD6B-904E9C979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797D5-CA70-4460-86ED-FFEC3F9A1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B4D6-5AED-4985-8C61-6197B9905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5823-4BDB-4531-8D42-6CDB1F63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8494-CD7D-464E-A350-A1669DF6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D0508-4A0C-4C83-9842-C2E2A3410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3117-A2E8-445E-9622-C0B453B5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2F49-8197-47A8-941D-2E1689AB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FE3D-D45D-424B-BE38-AB080C77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23157-DA9B-4B27-9CAE-E8EC3A0FC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2948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0" y="678168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652932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45336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60096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581976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577692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63817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0" y="61815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0" y="60530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0" y="634824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0" y="58532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0" y="593892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0" y="625320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0" y="62197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0" y="557208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0" y="562932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0" y="56815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0" y="54291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0" y="535320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0" y="550080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0" y="471960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0" y="46767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0" y="528156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0" y="50817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0" y="495288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0" y="524844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0" y="475308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0" y="483876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0" y="51530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0" y="511956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0" y="449424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0" y="436572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0" y="42512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0" y="45655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
              <p:cNvSpPr/>
              <p:nvPr/>
            </p:nvSpPr>
            <p:spPr>
              <a:xfrm>
                <a:off x="0" y="453240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a:off x="0" y="40543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 name=""/>
              <p:cNvSpPr/>
              <p:nvPr/>
            </p:nvSpPr>
            <p:spPr>
              <a:xfrm>
                <a:off x="0" y="41115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0" y="41641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39117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38354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39830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376380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356400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373068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363528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60216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338148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34383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34909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32385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31622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33098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252900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4861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309096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289080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76228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305748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256212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264780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29624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292896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22813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23385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239076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213840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220968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61280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15699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197496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0" y="18464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0" y="164628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0" y="173196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0" y="20462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0" y="20131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13651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0" y="14223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147492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0" y="122220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0" y="129384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113976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10256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8287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8859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0" y="93816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0" y="685800"/>
                <a:ext cx="647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60948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75708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53820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50472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409680"/>
                <a:ext cx="6476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11240"/>
                <a:ext cx="647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6840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14436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230040"/>
                <a:ext cx="64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320760"/>
                <a:ext cx="647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5040" y="457200"/>
                <a:ext cx="5662440" cy="77760"/>
              </a:xfrm>
              <a:prstGeom prst="rect">
                <a:avLst/>
              </a:prstGeom>
              <a:solidFill>
                <a:srgbClr val="00999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3" name=""/>
              <p:cNvSpPr/>
              <p:nvPr/>
            </p:nvSpPr>
            <p:spPr>
              <a:xfrm>
                <a:off x="7300800" y="1770120"/>
                <a:ext cx="1474920" cy="338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52960" y="1922400"/>
                <a:ext cx="5662440" cy="77760"/>
              </a:xfrm>
              <a:prstGeom prst="rect">
                <a:avLst/>
              </a:prstGeom>
              <a:solidFill>
                <a:srgbClr val="00999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B071-04D7-445F-8BEA-52BF484BC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 descr=""/>
          <p:cNvPicPr/>
          <p:nvPr/>
        </p:nvPicPr>
        <p:blipFill>
          <a:blip r:embed="rId2"/>
          <a:stretch/>
        </p:blipFill>
        <p:spPr>
          <a:xfrm>
            <a:off x="1835280" y="620640"/>
            <a:ext cx="703080" cy="641520"/>
          </a:xfrm>
          <a:prstGeom prst="rect">
            <a:avLst/>
          </a:prstGeom>
          <a:ln w="0">
            <a:noFill/>
          </a:ln>
        </p:spPr>
      </p:pic>
      <p:pic>
        <p:nvPicPr>
          <p:cNvPr id="111" name="" descr=""/>
          <p:cNvPicPr/>
          <p:nvPr/>
        </p:nvPicPr>
        <p:blipFill>
          <a:blip r:embed="rId3"/>
          <a:stretch/>
        </p:blipFill>
        <p:spPr>
          <a:xfrm>
            <a:off x="468360" y="620640"/>
            <a:ext cx="136980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ppi.ioe.ac.uk/cms/" TargetMode="External"/><Relationship Id="rId2" Type="http://schemas.openxmlformats.org/officeDocument/2006/relationships/hyperlink" Target="http://www.pubmedcentral.nih.gov/articlerender.fcgi?artid=521688" TargetMode="External"/><Relationship Id="rId3" Type="http://schemas.openxmlformats.org/officeDocument/2006/relationships/hyperlink" Target="http://www.ccsr.ac.uk/methods/events/challenges/documents/JamesThomasESRCMethodologicalchallenges.ppt" TargetMode="External"/><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ebc.bangor.ac.uk/"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71640" y="2205000"/>
            <a:ext cx="727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entury Gothic"/>
              </a:rPr>
              <a:t>Systematic Approaches to Literature Reviewing</a:t>
            </a:r>
            <a:endParaRPr b="0" lang="en-US" sz="4000" spc="-1" strike="noStrike">
              <a:solidFill>
                <a:srgbClr val="000000"/>
              </a:solidFill>
              <a:latin typeface="Arial"/>
            </a:endParaRPr>
          </a:p>
        </p:txBody>
      </p:sp>
      <p:sp>
        <p:nvSpPr>
          <p:cNvPr id="156" name=""/>
          <p:cNvSpPr/>
          <p:nvPr/>
        </p:nvSpPr>
        <p:spPr>
          <a:xfrm>
            <a:off x="4788000" y="3789360"/>
            <a:ext cx="3960720" cy="216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Zurich Ex BT"/>
              </a:rPr>
              <a:t>Dr. Derek Richards</a:t>
            </a:r>
            <a:r>
              <a:rPr b="1" lang="en-US" sz="2000" spc="-1" strike="noStrike">
                <a:solidFill>
                  <a:srgbClr val="000000"/>
                </a:solidFill>
                <a:latin typeface="Zurich Ex BT"/>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808080"/>
                </a:solidFill>
                <a:latin typeface="Century Gothic"/>
              </a:rPr>
              <a:t>derek.richards [at] tcd.ie</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entury Gothic"/>
              </a:rPr>
              <a:t>1. Formulating a Problem</a:t>
            </a:r>
            <a:endParaRPr b="0" lang="en-US" sz="3200" spc="-1" strike="noStrike">
              <a:solidFill>
                <a:srgbClr val="000000"/>
              </a:solidFill>
              <a:latin typeface="Arial"/>
            </a:endParaRPr>
          </a:p>
        </p:txBody>
      </p:sp>
      <p:sp>
        <p:nvSpPr>
          <p:cNvPr id="184" name="PlaceHolder 2"/>
          <p:cNvSpPr>
            <a:spLocks noGrp="1"/>
          </p:cNvSpPr>
          <p:nvPr>
            <p:ph/>
          </p:nvPr>
        </p:nvSpPr>
        <p:spPr>
          <a:xfrm>
            <a:off x="457200" y="2491920"/>
            <a:ext cx="8291520" cy="3529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Century Gothic"/>
              </a:rPr>
              <a:t>What is your </a:t>
            </a:r>
            <a:r>
              <a:rPr b="1" lang="en-IE" sz="3200" spc="-1" strike="noStrike">
                <a:solidFill>
                  <a:srgbClr val="99cc00"/>
                </a:solidFill>
                <a:latin typeface="Century Gothic"/>
              </a:rPr>
              <a:t>research question</a:t>
            </a:r>
            <a:r>
              <a:rPr b="0" lang="en-IE" sz="3200" spc="-1" strike="noStrike">
                <a:solidFill>
                  <a:srgbClr val="99cc00"/>
                </a:solidFill>
                <a:latin typeface="Century Gothic"/>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9999"/>
                </a:solidFill>
                <a:latin typeface="Century Gothic"/>
              </a:rPr>
              <a:t>Take a few moments and write down your research quest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entury Gothic"/>
              </a:rPr>
              <a:t>1. Formulating a Problem</a:t>
            </a:r>
            <a:endParaRPr b="0" lang="en-US" sz="3200" spc="-1" strike="noStrike">
              <a:solidFill>
                <a:srgbClr val="000000"/>
              </a:solidFill>
              <a:latin typeface="Arial"/>
            </a:endParaRPr>
          </a:p>
        </p:txBody>
      </p:sp>
      <p:sp>
        <p:nvSpPr>
          <p:cNvPr id="186" name="PlaceHolder 2"/>
          <p:cNvSpPr>
            <a:spLocks noGrp="1"/>
          </p:cNvSpPr>
          <p:nvPr>
            <p:ph/>
          </p:nvPr>
        </p:nvSpPr>
        <p:spPr>
          <a:xfrm>
            <a:off x="457200" y="2491920"/>
            <a:ext cx="8291520" cy="3529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Century Gothic"/>
              </a:rPr>
              <a:t>One Example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Arial"/>
              </a:rPr>
              <a:t>Computer-based psychological treatments for depress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Arial"/>
              </a:rPr>
              <a:t>A systematic review and meta-analysi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755280" y="2133720"/>
            <a:ext cx="79930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Phase 1- Identify the Research</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cc00"/>
                </a:solidFill>
                <a:latin typeface="Arial"/>
              </a:rPr>
              <a:t>a broad but defined, systematic swee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a:rPr>
              <a:t>Defined search terms</a:t>
            </a:r>
            <a:r>
              <a:rPr b="0" lang="en-IE" sz="2800" spc="-1" strike="noStrike">
                <a:solidFill>
                  <a:srgbClr val="009999"/>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ff"/>
                </a:solidFill>
                <a:latin typeface="Arial"/>
              </a:rPr>
              <a:t>Online self-help treatment for depression,</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ff"/>
                </a:solidFill>
                <a:latin typeface="Arial"/>
              </a:rPr>
              <a:t>Web-based intervention for depression,</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ff"/>
                </a:solidFill>
                <a:latin typeface="Arial"/>
              </a:rPr>
              <a:t>Online depression treatment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ff"/>
                </a:solidFill>
                <a:latin typeface="Arial"/>
              </a:rPr>
              <a:t>Computerized (+Computerised) cognitive behaviour therapy for depression,</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ff"/>
                </a:solidFill>
                <a:latin typeface="Arial"/>
              </a:rPr>
              <a:t>Internet (+delivered) treatment for depression.</a:t>
            </a:r>
            <a:endParaRPr b="0" lang="en-US" sz="28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55280" y="2133720"/>
            <a:ext cx="69850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1- Identify the Research</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99cc00"/>
                </a:solidFill>
                <a:latin typeface="Arial"/>
              </a:rPr>
              <a:t>a broad but defined, systematic swe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u="sng">
                <a:solidFill>
                  <a:srgbClr val="009999"/>
                </a:solidFill>
                <a:uFillTx/>
                <a:latin typeface="Arial"/>
              </a:rPr>
              <a:t>Defined search are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 D</a:t>
            </a:r>
            <a:r>
              <a:rPr b="0" lang="en-GB" sz="1600" spc="-1" strike="noStrike">
                <a:solidFill>
                  <a:srgbClr val="000000"/>
                </a:solidFill>
                <a:latin typeface="Arial"/>
              </a:rPr>
              <a:t>atabases, citation indices, reference lists from primary and review articles, grey literature, conference proceedings, research registers, the internet, individual researchers/practition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ff"/>
                </a:solidFill>
                <a:latin typeface="Arial"/>
              </a:rPr>
              <a:t>A search of three databases (EMBASE, PubMed, and PsychINFO including PsychARTIC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 Other broad search limits, e.g. language, date:</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udies published in English in peer-reviewed journals in the last 10 years (March 2001–March 2011)</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authors decided that the years represented a meaningful timeframe in terms of contemporary technologies, advances in multimedia, and broadband developments.</a:t>
            </a:r>
            <a:endParaRPr b="0" lang="en-US" sz="16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sp>
        <p:nvSpPr>
          <p:cNvPr id="192" name="PlaceHolder 2"/>
          <p:cNvSpPr>
            <a:spLocks noGrp="1"/>
          </p:cNvSpPr>
          <p:nvPr>
            <p:ph/>
          </p:nvPr>
        </p:nvSpPr>
        <p:spPr>
          <a:xfrm>
            <a:off x="755280" y="2060640"/>
            <a:ext cx="65818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hase 2- Selection</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cc00"/>
                </a:solidFill>
                <a:latin typeface="Arial"/>
              </a:rPr>
              <a:t>select from research using criteria related to your research qu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9999"/>
                </a:solidFill>
                <a:uFillTx/>
                <a:latin typeface="Arial"/>
              </a:rPr>
              <a:t>Inclusion and Exclusion Criter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velop inclusion or exclusion statements, these might relate to study outcomes, research design, methods used, population worked with et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udies with a mixed population of men and wom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ly random control tria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aximum exposure time of 10m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sp>
        <p:nvSpPr>
          <p:cNvPr id="194" name="PlaceHolder 2"/>
          <p:cNvSpPr>
            <a:spLocks noGrp="1"/>
          </p:cNvSpPr>
          <p:nvPr>
            <p:ph/>
          </p:nvPr>
        </p:nvSpPr>
        <p:spPr>
          <a:xfrm>
            <a:off x="755280" y="2060640"/>
            <a:ext cx="77770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2- Selection</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99cc00"/>
                </a:solidFill>
                <a:latin typeface="Arial"/>
              </a:rPr>
              <a:t>select from research using criteria related to your research ques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u="sng">
                <a:solidFill>
                  <a:srgbClr val="009999"/>
                </a:solidFill>
                <a:uFillTx/>
                <a:latin typeface="Arial"/>
              </a:rPr>
              <a:t>Inclusion and Exclusion Criter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Included studies could be deployed using a variety of different computer-based technologies, synchronously and asynchronously, they could be solely self-administered or therapist-led; or a blended delivery using both. </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udy participants had to be adults (18+years) with depression (self-report or diagnosis), established using valid and reliable measures, whom may also have had comorbidity, e.g. anxiety or physical health problems. </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udies included were published in peer reviewed journals in English in the last 10 years, </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investigated a computer-based treatment for depression, and included</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articipants could be from the general population or a clinical group so long as depression was specifically measured.</a:t>
            </a:r>
            <a:endParaRPr b="0" lang="en-US" sz="1600" spc="-1" strike="noStrike">
              <a:solidFill>
                <a:srgbClr val="000000"/>
              </a:solidFill>
              <a:latin typeface="Arial"/>
            </a:endParaRPr>
          </a:p>
          <a:p>
            <a:pPr marL="343080" indent="-34308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eliminary research into recent developments in computerized paradigms for depression such as cognitive bias modification (CBM) based interventions were not considered for inclu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sp>
        <p:nvSpPr>
          <p:cNvPr id="196" name=""/>
          <p:cNvSpPr txBox="1"/>
          <p:nvPr/>
        </p:nvSpPr>
        <p:spPr>
          <a:xfrm>
            <a:off x="1115640" y="2060640"/>
            <a:ext cx="7777440" cy="3995640"/>
          </a:xfrm>
          <a:prstGeom prst="rect">
            <a:avLst/>
          </a:prstGeom>
          <a:solidFill>
            <a:srgbClr val="bbe0e3"/>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IP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cument the </a:t>
            </a:r>
            <a:r>
              <a:rPr b="0" lang="en-IE" sz="3200" spc="-1" strike="noStrike">
                <a:solidFill>
                  <a:srgbClr val="99cc00"/>
                </a:solidFill>
                <a:latin typeface="Arial"/>
              </a:rPr>
              <a:t>search protocol</a:t>
            </a:r>
            <a:r>
              <a:rPr b="0" lang="en-IE" sz="3200" spc="-1" strike="noStrike">
                <a:solidFill>
                  <a:srgbClr val="000000"/>
                </a:solidFill>
                <a:latin typeface="Arial"/>
              </a:rPr>
              <a:t> and </a:t>
            </a:r>
            <a:r>
              <a:rPr b="0" lang="en-IE" sz="3200" spc="-1" strike="noStrike">
                <a:solidFill>
                  <a:srgbClr val="99cc00"/>
                </a:solidFill>
                <a:latin typeface="Arial"/>
              </a:rPr>
              <a:t>record</a:t>
            </a:r>
            <a:r>
              <a:rPr b="0" lang="en-IE" sz="3200" spc="-1" strike="noStrike">
                <a:solidFill>
                  <a:srgbClr val="000000"/>
                </a:solidFill>
                <a:latin typeface="Arial"/>
              </a:rPr>
              <a:t> what research was f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ystematically </a:t>
            </a:r>
            <a:r>
              <a:rPr b="0" lang="en-IE" sz="3200" spc="-1" strike="noStrike">
                <a:solidFill>
                  <a:srgbClr val="99cc00"/>
                </a:solidFill>
                <a:latin typeface="Arial"/>
              </a:rPr>
              <a:t>manage</a:t>
            </a:r>
            <a:r>
              <a:rPr b="0" lang="en-IE" sz="3200" spc="-1" strike="noStrike">
                <a:solidFill>
                  <a:srgbClr val="000000"/>
                </a:solidFill>
                <a:latin typeface="Arial"/>
              </a:rPr>
              <a:t> </a:t>
            </a:r>
            <a:r>
              <a:rPr b="0" lang="en-IE" sz="3200" spc="-1" strike="noStrike">
                <a:solidFill>
                  <a:srgbClr val="99cc00"/>
                </a:solidFill>
                <a:latin typeface="Arial"/>
              </a:rPr>
              <a:t>the search output</a:t>
            </a:r>
            <a:r>
              <a:rPr b="0" lang="en-IE" sz="3200" spc="-1" strike="noStrike">
                <a:solidFill>
                  <a:srgbClr val="000000"/>
                </a:solidFill>
                <a:latin typeface="Arial"/>
              </a:rPr>
              <a:t>, e.g. using endn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Locating and selecting studies</a:t>
            </a:r>
            <a:endParaRPr b="0" lang="en-US" sz="3200" spc="-1" strike="noStrike">
              <a:solidFill>
                <a:srgbClr val="000000"/>
              </a:solidFill>
              <a:latin typeface="Arial"/>
            </a:endParaRPr>
          </a:p>
        </p:txBody>
      </p:sp>
      <p:pic>
        <p:nvPicPr>
          <p:cNvPr id="198" name="" descr=""/>
          <p:cNvPicPr/>
          <p:nvPr/>
        </p:nvPicPr>
        <p:blipFill>
          <a:blip r:embed="rId1"/>
          <a:srcRect l="0" t="14013" r="26173" b="34309"/>
          <a:stretch/>
        </p:blipFill>
        <p:spPr>
          <a:xfrm>
            <a:off x="142920" y="1557360"/>
            <a:ext cx="9001080" cy="50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31393" t="18461" r="31053" b="11233"/>
          <a:stretch/>
        </p:blipFill>
        <p:spPr>
          <a:xfrm>
            <a:off x="3059280" y="279360"/>
            <a:ext cx="4392360" cy="657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3. Critical appraisal of studies</a:t>
            </a:r>
            <a:endParaRPr b="0" lang="en-US" sz="3200" spc="-1" strike="noStrike">
              <a:solidFill>
                <a:srgbClr val="000000"/>
              </a:solidFill>
              <a:latin typeface="Arial"/>
            </a:endParaRPr>
          </a:p>
        </p:txBody>
      </p:sp>
      <p:sp>
        <p:nvSpPr>
          <p:cNvPr id="201" name="PlaceHolder 2"/>
          <p:cNvSpPr>
            <a:spLocks noGrp="1"/>
          </p:cNvSpPr>
          <p:nvPr>
            <p:ph/>
          </p:nvPr>
        </p:nvSpPr>
        <p:spPr>
          <a:xfrm>
            <a:off x="809640" y="1773000"/>
            <a:ext cx="7958160" cy="432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Arial"/>
              </a:rPr>
              <a:t>	</a:t>
            </a:r>
            <a:r>
              <a:rPr b="0" i="1" lang="en-IE" sz="2400" spc="-1" strike="noStrike">
                <a:solidFill>
                  <a:srgbClr val="99cc00"/>
                </a:solidFill>
                <a:latin typeface="Arial"/>
              </a:rPr>
              <a:t>“</a:t>
            </a:r>
            <a:r>
              <a:rPr b="0" i="1" lang="en-IE" sz="2400" spc="-1" strike="noStrike">
                <a:solidFill>
                  <a:srgbClr val="99cc00"/>
                </a:solidFill>
                <a:latin typeface="Arial"/>
              </a:rPr>
              <a:t>Assessing the quality of methodology i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99cc00"/>
                </a:solidFill>
                <a:latin typeface="Arial"/>
              </a:rPr>
              <a:t>a critical part of the systematic review pro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You will need to make decisions on all aspects of the review and simply justify what you decide, making sure its credible and meets the criteria that it is transparent, replicable and update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Workshop Overview</a:t>
            </a:r>
            <a:endParaRPr b="0" lang="en-US" sz="3200" spc="-1" strike="noStrike">
              <a:solidFill>
                <a:srgbClr val="000000"/>
              </a:solidFill>
              <a:latin typeface="Arial"/>
            </a:endParaRPr>
          </a:p>
        </p:txBody>
      </p:sp>
      <p:sp>
        <p:nvSpPr>
          <p:cNvPr id="158" name="PlaceHolder 2"/>
          <p:cNvSpPr>
            <a:spLocks noGrp="1"/>
          </p:cNvSpPr>
          <p:nvPr>
            <p:ph/>
          </p:nvPr>
        </p:nvSpPr>
        <p:spPr>
          <a:xfrm>
            <a:off x="826920" y="2205000"/>
            <a:ext cx="7958160" cy="3881520"/>
          </a:xfrm>
          <a:prstGeom prst="rect">
            <a:avLst/>
          </a:prstGeom>
          <a:noFill/>
          <a:ln w="0">
            <a:noFill/>
          </a:ln>
        </p:spPr>
        <p:txBody>
          <a:bodyPr lIns="90000" rIns="90000" tIns="46800" bIns="46800" anchor="t">
            <a:normAutofit/>
          </a:bodyPr>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plain elements of the systematic review process </a:t>
            </a:r>
            <a:endParaRPr b="0" lang="en-US" sz="2400" spc="-1" strike="noStrike">
              <a:solidFill>
                <a:srgbClr val="000000"/>
              </a:solidFill>
              <a:latin typeface="Arial"/>
            </a:endParaRPr>
          </a:p>
          <a:p>
            <a:pPr marL="577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plore how these might be used or adapted to support:</a:t>
            </a:r>
            <a:endParaRPr b="0" lang="en-US" sz="2400" spc="-1" strike="noStrike">
              <a:solidFill>
                <a:srgbClr val="000000"/>
              </a:solidFill>
              <a:latin typeface="Arial"/>
            </a:endParaRPr>
          </a:p>
          <a:p>
            <a:pPr marL="577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Arial"/>
              </a:rPr>
              <a:t>a thesis literature review; </a:t>
            </a:r>
            <a:endParaRPr b="0" lang="en-US" sz="2400" spc="-1" strike="noStrike">
              <a:solidFill>
                <a:srgbClr val="000000"/>
              </a:solidFill>
              <a:latin typeface="Arial"/>
            </a:endParaRPr>
          </a:p>
          <a:p>
            <a:pPr marL="577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Arial"/>
              </a:rPr>
              <a:t>approaches to keeping up-to-date with the literature through a PhD</a:t>
            </a:r>
            <a:endParaRPr b="0" lang="en-US" sz="2400" spc="-1" strike="noStrike">
              <a:solidFill>
                <a:srgbClr val="000000"/>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3. Critical appraisal of studies</a:t>
            </a:r>
            <a:endParaRPr b="0" lang="en-US" sz="3200" spc="-1" strike="noStrike">
              <a:solidFill>
                <a:srgbClr val="000000"/>
              </a:solidFill>
              <a:latin typeface="Arial"/>
            </a:endParaRPr>
          </a:p>
        </p:txBody>
      </p:sp>
      <p:sp>
        <p:nvSpPr>
          <p:cNvPr id="203" name="PlaceHolder 2"/>
          <p:cNvSpPr>
            <a:spLocks noGrp="1"/>
          </p:cNvSpPr>
          <p:nvPr>
            <p:ph/>
          </p:nvPr>
        </p:nvSpPr>
        <p:spPr>
          <a:xfrm>
            <a:off x="809640" y="1773000"/>
            <a:ext cx="7958160" cy="4322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99cc00"/>
                </a:solidFill>
                <a:latin typeface="Arial"/>
              </a:rPr>
              <a:t>	</a:t>
            </a:r>
            <a:r>
              <a:rPr b="0" i="1" lang="en-IE" sz="2800" spc="-1" strike="noStrike">
                <a:solidFill>
                  <a:srgbClr val="99cc00"/>
                </a:solidFill>
                <a:latin typeface="Arial"/>
              </a:rPr>
              <a:t>“</a:t>
            </a:r>
            <a:r>
              <a:rPr b="0" i="1" lang="en-IE" sz="2800" spc="-1" strike="noStrike">
                <a:solidFill>
                  <a:srgbClr val="99cc00"/>
                </a:solidFill>
                <a:latin typeface="Arial"/>
              </a:rPr>
              <a:t>Assessing the quality of methodology i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99cc00"/>
                </a:solidFill>
                <a:latin typeface="Arial"/>
              </a:rPr>
              <a:t>a critical part of the systematic review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 descr=""/>
          <p:cNvPicPr/>
          <p:nvPr/>
        </p:nvPicPr>
        <p:blipFill>
          <a:blip r:embed="rId1"/>
          <a:srcRect l="0" t="17160" r="0" b="0"/>
          <a:stretch/>
        </p:blipFill>
        <p:spPr>
          <a:xfrm>
            <a:off x="684360" y="3789360"/>
            <a:ext cx="8272440" cy="27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3. Critical appraisal of studies</a:t>
            </a:r>
            <a:endParaRPr b="0" lang="en-US" sz="3200" spc="-1" strike="noStrike">
              <a:solidFill>
                <a:srgbClr val="000000"/>
              </a:solidFill>
              <a:latin typeface="Arial"/>
            </a:endParaRPr>
          </a:p>
        </p:txBody>
      </p:sp>
      <p:sp>
        <p:nvSpPr>
          <p:cNvPr id="206" name="PlaceHolder 2"/>
          <p:cNvSpPr>
            <a:spLocks noGrp="1"/>
          </p:cNvSpPr>
          <p:nvPr>
            <p:ph/>
          </p:nvPr>
        </p:nvSpPr>
        <p:spPr>
          <a:xfrm>
            <a:off x="4497120" y="2344680"/>
            <a:ext cx="4189320" cy="37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
        <p:nvSpPr>
          <p:cNvPr id="207" name=""/>
          <p:cNvSpPr/>
          <p:nvPr/>
        </p:nvSpPr>
        <p:spPr>
          <a:xfrm>
            <a:off x="1042920" y="2421000"/>
            <a:ext cx="7345440" cy="37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In field/ discipl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Brainstorm the range of </a:t>
            </a:r>
            <a:r>
              <a:rPr b="1" lang="en-IE" sz="2000" spc="-1" strike="noStrike">
                <a:solidFill>
                  <a:srgbClr val="ff0000"/>
                </a:solidFill>
                <a:latin typeface="Century Gothic"/>
              </a:rPr>
              <a:t>research variance</a:t>
            </a:r>
            <a:r>
              <a:rPr b="1" lang="en-IE" sz="2000" spc="-1" strike="noStrike">
                <a:solidFill>
                  <a:srgbClr val="000000"/>
                </a:solidFill>
                <a:latin typeface="Century Gothic"/>
              </a:rPr>
              <a:t> that exis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that can be used to discrimina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between studies</a:t>
            </a:r>
            <a:r>
              <a:rPr b="0" lang="en-IE" sz="2000" spc="-1" strike="noStrike">
                <a:solidFill>
                  <a:srgbClr val="000000"/>
                </a:solidFill>
                <a:latin typeface="Century Gothic"/>
              </a:rPr>
              <a:t> </a:t>
            </a:r>
            <a:r>
              <a:rPr b="1" lang="en-IE" sz="2000" spc="-1" strike="noStrike">
                <a:solidFill>
                  <a:srgbClr val="000000"/>
                </a:solidFill>
                <a:latin typeface="Century Gothic"/>
              </a:rPr>
              <a:t>and write a revie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e.g. in methodological approach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theoretical stances, or in relation to other factors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3. Critical appraisal of studies</a:t>
            </a:r>
            <a:endParaRPr b="0" lang="en-US" sz="3200" spc="-1" strike="noStrike">
              <a:solidFill>
                <a:srgbClr val="000000"/>
              </a:solidFill>
              <a:latin typeface="Arial"/>
            </a:endParaRPr>
          </a:p>
        </p:txBody>
      </p:sp>
      <p:sp>
        <p:nvSpPr>
          <p:cNvPr id="209" name="PlaceHolder 2"/>
          <p:cNvSpPr>
            <a:spLocks noGrp="1"/>
          </p:cNvSpPr>
          <p:nvPr>
            <p:ph/>
          </p:nvPr>
        </p:nvSpPr>
        <p:spPr>
          <a:xfrm>
            <a:off x="4497120" y="2344680"/>
            <a:ext cx="4189320" cy="37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
        <p:nvSpPr>
          <p:cNvPr id="210" name=""/>
          <p:cNvSpPr/>
          <p:nvPr/>
        </p:nvSpPr>
        <p:spPr>
          <a:xfrm>
            <a:off x="1042920" y="2421000"/>
            <a:ext cx="7345440" cy="37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Arial"/>
              </a:rPr>
              <a:t>Computer-based psychological treatments for depress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Arial"/>
              </a:rPr>
              <a:t> </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Programs and their content</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Methodological characteristics</a:t>
            </a:r>
            <a:endParaRPr b="0" lang="en-US" sz="1800" spc="-1" strike="noStrike">
              <a:solidFill>
                <a:srgbClr val="000000"/>
              </a:solidFill>
              <a:latin typeface="Arial"/>
            </a:endParaRPr>
          </a:p>
          <a:p>
            <a:pPr lvl="1" marL="4572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Objectives of the studies</a:t>
            </a:r>
            <a:endParaRPr b="0" lang="en-US" sz="1800" spc="-1" strike="noStrike">
              <a:solidFill>
                <a:srgbClr val="000000"/>
              </a:solidFill>
              <a:latin typeface="Arial"/>
            </a:endParaRPr>
          </a:p>
          <a:p>
            <a:pPr lvl="1" marL="4572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Recruitment, sample types and sizes</a:t>
            </a:r>
            <a:endParaRPr b="0" lang="en-US" sz="1800" spc="-1" strike="noStrike">
              <a:solidFill>
                <a:srgbClr val="000000"/>
              </a:solidFill>
              <a:latin typeface="Arial"/>
            </a:endParaRPr>
          </a:p>
          <a:p>
            <a:pPr lvl="1" marL="4572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Eligibility criteria employed</a:t>
            </a:r>
            <a:endParaRPr b="0" lang="en-US" sz="1800" spc="-1" strike="noStrike">
              <a:solidFill>
                <a:srgbClr val="000000"/>
              </a:solidFill>
              <a:latin typeface="Arial"/>
            </a:endParaRPr>
          </a:p>
          <a:p>
            <a:pPr lvl="1" marL="4572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Outcome measures used</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Support type and communication mode in the studies</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Outcomes, support types and dropout</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Satisfaction</a:t>
            </a:r>
            <a:endParaRPr b="0" lang="en-US" sz="18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ff"/>
                </a:solidFill>
                <a:latin typeface="Arial"/>
              </a:rPr>
              <a:t>Limi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3. Critical appraisal of studies</a:t>
            </a:r>
            <a:endParaRPr b="0" lang="en-US" sz="3200" spc="-1" strike="noStrike">
              <a:solidFill>
                <a:srgbClr val="000000"/>
              </a:solidFill>
              <a:latin typeface="Arial"/>
            </a:endParaRPr>
          </a:p>
        </p:txBody>
      </p:sp>
      <p:sp>
        <p:nvSpPr>
          <p:cNvPr id="212" name="PlaceHolder 2"/>
          <p:cNvSpPr>
            <a:spLocks noGrp="1"/>
          </p:cNvSpPr>
          <p:nvPr>
            <p:ph/>
          </p:nvPr>
        </p:nvSpPr>
        <p:spPr>
          <a:xfrm>
            <a:off x="826920" y="1989000"/>
            <a:ext cx="7958160" cy="38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
          <p:cNvSpPr/>
          <p:nvPr/>
        </p:nvSpPr>
        <p:spPr>
          <a:xfrm>
            <a:off x="1187280" y="2637000"/>
            <a:ext cx="7345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4" name=""/>
          <p:cNvGrpSpPr/>
          <p:nvPr/>
        </p:nvGrpSpPr>
        <p:grpSpPr>
          <a:xfrm>
            <a:off x="-36360" y="1341360"/>
            <a:ext cx="9180360" cy="5613480"/>
            <a:chOff x="-36360" y="1341360"/>
            <a:chExt cx="9180360" cy="5613480"/>
          </a:xfrm>
        </p:grpSpPr>
        <p:sp>
          <p:nvSpPr>
            <p:cNvPr id="215" name="AutoShape 5"/>
            <p:cNvSpPr/>
            <p:nvPr/>
          </p:nvSpPr>
          <p:spPr>
            <a:xfrm>
              <a:off x="-36360" y="1341360"/>
              <a:ext cx="9180360" cy="561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6" descr=""/>
            <p:cNvPicPr/>
            <p:nvPr/>
          </p:nvPicPr>
          <p:blipFill>
            <a:blip r:embed="rId1"/>
            <a:stretch/>
          </p:blipFill>
          <p:spPr>
            <a:xfrm>
              <a:off x="-36360" y="1341360"/>
              <a:ext cx="9177120" cy="5535360"/>
            </a:xfrm>
            <a:prstGeom prst="rect">
              <a:avLst/>
            </a:prstGeom>
            <a:ln w="0">
              <a:noFill/>
            </a:ln>
          </p:spPr>
        </p:pic>
        <p:sp>
          <p:nvSpPr>
            <p:cNvPr id="217" name="Rectangle 70"/>
            <p:cNvSpPr/>
            <p:nvPr/>
          </p:nvSpPr>
          <p:spPr>
            <a:xfrm>
              <a:off x="346680" y="3586320"/>
              <a:ext cx="1114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What?</a:t>
              </a:r>
              <a:endParaRPr b="0" lang="en-US" sz="2800" spc="-1" strike="noStrike">
                <a:solidFill>
                  <a:srgbClr val="000000"/>
                </a:solidFill>
                <a:latin typeface="Arial"/>
              </a:endParaRPr>
            </a:p>
          </p:txBody>
        </p:sp>
        <p:sp>
          <p:nvSpPr>
            <p:cNvPr id="218" name="Rectangle 71"/>
            <p:cNvSpPr/>
            <p:nvPr/>
          </p:nvSpPr>
          <p:spPr>
            <a:xfrm>
              <a:off x="1319040" y="3158640"/>
              <a:ext cx="96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en?</a:t>
              </a:r>
              <a:endParaRPr b="0" lang="en-US" sz="2400" spc="-1" strike="noStrike">
                <a:solidFill>
                  <a:srgbClr val="000000"/>
                </a:solidFill>
                <a:latin typeface="Arial"/>
              </a:endParaRPr>
            </a:p>
          </p:txBody>
        </p:sp>
        <p:sp>
          <p:nvSpPr>
            <p:cNvPr id="219" name="Rectangle 72"/>
            <p:cNvSpPr/>
            <p:nvPr/>
          </p:nvSpPr>
          <p:spPr>
            <a:xfrm>
              <a:off x="2768760" y="2889360"/>
              <a:ext cx="79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o?</a:t>
              </a:r>
              <a:endParaRPr b="0" lang="en-US" sz="2400" spc="-1" strike="noStrike">
                <a:solidFill>
                  <a:srgbClr val="000000"/>
                </a:solidFill>
                <a:latin typeface="Arial"/>
              </a:endParaRPr>
            </a:p>
          </p:txBody>
        </p:sp>
        <p:sp>
          <p:nvSpPr>
            <p:cNvPr id="220" name="Rectangle 73"/>
            <p:cNvSpPr/>
            <p:nvPr/>
          </p:nvSpPr>
          <p:spPr>
            <a:xfrm>
              <a:off x="3842640" y="2830680"/>
              <a:ext cx="107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ere?</a:t>
              </a:r>
              <a:endParaRPr b="0" lang="en-US" sz="2400" spc="-1" strike="noStrike">
                <a:solidFill>
                  <a:srgbClr val="000000"/>
                </a:solidFill>
                <a:latin typeface="Arial"/>
              </a:endParaRPr>
            </a:p>
          </p:txBody>
        </p:sp>
        <p:sp>
          <p:nvSpPr>
            <p:cNvPr id="221" name="Rectangle 75"/>
            <p:cNvSpPr/>
            <p:nvPr/>
          </p:nvSpPr>
          <p:spPr>
            <a:xfrm>
              <a:off x="6633000" y="4872960"/>
              <a:ext cx="1221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Why?</a:t>
              </a:r>
              <a:endParaRPr b="0" lang="en-US" sz="3600" spc="-1" strike="noStrike">
                <a:solidFill>
                  <a:srgbClr val="000000"/>
                </a:solidFill>
                <a:latin typeface="Arial"/>
              </a:endParaRPr>
            </a:p>
          </p:txBody>
        </p:sp>
        <p:sp>
          <p:nvSpPr>
            <p:cNvPr id="222" name="Rectangle 76"/>
            <p:cNvSpPr/>
            <p:nvPr/>
          </p:nvSpPr>
          <p:spPr>
            <a:xfrm>
              <a:off x="6658920" y="3365640"/>
              <a:ext cx="78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How?</a:t>
              </a:r>
              <a:endParaRPr b="0" lang="en-US" sz="2400" spc="-1" strike="noStrike">
                <a:solidFill>
                  <a:srgbClr val="000000"/>
                </a:solidFill>
                <a:latin typeface="Arial"/>
              </a:endParaRPr>
            </a:p>
          </p:txBody>
        </p:sp>
        <p:sp>
          <p:nvSpPr>
            <p:cNvPr id="223" name="Rectangle 77"/>
            <p:cNvSpPr/>
            <p:nvPr/>
          </p:nvSpPr>
          <p:spPr>
            <a:xfrm>
              <a:off x="4973400" y="5679720"/>
              <a:ext cx="1149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at if?</a:t>
              </a:r>
              <a:endParaRPr b="0" lang="en-US" sz="2400" spc="-1" strike="noStrike">
                <a:solidFill>
                  <a:srgbClr val="000000"/>
                </a:solidFill>
                <a:latin typeface="Arial"/>
              </a:endParaRPr>
            </a:p>
          </p:txBody>
        </p:sp>
        <p:sp>
          <p:nvSpPr>
            <p:cNvPr id="224" name="Rectangle 78"/>
            <p:cNvSpPr/>
            <p:nvPr/>
          </p:nvSpPr>
          <p:spPr>
            <a:xfrm>
              <a:off x="1262880" y="2247480"/>
              <a:ext cx="2041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9bbb"/>
                  </a:solidFill>
                  <a:latin typeface="Arial Unicode MS"/>
                  <a:ea typeface="Arial Unicode MS"/>
                </a:rPr>
                <a:t>Description</a:t>
              </a:r>
              <a:endParaRPr b="0" lang="en-US" sz="2800" spc="-1" strike="noStrike">
                <a:solidFill>
                  <a:srgbClr val="000000"/>
                </a:solidFill>
                <a:latin typeface="Arial"/>
              </a:endParaRPr>
            </a:p>
          </p:txBody>
        </p:sp>
        <p:sp>
          <p:nvSpPr>
            <p:cNvPr id="225" name="Rectangle 79"/>
            <p:cNvSpPr/>
            <p:nvPr/>
          </p:nvSpPr>
          <p:spPr>
            <a:xfrm>
              <a:off x="7604280" y="3758760"/>
              <a:ext cx="1466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9bbb"/>
                  </a:solidFill>
                  <a:latin typeface="Arial Unicode MS"/>
                  <a:ea typeface="Arial Unicode MS"/>
                </a:rPr>
                <a:t>Analysis</a:t>
              </a:r>
              <a:endParaRPr b="0" lang="en-US" sz="2800" spc="-1" strike="noStrike">
                <a:solidFill>
                  <a:srgbClr val="000000"/>
                </a:solidFill>
                <a:latin typeface="Arial"/>
              </a:endParaRPr>
            </a:p>
          </p:txBody>
        </p:sp>
        <p:sp>
          <p:nvSpPr>
            <p:cNvPr id="226" name="Rectangle 80"/>
            <p:cNvSpPr/>
            <p:nvPr/>
          </p:nvSpPr>
          <p:spPr>
            <a:xfrm>
              <a:off x="1065240" y="6086520"/>
              <a:ext cx="188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9bbb"/>
                  </a:solidFill>
                  <a:latin typeface="Arial Unicode MS"/>
                  <a:ea typeface="Arial Unicode MS"/>
                </a:rPr>
                <a:t>Evaluation</a:t>
              </a:r>
              <a:endParaRPr b="0" lang="en-US" sz="2800" spc="-1" strike="noStrike">
                <a:solidFill>
                  <a:srgbClr val="000000"/>
                </a:solidFill>
                <a:latin typeface="Arial"/>
              </a:endParaRPr>
            </a:p>
          </p:txBody>
        </p:sp>
        <p:sp>
          <p:nvSpPr>
            <p:cNvPr id="227" name="Freeform 81"/>
            <p:cNvSpPr/>
            <p:nvPr/>
          </p:nvSpPr>
          <p:spPr>
            <a:xfrm>
              <a:off x="1441440" y="3809520"/>
              <a:ext cx="1593720" cy="468360"/>
            </a:xfrm>
            <a:custGeom>
              <a:avLst/>
              <a:gdLst>
                <a:gd name="textAreaLeft" fmla="*/ 0 w 1593720"/>
                <a:gd name="textAreaRight" fmla="*/ 1594080 w 1593720"/>
                <a:gd name="textAreaTop" fmla="*/ 0 h 468360"/>
                <a:gd name="textAreaBottom" fmla="*/ 468720 h 468360"/>
              </a:gdLst>
              <a:ahLst/>
              <a:rect l="textAreaLeft" t="textAreaTop" r="textAreaRight" b="textAreaBottom"/>
              <a:pathLst>
                <a:path w="8328" h="3040">
                  <a:moveTo>
                    <a:pt x="8292" y="3036"/>
                  </a:moveTo>
                  <a:lnTo>
                    <a:pt x="306" y="189"/>
                  </a:lnTo>
                  <a:cubicBezTo>
                    <a:pt x="293" y="185"/>
                    <a:pt x="286" y="170"/>
                    <a:pt x="291" y="157"/>
                  </a:cubicBezTo>
                  <a:cubicBezTo>
                    <a:pt x="295" y="144"/>
                    <a:pt x="310" y="138"/>
                    <a:pt x="323" y="142"/>
                  </a:cubicBezTo>
                  <a:lnTo>
                    <a:pt x="8309" y="2989"/>
                  </a:lnTo>
                  <a:cubicBezTo>
                    <a:pt x="8322" y="2993"/>
                    <a:pt x="8328" y="3008"/>
                    <a:pt x="8324" y="3021"/>
                  </a:cubicBezTo>
                  <a:cubicBezTo>
                    <a:pt x="8319" y="3034"/>
                    <a:pt x="8305" y="3040"/>
                    <a:pt x="8292" y="3036"/>
                  </a:cubicBezTo>
                  <a:close/>
                  <a:moveTo>
                    <a:pt x="310" y="376"/>
                  </a:moveTo>
                  <a:lnTo>
                    <a:pt x="0" y="54"/>
                  </a:lnTo>
                  <a:lnTo>
                    <a:pt x="444" y="0"/>
                  </a:lnTo>
                  <a:lnTo>
                    <a:pt x="310" y="37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82"/>
            <p:cNvSpPr/>
            <p:nvPr/>
          </p:nvSpPr>
          <p:spPr>
            <a:xfrm>
              <a:off x="2311560" y="3527640"/>
              <a:ext cx="966600" cy="569160"/>
            </a:xfrm>
            <a:custGeom>
              <a:avLst/>
              <a:gdLst>
                <a:gd name="textAreaLeft" fmla="*/ 0 w 966600"/>
                <a:gd name="textAreaRight" fmla="*/ 966960 w 966600"/>
                <a:gd name="textAreaTop" fmla="*/ 0 h 569160"/>
                <a:gd name="textAreaBottom" fmla="*/ 569520 h 569160"/>
              </a:gdLst>
              <a:ahLst/>
              <a:rect l="textAreaLeft" t="textAreaTop" r="textAreaRight" b="textAreaBottom"/>
              <a:pathLst>
                <a:path w="5053" h="3703">
                  <a:moveTo>
                    <a:pt x="5010" y="3695"/>
                  </a:moveTo>
                  <a:lnTo>
                    <a:pt x="254" y="217"/>
                  </a:lnTo>
                  <a:cubicBezTo>
                    <a:pt x="243" y="209"/>
                    <a:pt x="241" y="193"/>
                    <a:pt x="249" y="182"/>
                  </a:cubicBezTo>
                  <a:cubicBezTo>
                    <a:pt x="257" y="171"/>
                    <a:pt x="272" y="169"/>
                    <a:pt x="284" y="177"/>
                  </a:cubicBezTo>
                  <a:lnTo>
                    <a:pt x="5040" y="3655"/>
                  </a:lnTo>
                  <a:cubicBezTo>
                    <a:pt x="5051" y="3663"/>
                    <a:pt x="5053" y="3679"/>
                    <a:pt x="5045" y="3690"/>
                  </a:cubicBezTo>
                  <a:cubicBezTo>
                    <a:pt x="5037" y="3701"/>
                    <a:pt x="5021" y="3703"/>
                    <a:pt x="5010" y="3695"/>
                  </a:cubicBezTo>
                  <a:close/>
                  <a:moveTo>
                    <a:pt x="205" y="398"/>
                  </a:moveTo>
                  <a:lnTo>
                    <a:pt x="0" y="0"/>
                  </a:lnTo>
                  <a:lnTo>
                    <a:pt x="441" y="75"/>
                  </a:lnTo>
                  <a:lnTo>
                    <a:pt x="205" y="39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83"/>
            <p:cNvSpPr/>
            <p:nvPr/>
          </p:nvSpPr>
          <p:spPr>
            <a:xfrm>
              <a:off x="3367080" y="3236400"/>
              <a:ext cx="177840" cy="817920"/>
            </a:xfrm>
            <a:custGeom>
              <a:avLst/>
              <a:gdLst>
                <a:gd name="textAreaLeft" fmla="*/ 0 w 177840"/>
                <a:gd name="textAreaRight" fmla="*/ 178200 w 177840"/>
                <a:gd name="textAreaTop" fmla="*/ 0 h 817920"/>
                <a:gd name="textAreaBottom" fmla="*/ 818280 h 817920"/>
              </a:gdLst>
              <a:ahLst/>
              <a:rect l="textAreaLeft" t="textAreaTop" r="textAreaRight" b="textAreaBottom"/>
              <a:pathLst>
                <a:path w="927" h="5319">
                  <a:moveTo>
                    <a:pt x="875" y="5296"/>
                  </a:moveTo>
                  <a:lnTo>
                    <a:pt x="164" y="334"/>
                  </a:lnTo>
                  <a:cubicBezTo>
                    <a:pt x="162" y="320"/>
                    <a:pt x="172" y="308"/>
                    <a:pt x="185" y="306"/>
                  </a:cubicBezTo>
                  <a:cubicBezTo>
                    <a:pt x="199" y="304"/>
                    <a:pt x="212" y="313"/>
                    <a:pt x="214" y="327"/>
                  </a:cubicBezTo>
                  <a:lnTo>
                    <a:pt x="925" y="5289"/>
                  </a:lnTo>
                  <a:cubicBezTo>
                    <a:pt x="927" y="5302"/>
                    <a:pt x="917" y="5315"/>
                    <a:pt x="903" y="5317"/>
                  </a:cubicBezTo>
                  <a:cubicBezTo>
                    <a:pt x="890" y="5319"/>
                    <a:pt x="877" y="5309"/>
                    <a:pt x="875" y="5296"/>
                  </a:cubicBezTo>
                  <a:close/>
                  <a:moveTo>
                    <a:pt x="0" y="425"/>
                  </a:moveTo>
                  <a:lnTo>
                    <a:pt x="141" y="0"/>
                  </a:lnTo>
                  <a:lnTo>
                    <a:pt x="396" y="368"/>
                  </a:lnTo>
                  <a:lnTo>
                    <a:pt x="0" y="425"/>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84"/>
            <p:cNvSpPr/>
            <p:nvPr/>
          </p:nvSpPr>
          <p:spPr>
            <a:xfrm>
              <a:off x="4040280" y="3294000"/>
              <a:ext cx="309600" cy="760320"/>
            </a:xfrm>
            <a:custGeom>
              <a:avLst/>
              <a:gdLst>
                <a:gd name="textAreaLeft" fmla="*/ 0 w 309600"/>
                <a:gd name="textAreaRight" fmla="*/ 309600 w 309600"/>
                <a:gd name="textAreaTop" fmla="*/ 0 h 760320"/>
                <a:gd name="textAreaBottom" fmla="*/ 760680 h 760320"/>
              </a:gdLst>
              <a:ahLst/>
              <a:rect l="textAreaLeft" t="textAreaTop" r="textAreaRight" b="textAreaBottom"/>
              <a:pathLst>
                <a:path w="1617" h="4936">
                  <a:moveTo>
                    <a:pt x="4" y="4901"/>
                  </a:moveTo>
                  <a:lnTo>
                    <a:pt x="1422" y="311"/>
                  </a:lnTo>
                  <a:cubicBezTo>
                    <a:pt x="1426" y="298"/>
                    <a:pt x="1440" y="290"/>
                    <a:pt x="1453" y="294"/>
                  </a:cubicBezTo>
                  <a:cubicBezTo>
                    <a:pt x="1466" y="298"/>
                    <a:pt x="1474" y="312"/>
                    <a:pt x="1470" y="326"/>
                  </a:cubicBezTo>
                  <a:lnTo>
                    <a:pt x="51" y="4916"/>
                  </a:lnTo>
                  <a:cubicBezTo>
                    <a:pt x="47" y="4929"/>
                    <a:pt x="33" y="4936"/>
                    <a:pt x="20" y="4932"/>
                  </a:cubicBezTo>
                  <a:cubicBezTo>
                    <a:pt x="7" y="4928"/>
                    <a:pt x="0" y="4914"/>
                    <a:pt x="4" y="4901"/>
                  </a:cubicBezTo>
                  <a:close/>
                  <a:moveTo>
                    <a:pt x="1235" y="323"/>
                  </a:moveTo>
                  <a:lnTo>
                    <a:pt x="1544" y="0"/>
                  </a:lnTo>
                  <a:lnTo>
                    <a:pt x="1617" y="441"/>
                  </a:lnTo>
                  <a:lnTo>
                    <a:pt x="1235" y="32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85"/>
            <p:cNvSpPr/>
            <p:nvPr/>
          </p:nvSpPr>
          <p:spPr>
            <a:xfrm>
              <a:off x="2600280" y="4802760"/>
              <a:ext cx="657360" cy="352080"/>
            </a:xfrm>
            <a:custGeom>
              <a:avLst/>
              <a:gdLst>
                <a:gd name="textAreaLeft" fmla="*/ 0 w 657360"/>
                <a:gd name="textAreaRight" fmla="*/ 657720 w 657360"/>
                <a:gd name="textAreaTop" fmla="*/ 0 h 352080"/>
                <a:gd name="textAreaBottom" fmla="*/ 352440 h 352080"/>
              </a:gdLst>
              <a:ahLst/>
              <a:rect l="textAreaLeft" t="textAreaTop" r="textAreaRight" b="textAreaBottom"/>
              <a:pathLst>
                <a:path w="3437" h="2295">
                  <a:moveTo>
                    <a:pt x="3422" y="50"/>
                  </a:moveTo>
                  <a:lnTo>
                    <a:pt x="292" y="2132"/>
                  </a:lnTo>
                  <a:cubicBezTo>
                    <a:pt x="280" y="2139"/>
                    <a:pt x="265" y="2136"/>
                    <a:pt x="257" y="2125"/>
                  </a:cubicBezTo>
                  <a:cubicBezTo>
                    <a:pt x="249" y="2113"/>
                    <a:pt x="252" y="2098"/>
                    <a:pt x="264" y="2090"/>
                  </a:cubicBezTo>
                  <a:lnTo>
                    <a:pt x="3395" y="8"/>
                  </a:lnTo>
                  <a:cubicBezTo>
                    <a:pt x="3406" y="0"/>
                    <a:pt x="3422" y="3"/>
                    <a:pt x="3429" y="15"/>
                  </a:cubicBezTo>
                  <a:cubicBezTo>
                    <a:pt x="3437" y="26"/>
                    <a:pt x="3434" y="42"/>
                    <a:pt x="3422" y="50"/>
                  </a:cubicBezTo>
                  <a:close/>
                  <a:moveTo>
                    <a:pt x="444" y="2240"/>
                  </a:moveTo>
                  <a:lnTo>
                    <a:pt x="0" y="2295"/>
                  </a:lnTo>
                  <a:lnTo>
                    <a:pt x="222" y="1907"/>
                  </a:lnTo>
                  <a:lnTo>
                    <a:pt x="444" y="224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86"/>
            <p:cNvSpPr/>
            <p:nvPr/>
          </p:nvSpPr>
          <p:spPr>
            <a:xfrm>
              <a:off x="5413320" y="3759840"/>
              <a:ext cx="1017720" cy="527040"/>
            </a:xfrm>
            <a:custGeom>
              <a:avLst/>
              <a:gdLst>
                <a:gd name="textAreaLeft" fmla="*/ 0 w 1017720"/>
                <a:gd name="textAreaRight" fmla="*/ 1018080 w 1017720"/>
                <a:gd name="textAreaTop" fmla="*/ 0 h 527040"/>
                <a:gd name="textAreaBottom" fmla="*/ 527400 h 527040"/>
              </a:gdLst>
              <a:ahLst/>
              <a:rect l="textAreaLeft" t="textAreaTop" r="textAreaRight" b="textAreaBottom"/>
              <a:pathLst>
                <a:path w="2660" h="1714">
                  <a:moveTo>
                    <a:pt x="7" y="1690"/>
                  </a:moveTo>
                  <a:lnTo>
                    <a:pt x="2513" y="80"/>
                  </a:lnTo>
                  <a:cubicBezTo>
                    <a:pt x="2519" y="76"/>
                    <a:pt x="2527" y="78"/>
                    <a:pt x="2530" y="83"/>
                  </a:cubicBezTo>
                  <a:cubicBezTo>
                    <a:pt x="2534" y="89"/>
                    <a:pt x="2532" y="97"/>
                    <a:pt x="2527" y="101"/>
                  </a:cubicBezTo>
                  <a:lnTo>
                    <a:pt x="21" y="1711"/>
                  </a:lnTo>
                  <a:cubicBezTo>
                    <a:pt x="15" y="1714"/>
                    <a:pt x="7" y="1713"/>
                    <a:pt x="4" y="1707"/>
                  </a:cubicBezTo>
                  <a:cubicBezTo>
                    <a:pt x="0" y="1701"/>
                    <a:pt x="2" y="1693"/>
                    <a:pt x="7" y="1690"/>
                  </a:cubicBezTo>
                  <a:close/>
                  <a:moveTo>
                    <a:pt x="2438" y="24"/>
                  </a:moveTo>
                  <a:lnTo>
                    <a:pt x="2660" y="0"/>
                  </a:lnTo>
                  <a:lnTo>
                    <a:pt x="2546" y="192"/>
                  </a:lnTo>
                  <a:lnTo>
                    <a:pt x="2438" y="24"/>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87"/>
            <p:cNvSpPr/>
            <p:nvPr/>
          </p:nvSpPr>
          <p:spPr>
            <a:xfrm>
              <a:off x="5413320" y="4685400"/>
              <a:ext cx="946080" cy="300960"/>
            </a:xfrm>
            <a:custGeom>
              <a:avLst/>
              <a:gdLst>
                <a:gd name="textAreaLeft" fmla="*/ 0 w 946080"/>
                <a:gd name="textAreaRight" fmla="*/ 946440 w 946080"/>
                <a:gd name="textAreaTop" fmla="*/ 0 h 300960"/>
                <a:gd name="textAreaBottom" fmla="*/ 301320 h 300960"/>
              </a:gdLst>
              <a:ahLst/>
              <a:rect l="textAreaLeft" t="textAreaTop" r="textAreaRight" b="textAreaBottom"/>
              <a:pathLst>
                <a:path w="2472" h="981">
                  <a:moveTo>
                    <a:pt x="19" y="2"/>
                  </a:moveTo>
                  <a:lnTo>
                    <a:pt x="2321" y="888"/>
                  </a:lnTo>
                  <a:cubicBezTo>
                    <a:pt x="2328" y="891"/>
                    <a:pt x="2331" y="898"/>
                    <a:pt x="2329" y="904"/>
                  </a:cubicBezTo>
                  <a:cubicBezTo>
                    <a:pt x="2326" y="911"/>
                    <a:pt x="2319" y="914"/>
                    <a:pt x="2312" y="912"/>
                  </a:cubicBezTo>
                  <a:lnTo>
                    <a:pt x="10" y="26"/>
                  </a:lnTo>
                  <a:cubicBezTo>
                    <a:pt x="3" y="23"/>
                    <a:pt x="0" y="16"/>
                    <a:pt x="2" y="9"/>
                  </a:cubicBezTo>
                  <a:cubicBezTo>
                    <a:pt x="5" y="3"/>
                    <a:pt x="12" y="0"/>
                    <a:pt x="19" y="2"/>
                  </a:cubicBezTo>
                  <a:close/>
                  <a:moveTo>
                    <a:pt x="2322" y="795"/>
                  </a:moveTo>
                  <a:lnTo>
                    <a:pt x="2472" y="960"/>
                  </a:lnTo>
                  <a:lnTo>
                    <a:pt x="2250" y="981"/>
                  </a:lnTo>
                  <a:lnTo>
                    <a:pt x="2322" y="795"/>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8"/>
            <p:cNvSpPr/>
            <p:nvPr/>
          </p:nvSpPr>
          <p:spPr>
            <a:xfrm>
              <a:off x="2505240" y="5601960"/>
              <a:ext cx="2038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o what?</a:t>
              </a:r>
              <a:endParaRPr b="0" lang="en-US" sz="3600" spc="-1" strike="noStrike">
                <a:solidFill>
                  <a:srgbClr val="000000"/>
                </a:solidFill>
                <a:latin typeface="Arial"/>
              </a:endParaRPr>
            </a:p>
          </p:txBody>
        </p:sp>
        <p:sp>
          <p:nvSpPr>
            <p:cNvPr id="235" name="Rectangle 89"/>
            <p:cNvSpPr/>
            <p:nvPr/>
          </p:nvSpPr>
          <p:spPr>
            <a:xfrm>
              <a:off x="1003680" y="5216400"/>
              <a:ext cx="159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at next?</a:t>
              </a:r>
              <a:endParaRPr b="0" lang="en-US" sz="2400" spc="-1" strike="noStrike">
                <a:solidFill>
                  <a:srgbClr val="000000"/>
                </a:solidFill>
                <a:latin typeface="Arial"/>
              </a:endParaRPr>
            </a:p>
          </p:txBody>
        </p:sp>
        <p:sp>
          <p:nvSpPr>
            <p:cNvPr id="236" name="Freeform 90"/>
            <p:cNvSpPr/>
            <p:nvPr/>
          </p:nvSpPr>
          <p:spPr>
            <a:xfrm>
              <a:off x="3814920" y="4917600"/>
              <a:ext cx="236520" cy="587160"/>
            </a:xfrm>
            <a:custGeom>
              <a:avLst/>
              <a:gdLst>
                <a:gd name="textAreaLeft" fmla="*/ 0 w 236520"/>
                <a:gd name="textAreaRight" fmla="*/ 236880 w 236520"/>
                <a:gd name="textAreaTop" fmla="*/ 0 h 587160"/>
                <a:gd name="textAreaBottom" fmla="*/ 587520 h 587160"/>
              </a:gdLst>
              <a:ahLst/>
              <a:rect l="textAreaLeft" t="textAreaTop" r="textAreaRight" b="textAreaBottom"/>
              <a:pathLst>
                <a:path w="1238" h="3819">
                  <a:moveTo>
                    <a:pt x="1234" y="35"/>
                  </a:moveTo>
                  <a:lnTo>
                    <a:pt x="197" y="3507"/>
                  </a:lnTo>
                  <a:cubicBezTo>
                    <a:pt x="193" y="3520"/>
                    <a:pt x="179" y="3528"/>
                    <a:pt x="165" y="3524"/>
                  </a:cubicBezTo>
                  <a:cubicBezTo>
                    <a:pt x="152" y="3520"/>
                    <a:pt x="145" y="3506"/>
                    <a:pt x="149" y="3493"/>
                  </a:cubicBezTo>
                  <a:lnTo>
                    <a:pt x="1187" y="21"/>
                  </a:lnTo>
                  <a:cubicBezTo>
                    <a:pt x="1190" y="7"/>
                    <a:pt x="1204" y="0"/>
                    <a:pt x="1218" y="4"/>
                  </a:cubicBezTo>
                  <a:cubicBezTo>
                    <a:pt x="1231" y="8"/>
                    <a:pt x="1238" y="22"/>
                    <a:pt x="1234" y="35"/>
                  </a:cubicBezTo>
                  <a:close/>
                  <a:moveTo>
                    <a:pt x="383" y="3493"/>
                  </a:moveTo>
                  <a:lnTo>
                    <a:pt x="77" y="3819"/>
                  </a:lnTo>
                  <a:lnTo>
                    <a:pt x="0" y="3379"/>
                  </a:lnTo>
                  <a:lnTo>
                    <a:pt x="383" y="349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91"/>
            <p:cNvSpPr/>
            <p:nvPr/>
          </p:nvSpPr>
          <p:spPr>
            <a:xfrm>
              <a:off x="4835520" y="4861440"/>
              <a:ext cx="378000" cy="746640"/>
            </a:xfrm>
            <a:custGeom>
              <a:avLst/>
              <a:gdLst>
                <a:gd name="textAreaLeft" fmla="*/ 0 w 378000"/>
                <a:gd name="textAreaRight" fmla="*/ 378360 w 378000"/>
                <a:gd name="textAreaTop" fmla="*/ 0 h 746640"/>
                <a:gd name="textAreaBottom" fmla="*/ 747000 h 746640"/>
              </a:gdLst>
              <a:ahLst/>
              <a:rect l="textAreaLeft" t="textAreaTop" r="textAreaRight" b="textAreaBottom"/>
              <a:pathLst>
                <a:path w="1984" h="4853">
                  <a:moveTo>
                    <a:pt x="52" y="19"/>
                  </a:moveTo>
                  <a:lnTo>
                    <a:pt x="1846" y="4534"/>
                  </a:lnTo>
                  <a:cubicBezTo>
                    <a:pt x="1851" y="4547"/>
                    <a:pt x="1844" y="4561"/>
                    <a:pt x="1832" y="4567"/>
                  </a:cubicBezTo>
                  <a:cubicBezTo>
                    <a:pt x="1819" y="4572"/>
                    <a:pt x="1804" y="4565"/>
                    <a:pt x="1799" y="4553"/>
                  </a:cubicBezTo>
                  <a:lnTo>
                    <a:pt x="6" y="37"/>
                  </a:lnTo>
                  <a:cubicBezTo>
                    <a:pt x="0" y="25"/>
                    <a:pt x="7" y="10"/>
                    <a:pt x="20" y="5"/>
                  </a:cubicBezTo>
                  <a:cubicBezTo>
                    <a:pt x="32" y="0"/>
                    <a:pt x="47" y="6"/>
                    <a:pt x="52" y="19"/>
                  </a:cubicBezTo>
                  <a:close/>
                  <a:moveTo>
                    <a:pt x="1984" y="4408"/>
                  </a:moveTo>
                  <a:lnTo>
                    <a:pt x="1945" y="4853"/>
                  </a:lnTo>
                  <a:lnTo>
                    <a:pt x="1612" y="4555"/>
                  </a:lnTo>
                  <a:lnTo>
                    <a:pt x="1984" y="440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92"/>
            <p:cNvSpPr/>
            <p:nvPr/>
          </p:nvSpPr>
          <p:spPr>
            <a:xfrm>
              <a:off x="5244480" y="6667560"/>
              <a:ext cx="296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arning Development   University of Plymouth</a:t>
              </a:r>
              <a:endParaRPr b="0" lang="en-US" sz="1200" spc="-1" strike="noStrike">
                <a:solidFill>
                  <a:srgbClr val="000000"/>
                </a:solidFill>
                <a:latin typeface="Arial"/>
              </a:endParaRPr>
            </a:p>
          </p:txBody>
        </p:sp>
        <p:sp>
          <p:nvSpPr>
            <p:cNvPr id="239" name="Freeform 94"/>
            <p:cNvSpPr/>
            <p:nvPr/>
          </p:nvSpPr>
          <p:spPr>
            <a:xfrm>
              <a:off x="2952720" y="4488480"/>
              <a:ext cx="5345280" cy="2010240"/>
            </a:xfrm>
            <a:custGeom>
              <a:avLst/>
              <a:gdLst>
                <a:gd name="textAreaLeft" fmla="*/ 0 w 5345280"/>
                <a:gd name="textAreaRight" fmla="*/ 5345640 w 5345280"/>
                <a:gd name="textAreaTop" fmla="*/ 0 h 2010240"/>
                <a:gd name="textAreaBottom" fmla="*/ 2010600 h 2010240"/>
              </a:gdLst>
              <a:ahLst/>
              <a:rect l="textAreaLeft" t="textAreaTop" r="textAreaRight" b="textAreaBottom"/>
              <a:pathLst>
                <a:path w="13972" h="6534">
                  <a:moveTo>
                    <a:pt x="13972" y="29"/>
                  </a:moveTo>
                  <a:lnTo>
                    <a:pt x="13870" y="495"/>
                  </a:lnTo>
                  <a:lnTo>
                    <a:pt x="13765" y="959"/>
                  </a:lnTo>
                  <a:lnTo>
                    <a:pt x="13655" y="1419"/>
                  </a:lnTo>
                  <a:lnTo>
                    <a:pt x="13537" y="1873"/>
                  </a:lnTo>
                  <a:lnTo>
                    <a:pt x="13474" y="2098"/>
                  </a:lnTo>
                  <a:lnTo>
                    <a:pt x="13408" y="2320"/>
                  </a:lnTo>
                  <a:lnTo>
                    <a:pt x="13339" y="2539"/>
                  </a:lnTo>
                  <a:lnTo>
                    <a:pt x="13267" y="2755"/>
                  </a:lnTo>
                  <a:lnTo>
                    <a:pt x="13190" y="2969"/>
                  </a:lnTo>
                  <a:lnTo>
                    <a:pt x="13109" y="3178"/>
                  </a:lnTo>
                  <a:lnTo>
                    <a:pt x="13023" y="3385"/>
                  </a:lnTo>
                  <a:lnTo>
                    <a:pt x="12933" y="3587"/>
                  </a:lnTo>
                  <a:lnTo>
                    <a:pt x="12837" y="3785"/>
                  </a:lnTo>
                  <a:lnTo>
                    <a:pt x="12735" y="3979"/>
                  </a:lnTo>
                  <a:lnTo>
                    <a:pt x="12627" y="4167"/>
                  </a:lnTo>
                  <a:lnTo>
                    <a:pt x="12514" y="4351"/>
                  </a:lnTo>
                  <a:lnTo>
                    <a:pt x="12393" y="4529"/>
                  </a:lnTo>
                  <a:lnTo>
                    <a:pt x="12266" y="4702"/>
                  </a:lnTo>
                  <a:lnTo>
                    <a:pt x="12131" y="4869"/>
                  </a:lnTo>
                  <a:lnTo>
                    <a:pt x="11988" y="5029"/>
                  </a:lnTo>
                  <a:lnTo>
                    <a:pt x="11838" y="5183"/>
                  </a:lnTo>
                  <a:lnTo>
                    <a:pt x="11679" y="5330"/>
                  </a:lnTo>
                  <a:lnTo>
                    <a:pt x="11511" y="5471"/>
                  </a:lnTo>
                  <a:lnTo>
                    <a:pt x="11334" y="5603"/>
                  </a:lnTo>
                  <a:lnTo>
                    <a:pt x="11149" y="5728"/>
                  </a:lnTo>
                  <a:lnTo>
                    <a:pt x="10954" y="5845"/>
                  </a:lnTo>
                  <a:lnTo>
                    <a:pt x="10749" y="5954"/>
                  </a:lnTo>
                  <a:lnTo>
                    <a:pt x="10534" y="6054"/>
                  </a:lnTo>
                  <a:lnTo>
                    <a:pt x="10301" y="6144"/>
                  </a:lnTo>
                  <a:lnTo>
                    <a:pt x="10045" y="6224"/>
                  </a:lnTo>
                  <a:lnTo>
                    <a:pt x="9769" y="6293"/>
                  </a:lnTo>
                  <a:lnTo>
                    <a:pt x="9473" y="6352"/>
                  </a:lnTo>
                  <a:lnTo>
                    <a:pt x="9161" y="6402"/>
                  </a:lnTo>
                  <a:lnTo>
                    <a:pt x="8834" y="6443"/>
                  </a:lnTo>
                  <a:lnTo>
                    <a:pt x="8492" y="6475"/>
                  </a:lnTo>
                  <a:lnTo>
                    <a:pt x="8138" y="6500"/>
                  </a:lnTo>
                  <a:lnTo>
                    <a:pt x="7772" y="6518"/>
                  </a:lnTo>
                  <a:lnTo>
                    <a:pt x="7397" y="6529"/>
                  </a:lnTo>
                  <a:lnTo>
                    <a:pt x="7015" y="6534"/>
                  </a:lnTo>
                  <a:lnTo>
                    <a:pt x="6626" y="6533"/>
                  </a:lnTo>
                  <a:lnTo>
                    <a:pt x="5836" y="6517"/>
                  </a:lnTo>
                  <a:lnTo>
                    <a:pt x="5039" y="6484"/>
                  </a:lnTo>
                  <a:lnTo>
                    <a:pt x="4250" y="6439"/>
                  </a:lnTo>
                  <a:lnTo>
                    <a:pt x="3861" y="6412"/>
                  </a:lnTo>
                  <a:lnTo>
                    <a:pt x="3480" y="6385"/>
                  </a:lnTo>
                  <a:lnTo>
                    <a:pt x="3106" y="6356"/>
                  </a:lnTo>
                  <a:lnTo>
                    <a:pt x="2742" y="6327"/>
                  </a:lnTo>
                  <a:lnTo>
                    <a:pt x="2390" y="6297"/>
                  </a:lnTo>
                  <a:lnTo>
                    <a:pt x="2050" y="6268"/>
                  </a:lnTo>
                  <a:lnTo>
                    <a:pt x="1726" y="6240"/>
                  </a:lnTo>
                  <a:lnTo>
                    <a:pt x="1417" y="6213"/>
                  </a:lnTo>
                  <a:lnTo>
                    <a:pt x="1126" y="6188"/>
                  </a:lnTo>
                  <a:lnTo>
                    <a:pt x="854" y="6165"/>
                  </a:lnTo>
                  <a:lnTo>
                    <a:pt x="604" y="6146"/>
                  </a:lnTo>
                  <a:lnTo>
                    <a:pt x="377" y="6130"/>
                  </a:lnTo>
                  <a:lnTo>
                    <a:pt x="173" y="6118"/>
                  </a:lnTo>
                  <a:lnTo>
                    <a:pt x="130" y="6116"/>
                  </a:lnTo>
                  <a:lnTo>
                    <a:pt x="136" y="5982"/>
                  </a:lnTo>
                  <a:lnTo>
                    <a:pt x="182" y="5984"/>
                  </a:lnTo>
                  <a:lnTo>
                    <a:pt x="386" y="5997"/>
                  </a:lnTo>
                  <a:lnTo>
                    <a:pt x="615" y="6013"/>
                  </a:lnTo>
                  <a:lnTo>
                    <a:pt x="865" y="6033"/>
                  </a:lnTo>
                  <a:lnTo>
                    <a:pt x="1137" y="6055"/>
                  </a:lnTo>
                  <a:lnTo>
                    <a:pt x="1428" y="6080"/>
                  </a:lnTo>
                  <a:lnTo>
                    <a:pt x="1737" y="6107"/>
                  </a:lnTo>
                  <a:lnTo>
                    <a:pt x="2062" y="6135"/>
                  </a:lnTo>
                  <a:lnTo>
                    <a:pt x="2401" y="6165"/>
                  </a:lnTo>
                  <a:lnTo>
                    <a:pt x="2753" y="6194"/>
                  </a:lnTo>
                  <a:lnTo>
                    <a:pt x="3116" y="6223"/>
                  </a:lnTo>
                  <a:lnTo>
                    <a:pt x="3489" y="6252"/>
                  </a:lnTo>
                  <a:lnTo>
                    <a:pt x="3870" y="6279"/>
                  </a:lnTo>
                  <a:lnTo>
                    <a:pt x="4257" y="6305"/>
                  </a:lnTo>
                  <a:lnTo>
                    <a:pt x="5045" y="6351"/>
                  </a:lnTo>
                  <a:lnTo>
                    <a:pt x="5838" y="6383"/>
                  </a:lnTo>
                  <a:lnTo>
                    <a:pt x="6626" y="6400"/>
                  </a:lnTo>
                  <a:lnTo>
                    <a:pt x="7013" y="6400"/>
                  </a:lnTo>
                  <a:lnTo>
                    <a:pt x="7394" y="6396"/>
                  </a:lnTo>
                  <a:lnTo>
                    <a:pt x="7766" y="6385"/>
                  </a:lnTo>
                  <a:lnTo>
                    <a:pt x="8128" y="6367"/>
                  </a:lnTo>
                  <a:lnTo>
                    <a:pt x="8480" y="6343"/>
                  </a:lnTo>
                  <a:lnTo>
                    <a:pt x="8817" y="6310"/>
                  </a:lnTo>
                  <a:lnTo>
                    <a:pt x="9140" y="6270"/>
                  </a:lnTo>
                  <a:lnTo>
                    <a:pt x="9447" y="6221"/>
                  </a:lnTo>
                  <a:lnTo>
                    <a:pt x="9736" y="6164"/>
                  </a:lnTo>
                  <a:lnTo>
                    <a:pt x="10005" y="6097"/>
                  </a:lnTo>
                  <a:lnTo>
                    <a:pt x="10252" y="6020"/>
                  </a:lnTo>
                  <a:lnTo>
                    <a:pt x="10477" y="5933"/>
                  </a:lnTo>
                  <a:lnTo>
                    <a:pt x="10686" y="5836"/>
                  </a:lnTo>
                  <a:lnTo>
                    <a:pt x="10885" y="5731"/>
                  </a:lnTo>
                  <a:lnTo>
                    <a:pt x="11075" y="5618"/>
                  </a:lnTo>
                  <a:lnTo>
                    <a:pt x="11254" y="5497"/>
                  </a:lnTo>
                  <a:lnTo>
                    <a:pt x="11426" y="5368"/>
                  </a:lnTo>
                  <a:lnTo>
                    <a:pt x="11588" y="5233"/>
                  </a:lnTo>
                  <a:lnTo>
                    <a:pt x="11742" y="5090"/>
                  </a:lnTo>
                  <a:lnTo>
                    <a:pt x="11889" y="4941"/>
                  </a:lnTo>
                  <a:lnTo>
                    <a:pt x="12027" y="4785"/>
                  </a:lnTo>
                  <a:lnTo>
                    <a:pt x="12158" y="4623"/>
                  </a:lnTo>
                  <a:lnTo>
                    <a:pt x="12283" y="4455"/>
                  </a:lnTo>
                  <a:lnTo>
                    <a:pt x="12400" y="4281"/>
                  </a:lnTo>
                  <a:lnTo>
                    <a:pt x="12512" y="4101"/>
                  </a:lnTo>
                  <a:lnTo>
                    <a:pt x="12617" y="3916"/>
                  </a:lnTo>
                  <a:lnTo>
                    <a:pt x="12717" y="3727"/>
                  </a:lnTo>
                  <a:lnTo>
                    <a:pt x="12811" y="3533"/>
                  </a:lnTo>
                  <a:lnTo>
                    <a:pt x="12900" y="3333"/>
                  </a:lnTo>
                  <a:lnTo>
                    <a:pt x="12984" y="3130"/>
                  </a:lnTo>
                  <a:lnTo>
                    <a:pt x="13064" y="2923"/>
                  </a:lnTo>
                  <a:lnTo>
                    <a:pt x="13140" y="2713"/>
                  </a:lnTo>
                  <a:lnTo>
                    <a:pt x="13212" y="2499"/>
                  </a:lnTo>
                  <a:lnTo>
                    <a:pt x="13281" y="2282"/>
                  </a:lnTo>
                  <a:lnTo>
                    <a:pt x="13346" y="2062"/>
                  </a:lnTo>
                  <a:lnTo>
                    <a:pt x="13408" y="1840"/>
                  </a:lnTo>
                  <a:lnTo>
                    <a:pt x="13525" y="1388"/>
                  </a:lnTo>
                  <a:lnTo>
                    <a:pt x="13635" y="929"/>
                  </a:lnTo>
                  <a:lnTo>
                    <a:pt x="13739" y="466"/>
                  </a:lnTo>
                  <a:lnTo>
                    <a:pt x="13841" y="0"/>
                  </a:lnTo>
                  <a:lnTo>
                    <a:pt x="13972" y="29"/>
                  </a:lnTo>
                  <a:close/>
                  <a:moveTo>
                    <a:pt x="486" y="6356"/>
                  </a:moveTo>
                  <a:lnTo>
                    <a:pt x="0" y="6043"/>
                  </a:lnTo>
                  <a:lnTo>
                    <a:pt x="512" y="5775"/>
                  </a:lnTo>
                  <a:cubicBezTo>
                    <a:pt x="544" y="5758"/>
                    <a:pt x="585" y="5770"/>
                    <a:pt x="602" y="5803"/>
                  </a:cubicBezTo>
                  <a:cubicBezTo>
                    <a:pt x="619" y="5835"/>
                    <a:pt x="606" y="5876"/>
                    <a:pt x="574" y="5893"/>
                  </a:cubicBezTo>
                  <a:lnTo>
                    <a:pt x="164" y="6108"/>
                  </a:lnTo>
                  <a:lnTo>
                    <a:pt x="169" y="5993"/>
                  </a:lnTo>
                  <a:lnTo>
                    <a:pt x="558" y="6244"/>
                  </a:lnTo>
                  <a:cubicBezTo>
                    <a:pt x="589" y="6264"/>
                    <a:pt x="598" y="6305"/>
                    <a:pt x="578" y="6336"/>
                  </a:cubicBezTo>
                  <a:cubicBezTo>
                    <a:pt x="558" y="6367"/>
                    <a:pt x="517" y="6376"/>
                    <a:pt x="486" y="6356"/>
                  </a:cubicBezTo>
                  <a:close/>
                </a:path>
              </a:pathLst>
            </a:custGeom>
            <a:solidFill>
              <a:srgbClr val="9b9bbb"/>
            </a:solidFill>
            <a:ln w="1440">
              <a:solidFill>
                <a:srgbClr val="9b9bb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95"/>
            <p:cNvSpPr/>
            <p:nvPr/>
          </p:nvSpPr>
          <p:spPr>
            <a:xfrm>
              <a:off x="3495600" y="2292120"/>
              <a:ext cx="4980240" cy="1264680"/>
            </a:xfrm>
            <a:custGeom>
              <a:avLst/>
              <a:gdLst>
                <a:gd name="textAreaLeft" fmla="*/ 0 w 4980240"/>
                <a:gd name="textAreaRight" fmla="*/ 4980600 w 4980240"/>
                <a:gd name="textAreaTop" fmla="*/ 0 h 1264680"/>
                <a:gd name="textAreaBottom" fmla="*/ 1265040 h 1264680"/>
              </a:gdLst>
              <a:ahLst/>
              <a:rect l="textAreaLeft" t="textAreaTop" r="textAreaRight" b="textAreaBottom"/>
              <a:pathLst>
                <a:path w="13020" h="4108">
                  <a:moveTo>
                    <a:pt x="0" y="479"/>
                  </a:moveTo>
                  <a:lnTo>
                    <a:pt x="1725" y="337"/>
                  </a:lnTo>
                  <a:lnTo>
                    <a:pt x="2578" y="270"/>
                  </a:lnTo>
                  <a:lnTo>
                    <a:pt x="3421" y="207"/>
                  </a:lnTo>
                  <a:lnTo>
                    <a:pt x="4248" y="150"/>
                  </a:lnTo>
                  <a:lnTo>
                    <a:pt x="5058" y="100"/>
                  </a:lnTo>
                  <a:lnTo>
                    <a:pt x="5846" y="59"/>
                  </a:lnTo>
                  <a:lnTo>
                    <a:pt x="6609" y="27"/>
                  </a:lnTo>
                  <a:lnTo>
                    <a:pt x="6979" y="16"/>
                  </a:lnTo>
                  <a:lnTo>
                    <a:pt x="7342" y="7"/>
                  </a:lnTo>
                  <a:lnTo>
                    <a:pt x="7697" y="2"/>
                  </a:lnTo>
                  <a:lnTo>
                    <a:pt x="8043" y="0"/>
                  </a:lnTo>
                  <a:lnTo>
                    <a:pt x="8380" y="2"/>
                  </a:lnTo>
                  <a:lnTo>
                    <a:pt x="8708" y="8"/>
                  </a:lnTo>
                  <a:lnTo>
                    <a:pt x="9025" y="17"/>
                  </a:lnTo>
                  <a:lnTo>
                    <a:pt x="9333" y="31"/>
                  </a:lnTo>
                  <a:lnTo>
                    <a:pt x="9629" y="48"/>
                  </a:lnTo>
                  <a:lnTo>
                    <a:pt x="9914" y="71"/>
                  </a:lnTo>
                  <a:lnTo>
                    <a:pt x="10187" y="98"/>
                  </a:lnTo>
                  <a:lnTo>
                    <a:pt x="10448" y="130"/>
                  </a:lnTo>
                  <a:lnTo>
                    <a:pt x="10697" y="167"/>
                  </a:lnTo>
                  <a:lnTo>
                    <a:pt x="10932" y="209"/>
                  </a:lnTo>
                  <a:lnTo>
                    <a:pt x="11154" y="257"/>
                  </a:lnTo>
                  <a:lnTo>
                    <a:pt x="11363" y="310"/>
                  </a:lnTo>
                  <a:lnTo>
                    <a:pt x="11462" y="341"/>
                  </a:lnTo>
                  <a:lnTo>
                    <a:pt x="11558" y="373"/>
                  </a:lnTo>
                  <a:lnTo>
                    <a:pt x="11649" y="409"/>
                  </a:lnTo>
                  <a:lnTo>
                    <a:pt x="11737" y="448"/>
                  </a:lnTo>
                  <a:lnTo>
                    <a:pt x="11820" y="489"/>
                  </a:lnTo>
                  <a:lnTo>
                    <a:pt x="11900" y="533"/>
                  </a:lnTo>
                  <a:lnTo>
                    <a:pt x="11975" y="580"/>
                  </a:lnTo>
                  <a:lnTo>
                    <a:pt x="12048" y="629"/>
                  </a:lnTo>
                  <a:lnTo>
                    <a:pt x="12116" y="680"/>
                  </a:lnTo>
                  <a:lnTo>
                    <a:pt x="12181" y="734"/>
                  </a:lnTo>
                  <a:lnTo>
                    <a:pt x="12243" y="789"/>
                  </a:lnTo>
                  <a:lnTo>
                    <a:pt x="12301" y="847"/>
                  </a:lnTo>
                  <a:lnTo>
                    <a:pt x="12355" y="907"/>
                  </a:lnTo>
                  <a:lnTo>
                    <a:pt x="12407" y="968"/>
                  </a:lnTo>
                  <a:lnTo>
                    <a:pt x="12455" y="1031"/>
                  </a:lnTo>
                  <a:lnTo>
                    <a:pt x="12500" y="1095"/>
                  </a:lnTo>
                  <a:lnTo>
                    <a:pt x="12580" y="1228"/>
                  </a:lnTo>
                  <a:lnTo>
                    <a:pt x="12650" y="1367"/>
                  </a:lnTo>
                  <a:lnTo>
                    <a:pt x="12709" y="1509"/>
                  </a:lnTo>
                  <a:lnTo>
                    <a:pt x="12758" y="1655"/>
                  </a:lnTo>
                  <a:lnTo>
                    <a:pt x="12797" y="1803"/>
                  </a:lnTo>
                  <a:lnTo>
                    <a:pt x="12829" y="1954"/>
                  </a:lnTo>
                  <a:lnTo>
                    <a:pt x="12852" y="2105"/>
                  </a:lnTo>
                  <a:lnTo>
                    <a:pt x="12869" y="2257"/>
                  </a:lnTo>
                  <a:lnTo>
                    <a:pt x="12879" y="2407"/>
                  </a:lnTo>
                  <a:lnTo>
                    <a:pt x="12884" y="2557"/>
                  </a:lnTo>
                  <a:lnTo>
                    <a:pt x="12884" y="2705"/>
                  </a:lnTo>
                  <a:lnTo>
                    <a:pt x="12880" y="2851"/>
                  </a:lnTo>
                  <a:lnTo>
                    <a:pt x="12873" y="2993"/>
                  </a:lnTo>
                  <a:lnTo>
                    <a:pt x="12862" y="3130"/>
                  </a:lnTo>
                  <a:lnTo>
                    <a:pt x="12851" y="3263"/>
                  </a:lnTo>
                  <a:lnTo>
                    <a:pt x="12837" y="3390"/>
                  </a:lnTo>
                  <a:lnTo>
                    <a:pt x="12824" y="3511"/>
                  </a:lnTo>
                  <a:lnTo>
                    <a:pt x="12810" y="3625"/>
                  </a:lnTo>
                  <a:lnTo>
                    <a:pt x="12797" y="3730"/>
                  </a:lnTo>
                  <a:lnTo>
                    <a:pt x="12786" y="3827"/>
                  </a:lnTo>
                  <a:lnTo>
                    <a:pt x="12777" y="3914"/>
                  </a:lnTo>
                  <a:lnTo>
                    <a:pt x="12771" y="3982"/>
                  </a:lnTo>
                  <a:lnTo>
                    <a:pt x="12638" y="3971"/>
                  </a:lnTo>
                  <a:lnTo>
                    <a:pt x="12644" y="3901"/>
                  </a:lnTo>
                  <a:lnTo>
                    <a:pt x="12653" y="3812"/>
                  </a:lnTo>
                  <a:lnTo>
                    <a:pt x="12665" y="3714"/>
                  </a:lnTo>
                  <a:lnTo>
                    <a:pt x="12677" y="3608"/>
                  </a:lnTo>
                  <a:lnTo>
                    <a:pt x="12691" y="3496"/>
                  </a:lnTo>
                  <a:lnTo>
                    <a:pt x="12705" y="3376"/>
                  </a:lnTo>
                  <a:lnTo>
                    <a:pt x="12718" y="3251"/>
                  </a:lnTo>
                  <a:lnTo>
                    <a:pt x="12729" y="3121"/>
                  </a:lnTo>
                  <a:lnTo>
                    <a:pt x="12739" y="2985"/>
                  </a:lnTo>
                  <a:lnTo>
                    <a:pt x="12747" y="2847"/>
                  </a:lnTo>
                  <a:lnTo>
                    <a:pt x="12751" y="2705"/>
                  </a:lnTo>
                  <a:lnTo>
                    <a:pt x="12751" y="2562"/>
                  </a:lnTo>
                  <a:lnTo>
                    <a:pt x="12746" y="2416"/>
                  </a:lnTo>
                  <a:lnTo>
                    <a:pt x="12736" y="2271"/>
                  </a:lnTo>
                  <a:lnTo>
                    <a:pt x="12721" y="2126"/>
                  </a:lnTo>
                  <a:lnTo>
                    <a:pt x="12698" y="1981"/>
                  </a:lnTo>
                  <a:lnTo>
                    <a:pt x="12669" y="1838"/>
                  </a:lnTo>
                  <a:lnTo>
                    <a:pt x="12631" y="1697"/>
                  </a:lnTo>
                  <a:lnTo>
                    <a:pt x="12585" y="1560"/>
                  </a:lnTo>
                  <a:lnTo>
                    <a:pt x="12530" y="1426"/>
                  </a:lnTo>
                  <a:lnTo>
                    <a:pt x="12466" y="1297"/>
                  </a:lnTo>
                  <a:lnTo>
                    <a:pt x="12390" y="1171"/>
                  </a:lnTo>
                  <a:lnTo>
                    <a:pt x="12349" y="1112"/>
                  </a:lnTo>
                  <a:lnTo>
                    <a:pt x="12304" y="1053"/>
                  </a:lnTo>
                  <a:lnTo>
                    <a:pt x="12257" y="996"/>
                  </a:lnTo>
                  <a:lnTo>
                    <a:pt x="12206" y="941"/>
                  </a:lnTo>
                  <a:lnTo>
                    <a:pt x="12153" y="888"/>
                  </a:lnTo>
                  <a:lnTo>
                    <a:pt x="12097" y="836"/>
                  </a:lnTo>
                  <a:lnTo>
                    <a:pt x="12036" y="787"/>
                  </a:lnTo>
                  <a:lnTo>
                    <a:pt x="11973" y="739"/>
                  </a:lnTo>
                  <a:lnTo>
                    <a:pt x="11905" y="693"/>
                  </a:lnTo>
                  <a:lnTo>
                    <a:pt x="11835" y="650"/>
                  </a:lnTo>
                  <a:lnTo>
                    <a:pt x="11761" y="609"/>
                  </a:lnTo>
                  <a:lnTo>
                    <a:pt x="11682" y="570"/>
                  </a:lnTo>
                  <a:lnTo>
                    <a:pt x="11601" y="534"/>
                  </a:lnTo>
                  <a:lnTo>
                    <a:pt x="11514" y="500"/>
                  </a:lnTo>
                  <a:lnTo>
                    <a:pt x="11424" y="468"/>
                  </a:lnTo>
                  <a:lnTo>
                    <a:pt x="11329" y="440"/>
                  </a:lnTo>
                  <a:lnTo>
                    <a:pt x="11127" y="387"/>
                  </a:lnTo>
                  <a:lnTo>
                    <a:pt x="10909" y="341"/>
                  </a:lnTo>
                  <a:lnTo>
                    <a:pt x="10677" y="299"/>
                  </a:lnTo>
                  <a:lnTo>
                    <a:pt x="10432" y="262"/>
                  </a:lnTo>
                  <a:lnTo>
                    <a:pt x="10174" y="231"/>
                  </a:lnTo>
                  <a:lnTo>
                    <a:pt x="9903" y="204"/>
                  </a:lnTo>
                  <a:lnTo>
                    <a:pt x="9621" y="182"/>
                  </a:lnTo>
                  <a:lnTo>
                    <a:pt x="9326" y="164"/>
                  </a:lnTo>
                  <a:lnTo>
                    <a:pt x="9022" y="150"/>
                  </a:lnTo>
                  <a:lnTo>
                    <a:pt x="8706" y="141"/>
                  </a:lnTo>
                  <a:lnTo>
                    <a:pt x="8380" y="136"/>
                  </a:lnTo>
                  <a:lnTo>
                    <a:pt x="8044" y="134"/>
                  </a:lnTo>
                  <a:lnTo>
                    <a:pt x="7699" y="136"/>
                  </a:lnTo>
                  <a:lnTo>
                    <a:pt x="7346" y="141"/>
                  </a:lnTo>
                  <a:lnTo>
                    <a:pt x="6984" y="149"/>
                  </a:lnTo>
                  <a:lnTo>
                    <a:pt x="6614" y="161"/>
                  </a:lnTo>
                  <a:lnTo>
                    <a:pt x="5853" y="192"/>
                  </a:lnTo>
                  <a:lnTo>
                    <a:pt x="5067" y="233"/>
                  </a:lnTo>
                  <a:lnTo>
                    <a:pt x="4258" y="283"/>
                  </a:lnTo>
                  <a:lnTo>
                    <a:pt x="3430" y="340"/>
                  </a:lnTo>
                  <a:lnTo>
                    <a:pt x="2588" y="403"/>
                  </a:lnTo>
                  <a:lnTo>
                    <a:pt x="1735" y="470"/>
                  </a:lnTo>
                  <a:lnTo>
                    <a:pt x="10" y="611"/>
                  </a:lnTo>
                  <a:lnTo>
                    <a:pt x="0" y="479"/>
                  </a:lnTo>
                  <a:close/>
                  <a:moveTo>
                    <a:pt x="13001" y="3614"/>
                  </a:moveTo>
                  <a:lnTo>
                    <a:pt x="12703" y="4108"/>
                  </a:lnTo>
                  <a:lnTo>
                    <a:pt x="12419" y="3606"/>
                  </a:lnTo>
                  <a:cubicBezTo>
                    <a:pt x="12401" y="3574"/>
                    <a:pt x="12412" y="3533"/>
                    <a:pt x="12444" y="3515"/>
                  </a:cubicBezTo>
                  <a:cubicBezTo>
                    <a:pt x="12476" y="3497"/>
                    <a:pt x="12517" y="3508"/>
                    <a:pt x="12535" y="3540"/>
                  </a:cubicBezTo>
                  <a:lnTo>
                    <a:pt x="12763" y="3943"/>
                  </a:lnTo>
                  <a:lnTo>
                    <a:pt x="12648" y="3942"/>
                  </a:lnTo>
                  <a:lnTo>
                    <a:pt x="12886" y="3545"/>
                  </a:lnTo>
                  <a:cubicBezTo>
                    <a:pt x="12905" y="3513"/>
                    <a:pt x="12946" y="3503"/>
                    <a:pt x="12978" y="3522"/>
                  </a:cubicBezTo>
                  <a:cubicBezTo>
                    <a:pt x="13009" y="3541"/>
                    <a:pt x="13020" y="3582"/>
                    <a:pt x="13001" y="3614"/>
                  </a:cubicBezTo>
                  <a:close/>
                </a:path>
              </a:pathLst>
            </a:custGeom>
            <a:solidFill>
              <a:srgbClr val="9b9bbb"/>
            </a:solidFill>
            <a:ln w="1440">
              <a:solidFill>
                <a:srgbClr val="9b9bb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96"/>
            <p:cNvSpPr/>
            <p:nvPr/>
          </p:nvSpPr>
          <p:spPr>
            <a:xfrm>
              <a:off x="111240" y="2481120"/>
              <a:ext cx="2923920" cy="2246400"/>
            </a:xfrm>
            <a:custGeom>
              <a:avLst/>
              <a:gdLst>
                <a:gd name="textAreaLeft" fmla="*/ 0 w 2923920"/>
                <a:gd name="textAreaRight" fmla="*/ 2924280 w 2923920"/>
                <a:gd name="textAreaTop" fmla="*/ 0 h 2246400"/>
                <a:gd name="textAreaBottom" fmla="*/ 2246760 h 2246400"/>
              </a:gdLst>
              <a:ahLst/>
              <a:rect l="textAreaLeft" t="textAreaTop" r="textAreaRight" b="textAreaBottom"/>
              <a:pathLst>
                <a:path w="15293" h="14614">
                  <a:moveTo>
                    <a:pt x="15293" y="14081"/>
                  </a:moveTo>
                  <a:lnTo>
                    <a:pt x="14606" y="14213"/>
                  </a:lnTo>
                  <a:lnTo>
                    <a:pt x="13915" y="14338"/>
                  </a:lnTo>
                  <a:lnTo>
                    <a:pt x="13218" y="14449"/>
                  </a:lnTo>
                  <a:lnTo>
                    <a:pt x="12864" y="14496"/>
                  </a:lnTo>
                  <a:lnTo>
                    <a:pt x="12510" y="14537"/>
                  </a:lnTo>
                  <a:lnTo>
                    <a:pt x="12150" y="14571"/>
                  </a:lnTo>
                  <a:lnTo>
                    <a:pt x="11789" y="14595"/>
                  </a:lnTo>
                  <a:lnTo>
                    <a:pt x="11423" y="14610"/>
                  </a:lnTo>
                  <a:lnTo>
                    <a:pt x="11053" y="14614"/>
                  </a:lnTo>
                  <a:lnTo>
                    <a:pt x="10679" y="14607"/>
                  </a:lnTo>
                  <a:lnTo>
                    <a:pt x="10298" y="14587"/>
                  </a:lnTo>
                  <a:lnTo>
                    <a:pt x="9914" y="14554"/>
                  </a:lnTo>
                  <a:lnTo>
                    <a:pt x="9524" y="14506"/>
                  </a:lnTo>
                  <a:lnTo>
                    <a:pt x="9122" y="14446"/>
                  </a:lnTo>
                  <a:lnTo>
                    <a:pt x="8702" y="14375"/>
                  </a:lnTo>
                  <a:lnTo>
                    <a:pt x="8266" y="14294"/>
                  </a:lnTo>
                  <a:lnTo>
                    <a:pt x="7819" y="14203"/>
                  </a:lnTo>
                  <a:lnTo>
                    <a:pt x="7362" y="14102"/>
                  </a:lnTo>
                  <a:lnTo>
                    <a:pt x="6901" y="13990"/>
                  </a:lnTo>
                  <a:lnTo>
                    <a:pt x="6439" y="13869"/>
                  </a:lnTo>
                  <a:lnTo>
                    <a:pt x="5979" y="13737"/>
                  </a:lnTo>
                  <a:lnTo>
                    <a:pt x="5524" y="13594"/>
                  </a:lnTo>
                  <a:lnTo>
                    <a:pt x="5080" y="13440"/>
                  </a:lnTo>
                  <a:lnTo>
                    <a:pt x="4647" y="13276"/>
                  </a:lnTo>
                  <a:lnTo>
                    <a:pt x="4231" y="13101"/>
                  </a:lnTo>
                  <a:lnTo>
                    <a:pt x="4029" y="13009"/>
                  </a:lnTo>
                  <a:lnTo>
                    <a:pt x="3833" y="12915"/>
                  </a:lnTo>
                  <a:lnTo>
                    <a:pt x="3644" y="12817"/>
                  </a:lnTo>
                  <a:lnTo>
                    <a:pt x="3461" y="12717"/>
                  </a:lnTo>
                  <a:lnTo>
                    <a:pt x="3283" y="12614"/>
                  </a:lnTo>
                  <a:lnTo>
                    <a:pt x="3113" y="12507"/>
                  </a:lnTo>
                  <a:lnTo>
                    <a:pt x="2952" y="12399"/>
                  </a:lnTo>
                  <a:lnTo>
                    <a:pt x="2797" y="12287"/>
                  </a:lnTo>
                  <a:lnTo>
                    <a:pt x="2508" y="12052"/>
                  </a:lnTo>
                  <a:lnTo>
                    <a:pt x="2233" y="11795"/>
                  </a:lnTo>
                  <a:lnTo>
                    <a:pt x="1975" y="11522"/>
                  </a:lnTo>
                  <a:lnTo>
                    <a:pt x="1734" y="11235"/>
                  </a:lnTo>
                  <a:lnTo>
                    <a:pt x="1509" y="10934"/>
                  </a:lnTo>
                  <a:lnTo>
                    <a:pt x="1301" y="10623"/>
                  </a:lnTo>
                  <a:lnTo>
                    <a:pt x="1108" y="10302"/>
                  </a:lnTo>
                  <a:lnTo>
                    <a:pt x="931" y="9974"/>
                  </a:lnTo>
                  <a:lnTo>
                    <a:pt x="769" y="9640"/>
                  </a:lnTo>
                  <a:lnTo>
                    <a:pt x="623" y="9303"/>
                  </a:lnTo>
                  <a:lnTo>
                    <a:pt x="492" y="8963"/>
                  </a:lnTo>
                  <a:lnTo>
                    <a:pt x="377" y="8625"/>
                  </a:lnTo>
                  <a:lnTo>
                    <a:pt x="277" y="8288"/>
                  </a:lnTo>
                  <a:lnTo>
                    <a:pt x="191" y="7955"/>
                  </a:lnTo>
                  <a:lnTo>
                    <a:pt x="121" y="7627"/>
                  </a:lnTo>
                  <a:lnTo>
                    <a:pt x="65" y="7307"/>
                  </a:lnTo>
                  <a:lnTo>
                    <a:pt x="26" y="6983"/>
                  </a:lnTo>
                  <a:lnTo>
                    <a:pt x="4" y="6648"/>
                  </a:lnTo>
                  <a:lnTo>
                    <a:pt x="0" y="6304"/>
                  </a:lnTo>
                  <a:lnTo>
                    <a:pt x="14" y="5955"/>
                  </a:lnTo>
                  <a:lnTo>
                    <a:pt x="43" y="5602"/>
                  </a:lnTo>
                  <a:lnTo>
                    <a:pt x="87" y="5249"/>
                  </a:lnTo>
                  <a:lnTo>
                    <a:pt x="147" y="4896"/>
                  </a:lnTo>
                  <a:lnTo>
                    <a:pt x="220" y="4549"/>
                  </a:lnTo>
                  <a:lnTo>
                    <a:pt x="305" y="4206"/>
                  </a:lnTo>
                  <a:lnTo>
                    <a:pt x="404" y="3872"/>
                  </a:lnTo>
                  <a:lnTo>
                    <a:pt x="513" y="3549"/>
                  </a:lnTo>
                  <a:lnTo>
                    <a:pt x="636" y="3238"/>
                  </a:lnTo>
                  <a:lnTo>
                    <a:pt x="767" y="2942"/>
                  </a:lnTo>
                  <a:lnTo>
                    <a:pt x="909" y="2664"/>
                  </a:lnTo>
                  <a:lnTo>
                    <a:pt x="1060" y="2406"/>
                  </a:lnTo>
                  <a:lnTo>
                    <a:pt x="1141" y="2283"/>
                  </a:lnTo>
                  <a:lnTo>
                    <a:pt x="1222" y="2168"/>
                  </a:lnTo>
                  <a:lnTo>
                    <a:pt x="1394" y="1954"/>
                  </a:lnTo>
                  <a:lnTo>
                    <a:pt x="1584" y="1755"/>
                  </a:lnTo>
                  <a:lnTo>
                    <a:pt x="1790" y="1575"/>
                  </a:lnTo>
                  <a:lnTo>
                    <a:pt x="2007" y="1411"/>
                  </a:lnTo>
                  <a:lnTo>
                    <a:pt x="2237" y="1262"/>
                  </a:lnTo>
                  <a:lnTo>
                    <a:pt x="2477" y="1127"/>
                  </a:lnTo>
                  <a:lnTo>
                    <a:pt x="2728" y="1005"/>
                  </a:lnTo>
                  <a:lnTo>
                    <a:pt x="2987" y="894"/>
                  </a:lnTo>
                  <a:lnTo>
                    <a:pt x="3251" y="794"/>
                  </a:lnTo>
                  <a:lnTo>
                    <a:pt x="3524" y="702"/>
                  </a:lnTo>
                  <a:lnTo>
                    <a:pt x="3801" y="618"/>
                  </a:lnTo>
                  <a:lnTo>
                    <a:pt x="4082" y="540"/>
                  </a:lnTo>
                  <a:lnTo>
                    <a:pt x="4654" y="398"/>
                  </a:lnTo>
                  <a:lnTo>
                    <a:pt x="4940" y="332"/>
                  </a:lnTo>
                  <a:lnTo>
                    <a:pt x="5007" y="625"/>
                  </a:lnTo>
                  <a:lnTo>
                    <a:pt x="4727" y="689"/>
                  </a:lnTo>
                  <a:lnTo>
                    <a:pt x="4163" y="829"/>
                  </a:lnTo>
                  <a:lnTo>
                    <a:pt x="3888" y="905"/>
                  </a:lnTo>
                  <a:lnTo>
                    <a:pt x="3619" y="987"/>
                  </a:lnTo>
                  <a:lnTo>
                    <a:pt x="3358" y="1075"/>
                  </a:lnTo>
                  <a:lnTo>
                    <a:pt x="3104" y="1171"/>
                  </a:lnTo>
                  <a:lnTo>
                    <a:pt x="2859" y="1274"/>
                  </a:lnTo>
                  <a:lnTo>
                    <a:pt x="2624" y="1388"/>
                  </a:lnTo>
                  <a:lnTo>
                    <a:pt x="2400" y="1513"/>
                  </a:lnTo>
                  <a:lnTo>
                    <a:pt x="2188" y="1650"/>
                  </a:lnTo>
                  <a:lnTo>
                    <a:pt x="1987" y="1800"/>
                  </a:lnTo>
                  <a:lnTo>
                    <a:pt x="1801" y="1964"/>
                  </a:lnTo>
                  <a:lnTo>
                    <a:pt x="1627" y="2143"/>
                  </a:lnTo>
                  <a:lnTo>
                    <a:pt x="1467" y="2341"/>
                  </a:lnTo>
                  <a:lnTo>
                    <a:pt x="1392" y="2448"/>
                  </a:lnTo>
                  <a:lnTo>
                    <a:pt x="1319" y="2558"/>
                  </a:lnTo>
                  <a:lnTo>
                    <a:pt x="1176" y="2801"/>
                  </a:lnTo>
                  <a:lnTo>
                    <a:pt x="1041" y="3065"/>
                  </a:lnTo>
                  <a:lnTo>
                    <a:pt x="915" y="3347"/>
                  </a:lnTo>
                  <a:lnTo>
                    <a:pt x="797" y="3646"/>
                  </a:lnTo>
                  <a:lnTo>
                    <a:pt x="691" y="3957"/>
                  </a:lnTo>
                  <a:lnTo>
                    <a:pt x="596" y="4279"/>
                  </a:lnTo>
                  <a:lnTo>
                    <a:pt x="513" y="4610"/>
                  </a:lnTo>
                  <a:lnTo>
                    <a:pt x="442" y="4947"/>
                  </a:lnTo>
                  <a:lnTo>
                    <a:pt x="384" y="5286"/>
                  </a:lnTo>
                  <a:lnTo>
                    <a:pt x="342" y="5627"/>
                  </a:lnTo>
                  <a:lnTo>
                    <a:pt x="313" y="5966"/>
                  </a:lnTo>
                  <a:lnTo>
                    <a:pt x="300" y="6301"/>
                  </a:lnTo>
                  <a:lnTo>
                    <a:pt x="303" y="6629"/>
                  </a:lnTo>
                  <a:lnTo>
                    <a:pt x="323" y="6948"/>
                  </a:lnTo>
                  <a:lnTo>
                    <a:pt x="360" y="7256"/>
                  </a:lnTo>
                  <a:lnTo>
                    <a:pt x="414" y="7564"/>
                  </a:lnTo>
                  <a:lnTo>
                    <a:pt x="482" y="7880"/>
                  </a:lnTo>
                  <a:lnTo>
                    <a:pt x="564" y="8202"/>
                  </a:lnTo>
                  <a:lnTo>
                    <a:pt x="662" y="8528"/>
                  </a:lnTo>
                  <a:lnTo>
                    <a:pt x="773" y="8856"/>
                  </a:lnTo>
                  <a:lnTo>
                    <a:pt x="898" y="9184"/>
                  </a:lnTo>
                  <a:lnTo>
                    <a:pt x="1040" y="9509"/>
                  </a:lnTo>
                  <a:lnTo>
                    <a:pt x="1194" y="9831"/>
                  </a:lnTo>
                  <a:lnTo>
                    <a:pt x="1365" y="10147"/>
                  </a:lnTo>
                  <a:lnTo>
                    <a:pt x="1550" y="10456"/>
                  </a:lnTo>
                  <a:lnTo>
                    <a:pt x="1750" y="10755"/>
                  </a:lnTo>
                  <a:lnTo>
                    <a:pt x="1965" y="11042"/>
                  </a:lnTo>
                  <a:lnTo>
                    <a:pt x="2194" y="11317"/>
                  </a:lnTo>
                  <a:lnTo>
                    <a:pt x="2438" y="11576"/>
                  </a:lnTo>
                  <a:lnTo>
                    <a:pt x="2697" y="11819"/>
                  </a:lnTo>
                  <a:lnTo>
                    <a:pt x="2974" y="12044"/>
                  </a:lnTo>
                  <a:lnTo>
                    <a:pt x="3119" y="12150"/>
                  </a:lnTo>
                  <a:lnTo>
                    <a:pt x="3273" y="12254"/>
                  </a:lnTo>
                  <a:lnTo>
                    <a:pt x="3434" y="12355"/>
                  </a:lnTo>
                  <a:lnTo>
                    <a:pt x="3604" y="12454"/>
                  </a:lnTo>
                  <a:lnTo>
                    <a:pt x="3781" y="12550"/>
                  </a:lnTo>
                  <a:lnTo>
                    <a:pt x="3964" y="12644"/>
                  </a:lnTo>
                  <a:lnTo>
                    <a:pt x="4154" y="12736"/>
                  </a:lnTo>
                  <a:lnTo>
                    <a:pt x="4348" y="12824"/>
                  </a:lnTo>
                  <a:lnTo>
                    <a:pt x="4754" y="12995"/>
                  </a:lnTo>
                  <a:lnTo>
                    <a:pt x="5177" y="13157"/>
                  </a:lnTo>
                  <a:lnTo>
                    <a:pt x="5615" y="13307"/>
                  </a:lnTo>
                  <a:lnTo>
                    <a:pt x="6062" y="13448"/>
                  </a:lnTo>
                  <a:lnTo>
                    <a:pt x="6516" y="13578"/>
                  </a:lnTo>
                  <a:lnTo>
                    <a:pt x="6972" y="13699"/>
                  </a:lnTo>
                  <a:lnTo>
                    <a:pt x="7427" y="13809"/>
                  </a:lnTo>
                  <a:lnTo>
                    <a:pt x="7878" y="13909"/>
                  </a:lnTo>
                  <a:lnTo>
                    <a:pt x="8321" y="13999"/>
                  </a:lnTo>
                  <a:lnTo>
                    <a:pt x="8751" y="14080"/>
                  </a:lnTo>
                  <a:lnTo>
                    <a:pt x="9167" y="14149"/>
                  </a:lnTo>
                  <a:lnTo>
                    <a:pt x="9561" y="14209"/>
                  </a:lnTo>
                  <a:lnTo>
                    <a:pt x="9940" y="14255"/>
                  </a:lnTo>
                  <a:lnTo>
                    <a:pt x="10314" y="14288"/>
                  </a:lnTo>
                  <a:lnTo>
                    <a:pt x="10684" y="14307"/>
                  </a:lnTo>
                  <a:lnTo>
                    <a:pt x="11050" y="14314"/>
                  </a:lnTo>
                  <a:lnTo>
                    <a:pt x="11410" y="14311"/>
                  </a:lnTo>
                  <a:lnTo>
                    <a:pt x="11768" y="14296"/>
                  </a:lnTo>
                  <a:lnTo>
                    <a:pt x="12123" y="14272"/>
                  </a:lnTo>
                  <a:lnTo>
                    <a:pt x="12475" y="14239"/>
                  </a:lnTo>
                  <a:lnTo>
                    <a:pt x="12825" y="14199"/>
                  </a:lnTo>
                  <a:lnTo>
                    <a:pt x="13171" y="14152"/>
                  </a:lnTo>
                  <a:lnTo>
                    <a:pt x="13862" y="14043"/>
                  </a:lnTo>
                  <a:lnTo>
                    <a:pt x="14549" y="13918"/>
                  </a:lnTo>
                  <a:lnTo>
                    <a:pt x="15236" y="13786"/>
                  </a:lnTo>
                  <a:lnTo>
                    <a:pt x="15293" y="14081"/>
                  </a:lnTo>
                  <a:close/>
                  <a:moveTo>
                    <a:pt x="4023" y="25"/>
                  </a:moveTo>
                  <a:lnTo>
                    <a:pt x="5263" y="412"/>
                  </a:lnTo>
                  <a:lnTo>
                    <a:pt x="4316" y="1301"/>
                  </a:lnTo>
                  <a:cubicBezTo>
                    <a:pt x="4256" y="1358"/>
                    <a:pt x="4161" y="1355"/>
                    <a:pt x="4104" y="1294"/>
                  </a:cubicBezTo>
                  <a:cubicBezTo>
                    <a:pt x="4047" y="1234"/>
                    <a:pt x="4050" y="1139"/>
                    <a:pt x="4111" y="1082"/>
                  </a:cubicBezTo>
                  <a:lnTo>
                    <a:pt x="4870" y="369"/>
                  </a:lnTo>
                  <a:lnTo>
                    <a:pt x="4928" y="622"/>
                  </a:lnTo>
                  <a:lnTo>
                    <a:pt x="3934" y="311"/>
                  </a:lnTo>
                  <a:cubicBezTo>
                    <a:pt x="3855" y="287"/>
                    <a:pt x="3811" y="203"/>
                    <a:pt x="3835" y="124"/>
                  </a:cubicBezTo>
                  <a:cubicBezTo>
                    <a:pt x="3860" y="45"/>
                    <a:pt x="3944" y="0"/>
                    <a:pt x="4023" y="25"/>
                  </a:cubicBezTo>
                  <a:close/>
                </a:path>
              </a:pathLst>
            </a:custGeom>
            <a:solidFill>
              <a:srgbClr val="9b9bbb"/>
            </a:solidFill>
            <a:ln w="1440">
              <a:solidFill>
                <a:srgbClr val="9b9bb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98"/>
            <p:cNvSpPr/>
            <p:nvPr/>
          </p:nvSpPr>
          <p:spPr>
            <a:xfrm>
              <a:off x="142920" y="151488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odel to Generate Critical Thinking</a:t>
              </a:r>
              <a:endParaRPr b="0" lang="en-US" sz="2800" spc="-1" strike="noStrike">
                <a:solidFill>
                  <a:srgbClr val="000000"/>
                </a:solidFill>
                <a:latin typeface="Arial"/>
              </a:endParaRPr>
            </a:p>
          </p:txBody>
        </p:sp>
        <p:sp>
          <p:nvSpPr>
            <p:cNvPr id="243" name="Rectangle 74"/>
            <p:cNvSpPr/>
            <p:nvPr/>
          </p:nvSpPr>
          <p:spPr>
            <a:xfrm>
              <a:off x="3214800" y="4234680"/>
              <a:ext cx="1928880" cy="549000"/>
            </a:xfrm>
            <a:prstGeom prst="rect">
              <a:avLst/>
            </a:prstGeom>
            <a:solidFill>
              <a:srgbClr val="fcf9b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Topic</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Other ideas and options</a:t>
            </a:r>
            <a:endParaRPr b="0" lang="en-US" sz="3200" spc="-1" strike="noStrike">
              <a:solidFill>
                <a:srgbClr val="000000"/>
              </a:solidFill>
              <a:latin typeface="Arial"/>
            </a:endParaRPr>
          </a:p>
        </p:txBody>
      </p:sp>
      <p:sp>
        <p:nvSpPr>
          <p:cNvPr id="245" name="PlaceHolder 2"/>
          <p:cNvSpPr>
            <a:spLocks noGrp="1"/>
          </p:cNvSpPr>
          <p:nvPr>
            <p:ph/>
          </p:nvPr>
        </p:nvSpPr>
        <p:spPr>
          <a:xfrm>
            <a:off x="826920" y="1989000"/>
            <a:ext cx="7958160" cy="38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
          <p:cNvSpPr/>
          <p:nvPr/>
        </p:nvSpPr>
        <p:spPr>
          <a:xfrm>
            <a:off x="1187280" y="2637000"/>
            <a:ext cx="7345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
          <p:cNvSpPr/>
          <p:nvPr/>
        </p:nvSpPr>
        <p:spPr>
          <a:xfrm>
            <a:off x="1054440" y="2708280"/>
            <a:ext cx="32317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Spee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Endno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Databases in my ar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Data mining techniq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Recording</a:t>
            </a:r>
            <a:endParaRPr b="0" lang="en-US" sz="2000" spc="-1" strike="noStrike">
              <a:solidFill>
                <a:srgbClr val="000000"/>
              </a:solidFill>
              <a:latin typeface="Arial"/>
            </a:endParaRPr>
          </a:p>
        </p:txBody>
      </p:sp>
      <p:pic>
        <p:nvPicPr>
          <p:cNvPr id="248" name="" descr=""/>
          <p:cNvPicPr/>
          <p:nvPr/>
        </p:nvPicPr>
        <p:blipFill>
          <a:blip r:embed="rId1"/>
          <a:stretch/>
        </p:blipFill>
        <p:spPr>
          <a:xfrm>
            <a:off x="4067280" y="2637000"/>
            <a:ext cx="1100160" cy="180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entury Gothic"/>
              </a:rPr>
              <a:t>SR websites</a:t>
            </a:r>
            <a:endParaRPr b="0" lang="en-US" sz="4000" spc="-1" strike="noStrike">
              <a:solidFill>
                <a:srgbClr val="000000"/>
              </a:solidFill>
              <a:latin typeface="Arial"/>
            </a:endParaRPr>
          </a:p>
        </p:txBody>
      </p:sp>
      <p:sp>
        <p:nvSpPr>
          <p:cNvPr id="250" name="PlaceHolder 2"/>
          <p:cNvSpPr>
            <a:spLocks noGrp="1"/>
          </p:cNvSpPr>
          <p:nvPr>
            <p:ph/>
          </p:nvPr>
        </p:nvSpPr>
        <p:spPr>
          <a:xfrm>
            <a:off x="468000" y="2491920"/>
            <a:ext cx="8496360" cy="4365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	</a:t>
            </a:r>
            <a:r>
              <a:rPr b="1" lang="en-GB" sz="1400" spc="-1" strike="noStrike">
                <a:solidFill>
                  <a:srgbClr val="000000"/>
                </a:solidFill>
                <a:latin typeface="Arial"/>
              </a:rPr>
              <a:t>Centre for Evidence-based Conservation</a:t>
            </a:r>
            <a:r>
              <a:rPr b="0" lang="en-GB" sz="1400" spc="-1" strike="noStrike">
                <a:solidFill>
                  <a:srgbClr val="000000"/>
                </a:solidFill>
                <a:latin typeface="Arial"/>
              </a:rPr>
              <a:t> -http://www.cebc.bangor.ac.u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entre for Reviews and Dissemination</a:t>
            </a:r>
            <a:r>
              <a:rPr b="0" lang="en-GB" sz="1400" spc="-1" strike="noStrike">
                <a:solidFill>
                  <a:srgbClr val="000000"/>
                </a:solidFill>
                <a:latin typeface="Arial"/>
              </a:rPr>
              <a:t> (medical) -http://www.york.ac.uk/inst/crd/index.ht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ochrane Collaboration</a:t>
            </a:r>
            <a:r>
              <a:rPr b="0" lang="en-GB" sz="1400" spc="-1" strike="noStrike">
                <a:solidFill>
                  <a:srgbClr val="000000"/>
                </a:solidFill>
                <a:latin typeface="Arial"/>
              </a:rPr>
              <a:t> (international- medical) -http://www.cochrane.or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PPI-Centre, Institute of Education</a:t>
            </a:r>
            <a:r>
              <a:rPr b="0" lang="en-GB" sz="1400" spc="-1" strike="noStrike">
                <a:solidFill>
                  <a:srgbClr val="000000"/>
                </a:solidFill>
                <a:latin typeface="Arial"/>
              </a:rPr>
              <a:t> - </a:t>
            </a:r>
            <a:r>
              <a:rPr b="0" lang="en-GB" sz="1400" spc="-1" strike="noStrike" u="sng">
                <a:solidFill>
                  <a:srgbClr val="009999"/>
                </a:solidFill>
                <a:uFillTx/>
                <a:latin typeface="Arial"/>
                <a:hlinkClick r:id="rId1"/>
              </a:rPr>
              <a:t>http://eppi.ioe.ac.uk/cm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cial Policy and Social Care -</a:t>
            </a:r>
            <a:r>
              <a:rPr b="0" lang="en-US" sz="1400" spc="-1" strike="noStrike">
                <a:solidFill>
                  <a:srgbClr val="000000"/>
                </a:solidFill>
                <a:latin typeface="Arial"/>
              </a:rPr>
              <a:t>http://www.york.ac.uk/inst/chp/srspsc/index.ht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99cc00"/>
                </a:solidFill>
                <a:latin typeface="Arial"/>
              </a:rPr>
              <a:t>If you read one article, an example here of a review of the ways studies in reviews are appraised</a:t>
            </a:r>
            <a:r>
              <a:rPr b="0" lang="en-US" sz="1600" spc="-1" strike="noStrike">
                <a:solidFill>
                  <a:srgbClr val="000000"/>
                </a:solidFill>
                <a:latin typeface="Arial"/>
              </a:rPr>
              <a:t> - </a:t>
            </a:r>
            <a:r>
              <a:rPr b="0" lang="en-US" sz="1600" spc="-1" strike="noStrike" u="sng">
                <a:solidFill>
                  <a:srgbClr val="009999"/>
                </a:solidFill>
                <a:uFillTx/>
                <a:latin typeface="Arial"/>
                <a:hlinkClick r:id="rId2"/>
              </a:rPr>
              <a:t>http://www.pubmedcentral.nih.gov/articlerender.fcgi?artid=521688</a:t>
            </a:r>
            <a:endParaRPr b="0" lang="en-US" sz="16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99cc00"/>
                </a:solidFill>
                <a:latin typeface="Arial"/>
              </a:rPr>
              <a:t>If you prefer power-point, how about this one on mixed method reviews</a:t>
            </a:r>
            <a:r>
              <a:rPr b="0" lang="en-US" sz="1600" spc="-1" strike="noStrike">
                <a:solidFill>
                  <a:srgbClr val="000000"/>
                </a:solidFill>
                <a:latin typeface="Arial"/>
              </a:rPr>
              <a:t>   </a:t>
            </a:r>
            <a:r>
              <a:rPr b="0" lang="en-US" sz="1600" spc="-1" strike="noStrike" u="sng">
                <a:solidFill>
                  <a:srgbClr val="009999"/>
                </a:solidFill>
                <a:uFillTx/>
                <a:latin typeface="Arial"/>
                <a:hlinkClick r:id="rId3"/>
              </a:rPr>
              <a:t>http://www.ccsr.ac.uk/methods/events/challenges/documents/JamesThomasESRCMethodologicalchallenges.ppt</a:t>
            </a:r>
            <a:endParaRPr b="0" lang="en-US" sz="16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entury Gothic"/>
              </a:rPr>
              <a:t>Systematic Reviews</a:t>
            </a:r>
            <a:endParaRPr b="0" lang="en-US" sz="3600" spc="-1" strike="noStrike">
              <a:solidFill>
                <a:srgbClr val="000000"/>
              </a:solidFill>
              <a:latin typeface="Arial"/>
            </a:endParaRPr>
          </a:p>
        </p:txBody>
      </p:sp>
      <p:sp>
        <p:nvSpPr>
          <p:cNvPr id="254" name="PlaceHolder 2"/>
          <p:cNvSpPr>
            <a:spLocks noGrp="1"/>
          </p:cNvSpPr>
          <p:nvPr>
            <p:ph/>
          </p:nvPr>
        </p:nvSpPr>
        <p:spPr>
          <a:xfrm>
            <a:off x="1403280" y="2060640"/>
            <a:ext cx="74167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Cochrane Reviews are systematic reviews of primary research in human health care and health policy, and are internationally recognised as the highest standard in evidence-based health care. They investigate the effects of interventions for prevention, treatment and rehabil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entury Gothic"/>
              </a:rPr>
              <a:t>Systematic Reviews</a:t>
            </a:r>
            <a:endParaRPr b="0" lang="en-US" sz="3600" spc="-1" strike="noStrike">
              <a:solidFill>
                <a:srgbClr val="000000"/>
              </a:solidFill>
              <a:latin typeface="Arial"/>
            </a:endParaRPr>
          </a:p>
        </p:txBody>
      </p:sp>
      <p:sp>
        <p:nvSpPr>
          <p:cNvPr id="256" name="PlaceHolder 2"/>
          <p:cNvSpPr>
            <a:spLocks noGrp="1"/>
          </p:cNvSpPr>
          <p:nvPr>
            <p:ph/>
          </p:nvPr>
        </p:nvSpPr>
        <p:spPr>
          <a:xfrm>
            <a:off x="1402920" y="2060640"/>
            <a:ext cx="61246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entury Gothic"/>
              </a:rPr>
              <a:t>Seven steps (of a Cochrane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rmulating a probl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cating and selecting stud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ritical appraisal of stud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llecting da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alyzing and presenting resul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preting resul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mproving and updating revie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Literature Matters</a:t>
            </a:r>
            <a:endParaRPr b="0" lang="en-US" sz="3200" spc="-1" strike="noStrike">
              <a:solidFill>
                <a:srgbClr val="000000"/>
              </a:solidFill>
              <a:latin typeface="Arial"/>
            </a:endParaRPr>
          </a:p>
        </p:txBody>
      </p:sp>
      <p:sp>
        <p:nvSpPr>
          <p:cNvPr id="160" name="PlaceHolder 2"/>
          <p:cNvSpPr>
            <a:spLocks noGrp="1"/>
          </p:cNvSpPr>
          <p:nvPr>
            <p:ph/>
          </p:nvPr>
        </p:nvSpPr>
        <p:spPr>
          <a:xfrm>
            <a:off x="971280" y="2276280"/>
            <a:ext cx="3722760" cy="502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entury Gothic"/>
              </a:rPr>
              <a:t>From Holbrook et al (2007)</a:t>
            </a:r>
            <a:endParaRPr b="0" lang="en-US" sz="2000" spc="-1" strike="noStrike">
              <a:solidFill>
                <a:srgbClr val="000000"/>
              </a:solidFill>
              <a:latin typeface="Arial"/>
            </a:endParaRPr>
          </a:p>
        </p:txBody>
      </p:sp>
      <p:grpSp>
        <p:nvGrpSpPr>
          <p:cNvPr id="161" name=""/>
          <p:cNvGrpSpPr/>
          <p:nvPr/>
        </p:nvGrpSpPr>
        <p:grpSpPr>
          <a:xfrm>
            <a:off x="684360" y="2205000"/>
            <a:ext cx="8064360" cy="3672000"/>
            <a:chOff x="684360" y="2205000"/>
            <a:chExt cx="8064360" cy="3672000"/>
          </a:xfrm>
        </p:grpSpPr>
        <p:grpSp>
          <p:nvGrpSpPr>
            <p:cNvPr id="162" name=""/>
            <p:cNvGrpSpPr/>
            <p:nvPr/>
          </p:nvGrpSpPr>
          <p:grpSpPr>
            <a:xfrm>
              <a:off x="684360" y="2205000"/>
              <a:ext cx="8064360" cy="3238560"/>
              <a:chOff x="684360" y="2205000"/>
              <a:chExt cx="8064360" cy="3238560"/>
            </a:xfrm>
          </p:grpSpPr>
          <p:sp>
            <p:nvSpPr>
              <p:cNvPr id="163" name=""/>
              <p:cNvSpPr/>
              <p:nvPr/>
            </p:nvSpPr>
            <p:spPr>
              <a:xfrm>
                <a:off x="5940360" y="2205000"/>
                <a:ext cx="2808360" cy="2519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entury Gothic"/>
                  </a:rPr>
                  <a:t>	</a:t>
                </a:r>
                <a:r>
                  <a:rPr b="0" lang="en-IE" sz="2000" spc="-1" strike="noStrike">
                    <a:solidFill>
                      <a:srgbClr val="000000"/>
                    </a:solidFill>
                    <a:latin typeface="Century Gothic"/>
                  </a:rPr>
                  <a:t>disciplina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entury Gothic"/>
                  </a:rPr>
                  <a:t>	</a:t>
                </a:r>
                <a:r>
                  <a:rPr b="0" lang="en-IE" sz="2000" spc="-1" strike="noStrike">
                    <a:solidFill>
                      <a:srgbClr val="000000"/>
                    </a:solidFill>
                    <a:latin typeface="Century Gothic"/>
                  </a:rPr>
                  <a:t>perspective</a:t>
                </a:r>
                <a:endParaRPr b="0" lang="en-US" sz="2000" spc="-1" strike="noStrike">
                  <a:solidFill>
                    <a:srgbClr val="000000"/>
                  </a:solidFill>
                  <a:latin typeface="Arial"/>
                </a:endParaRPr>
              </a:p>
            </p:txBody>
          </p:sp>
          <p:sp>
            <p:nvSpPr>
              <p:cNvPr id="164" name=""/>
              <p:cNvSpPr/>
              <p:nvPr/>
            </p:nvSpPr>
            <p:spPr>
              <a:xfrm>
                <a:off x="6732720" y="2205000"/>
                <a:ext cx="2016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connec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to findings</a:t>
                </a:r>
                <a:endParaRPr b="0" lang="en-US" sz="2000" spc="-1" strike="noStrike">
                  <a:solidFill>
                    <a:srgbClr val="000000"/>
                  </a:solidFill>
                  <a:latin typeface="Arial"/>
                </a:endParaRPr>
              </a:p>
            </p:txBody>
          </p:sp>
          <p:sp>
            <p:nvSpPr>
              <p:cNvPr id="165" name=""/>
              <p:cNvSpPr/>
              <p:nvPr/>
            </p:nvSpPr>
            <p:spPr>
              <a:xfrm>
                <a:off x="684360" y="4149720"/>
                <a:ext cx="2016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cc00"/>
                    </a:solidFill>
                    <a:latin typeface="Comic Sans MS"/>
                  </a:rPr>
                  <a:t>coverage</a:t>
                </a:r>
                <a:endParaRPr b="0" lang="en-US" sz="2000" spc="-1" strike="noStrike">
                  <a:solidFill>
                    <a:srgbClr val="000000"/>
                  </a:solidFill>
                  <a:latin typeface="Arial"/>
                </a:endParaRPr>
              </a:p>
            </p:txBody>
          </p:sp>
          <p:sp>
            <p:nvSpPr>
              <p:cNvPr id="166" name=""/>
              <p:cNvSpPr/>
              <p:nvPr/>
            </p:nvSpPr>
            <p:spPr>
              <a:xfrm>
                <a:off x="2700360" y="3573360"/>
                <a:ext cx="2016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work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understanding</a:t>
                </a:r>
                <a:endParaRPr b="0" lang="en-US" sz="2000" spc="-1" strike="noStrike">
                  <a:solidFill>
                    <a:srgbClr val="000000"/>
                  </a:solidFill>
                  <a:latin typeface="Arial"/>
                </a:endParaRPr>
              </a:p>
            </p:txBody>
          </p:sp>
          <p:sp>
            <p:nvSpPr>
              <p:cNvPr id="167" name=""/>
              <p:cNvSpPr/>
              <p:nvPr/>
            </p:nvSpPr>
            <p:spPr>
              <a:xfrm>
                <a:off x="4716360" y="2852640"/>
                <a:ext cx="201636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omic Sans MS"/>
                  </a:rPr>
                  <a:t>appraisal</a:t>
                </a:r>
                <a:endParaRPr b="0" lang="en-US" sz="2000" spc="-1" strike="noStrike">
                  <a:solidFill>
                    <a:srgbClr val="000000"/>
                  </a:solidFill>
                  <a:latin typeface="Arial"/>
                </a:endParaRPr>
              </a:p>
            </p:txBody>
          </p:sp>
          <p:sp>
            <p:nvSpPr>
              <p:cNvPr id="168" name=""/>
              <p:cNvSpPr/>
              <p:nvPr/>
            </p:nvSpPr>
            <p:spPr>
              <a:xfrm>
                <a:off x="4140360" y="4724280"/>
                <a:ext cx="4608360" cy="719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entury Gothic"/>
                  </a:rPr>
                  <a:t>scholarliness</a:t>
                </a:r>
                <a:endParaRPr b="0" lang="en-US" sz="2000" spc="-1" strike="noStrike">
                  <a:solidFill>
                    <a:srgbClr val="000000"/>
                  </a:solidFill>
                  <a:latin typeface="Arial"/>
                </a:endParaRPr>
              </a:p>
            </p:txBody>
          </p:sp>
        </p:grpSp>
        <p:sp>
          <p:nvSpPr>
            <p:cNvPr id="169" name=""/>
            <p:cNvSpPr/>
            <p:nvPr/>
          </p:nvSpPr>
          <p:spPr>
            <a:xfrm>
              <a:off x="2627280" y="5445000"/>
              <a:ext cx="612144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cc00"/>
                  </a:solidFill>
                  <a:latin typeface="Comic Sans MS"/>
                </a:rPr>
                <a:t>literature us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Literature Review</a:t>
            </a:r>
            <a:endParaRPr b="0" lang="en-US" sz="3200" spc="-1" strike="noStrike">
              <a:solidFill>
                <a:srgbClr val="000000"/>
              </a:solidFill>
              <a:latin typeface="Arial"/>
            </a:endParaRPr>
          </a:p>
        </p:txBody>
      </p:sp>
      <p:sp>
        <p:nvSpPr>
          <p:cNvPr id="171" name="PlaceHolder 2"/>
          <p:cNvSpPr>
            <a:spLocks noGrp="1"/>
          </p:cNvSpPr>
          <p:nvPr>
            <p:ph/>
          </p:nvPr>
        </p:nvSpPr>
        <p:spPr>
          <a:xfrm>
            <a:off x="826920" y="2205000"/>
            <a:ext cx="7958160" cy="3881520"/>
          </a:xfrm>
          <a:prstGeom prst="rect">
            <a:avLst/>
          </a:prstGeom>
          <a:noFill/>
          <a:ln w="0">
            <a:noFill/>
          </a:ln>
        </p:spPr>
        <p:txBody>
          <a:bodyPr lIns="90000" rIns="90000" tIns="46800" bIns="46800" anchor="t">
            <a:normAutofit/>
          </a:bodyPr>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Comic Sans MS"/>
              </a:rPr>
              <a:t>What is a Systematic Literature Review?</a:t>
            </a:r>
            <a:endParaRPr b="0" lang="en-US" sz="2400" spc="-1" strike="noStrike">
              <a:solidFill>
                <a:srgbClr val="000000"/>
              </a:solidFill>
              <a:latin typeface="Arial"/>
            </a:endParaRPr>
          </a:p>
          <a:p>
            <a:pPr marL="577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26920" y="2133720"/>
            <a:ext cx="8066160" cy="381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Systematic Reviews</a:t>
            </a:r>
            <a:endParaRPr b="0" lang="en-US" sz="3200" spc="-1" strike="noStrike">
              <a:solidFill>
                <a:srgbClr val="000000"/>
              </a:solidFill>
              <a:latin typeface="Arial"/>
            </a:endParaRPr>
          </a:p>
        </p:txBody>
      </p:sp>
      <p:sp>
        <p:nvSpPr>
          <p:cNvPr id="174" name="PlaceHolder 2"/>
          <p:cNvSpPr>
            <a:spLocks noGrp="1"/>
          </p:cNvSpPr>
          <p:nvPr>
            <p:ph/>
          </p:nvPr>
        </p:nvSpPr>
        <p:spPr>
          <a:xfrm>
            <a:off x="826920" y="2349360"/>
            <a:ext cx="7986960" cy="295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 </a:t>
            </a:r>
            <a:r>
              <a:rPr b="0" lang="en" sz="2000" spc="-1" strike="noStrike">
                <a:solidFill>
                  <a:srgbClr val="000000"/>
                </a:solidFill>
                <a:latin typeface="Century Gothic"/>
              </a:rPr>
              <a:t>review of a </a:t>
            </a:r>
            <a:r>
              <a:rPr b="1" lang="en" sz="2000" spc="-1" strike="noStrike">
                <a:solidFill>
                  <a:srgbClr val="009999"/>
                </a:solidFill>
                <a:latin typeface="Century Gothic"/>
              </a:rPr>
              <a:t>clearly formulated question</a:t>
            </a:r>
            <a:r>
              <a:rPr b="0" lang="en" sz="2000" spc="-1" strike="noStrike">
                <a:solidFill>
                  <a:srgbClr val="000000"/>
                </a:solidFill>
                <a:latin typeface="Century Gothic"/>
              </a:rPr>
              <a:t> that uses </a:t>
            </a:r>
            <a:r>
              <a:rPr b="1" lang="en" sz="2000" spc="-1" strike="noStrike">
                <a:solidFill>
                  <a:srgbClr val="009999"/>
                </a:solidFill>
                <a:latin typeface="Century Gothic"/>
              </a:rPr>
              <a:t>systematic and explicit methods</a:t>
            </a:r>
            <a:r>
              <a:rPr b="0" lang="en" sz="2000" spc="-1" strike="noStrike">
                <a:solidFill>
                  <a:srgbClr val="000000"/>
                </a:solidFill>
                <a:latin typeface="Century Gothic"/>
              </a:rPr>
              <a:t> to identify, select and </a:t>
            </a:r>
            <a:r>
              <a:rPr b="1" lang="en" sz="2000" spc="-1" strike="noStrike">
                <a:solidFill>
                  <a:srgbClr val="009999"/>
                </a:solidFill>
                <a:latin typeface="Century Gothic"/>
              </a:rPr>
              <a:t>critically appraise relevant resear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a:t>
            </a:r>
            <a:r>
              <a:rPr b="0" lang="en" sz="2000" spc="-1" strike="noStrike">
                <a:solidFill>
                  <a:srgbClr val="000000"/>
                </a:solidFill>
                <a:latin typeface="Century Gothic"/>
              </a:rPr>
              <a:t>tatistical methods (meta-analysis) may or may not be used to analyse and summarise the results of the included studies. </a:t>
            </a:r>
            <a:endParaRPr b="0" lang="en-US" sz="20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from</a:t>
            </a:r>
            <a:r>
              <a:rPr b="0" lang="en" sz="1600" spc="-1" strike="noStrike">
                <a:solidFill>
                  <a:srgbClr val="99cc00"/>
                </a:solidFill>
                <a:latin typeface="Arial"/>
              </a:rPr>
              <a:t> </a:t>
            </a:r>
            <a:r>
              <a:rPr b="0" lang="en" sz="1600" spc="-1" strike="noStrike" u="sng">
                <a:solidFill>
                  <a:srgbClr val="009999"/>
                </a:solidFill>
                <a:uFillTx/>
                <a:latin typeface="Arial"/>
                <a:hlinkClick r:id="rId1"/>
              </a:rPr>
              <a:t>www.sebc.bangor.ac.u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entury Gothic"/>
              </a:rPr>
              <a:t>Systematic Reviews</a:t>
            </a:r>
            <a:endParaRPr b="0" lang="en-US" sz="3200" spc="-1" strike="noStrike">
              <a:solidFill>
                <a:srgbClr val="000000"/>
              </a:solidFill>
              <a:latin typeface="Arial"/>
            </a:endParaRPr>
          </a:p>
        </p:txBody>
      </p:sp>
      <p:sp>
        <p:nvSpPr>
          <p:cNvPr id="176" name=""/>
          <p:cNvSpPr/>
          <p:nvPr/>
        </p:nvSpPr>
        <p:spPr>
          <a:xfrm>
            <a:off x="1187280" y="2421000"/>
            <a:ext cx="7201080" cy="41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to be considered a reliable source of research evidence on a </a:t>
            </a:r>
            <a:r>
              <a:rPr b="0" lang="en-US" sz="2400" spc="-1" strike="noStrike">
                <a:solidFill>
                  <a:srgbClr val="009999"/>
                </a:solidFill>
                <a:latin typeface="Arial"/>
              </a:rPr>
              <a:t>specific topic</a:t>
            </a:r>
            <a:r>
              <a:rPr b="0" lang="en-US" sz="2400" spc="-1" strike="noStrike">
                <a:solidFill>
                  <a:srgbClr val="000000"/>
                </a:solidFill>
                <a:latin typeface="Arial"/>
              </a:rPr>
              <a:t> they should </a:t>
            </a:r>
            <a:r>
              <a:rPr b="0" lang="en-US" sz="2400" spc="-1" strike="noStrike">
                <a:solidFill>
                  <a:srgbClr val="009999"/>
                </a:solidFill>
                <a:latin typeface="Arial"/>
              </a:rPr>
              <a:t>record how the primary studies were sought</a:t>
            </a:r>
            <a:r>
              <a:rPr b="0" lang="en-US" sz="2400" spc="-1" strike="noStrike">
                <a:solidFill>
                  <a:srgbClr val="000000"/>
                </a:solidFill>
                <a:latin typeface="Arial"/>
              </a:rPr>
              <a:t> </a:t>
            </a:r>
            <a:r>
              <a:rPr b="0" lang="en-US" sz="2400" spc="-1" strike="noStrike">
                <a:solidFill>
                  <a:srgbClr val="009999"/>
                </a:solidFill>
                <a:latin typeface="Arial"/>
              </a:rPr>
              <a:t>and selected</a:t>
            </a:r>
            <a:r>
              <a:rPr b="0" lang="en-US" sz="2400" spc="-1" strike="noStrike">
                <a:solidFill>
                  <a:srgbClr val="000000"/>
                </a:solidFill>
                <a:latin typeface="Arial"/>
              </a:rPr>
              <a:t> and how they were </a:t>
            </a:r>
            <a:r>
              <a:rPr b="0" lang="en-US" sz="2400" spc="-1" strike="noStrike">
                <a:solidFill>
                  <a:srgbClr val="009999"/>
                </a:solidFill>
                <a:latin typeface="Arial"/>
              </a:rPr>
              <a:t>analysed to produce their conclusion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need to be able to judge whether all of the </a:t>
            </a:r>
            <a:r>
              <a:rPr b="0" lang="en-US" sz="2400" spc="-1" strike="noStrike">
                <a:solidFill>
                  <a:srgbClr val="009999"/>
                </a:solidFill>
                <a:latin typeface="Arial"/>
              </a:rPr>
              <a:t>relevant literature</a:t>
            </a:r>
            <a:r>
              <a:rPr b="0" lang="en-US" sz="2400" spc="-1" strike="noStrike">
                <a:solidFill>
                  <a:srgbClr val="000000"/>
                </a:solidFill>
                <a:latin typeface="Arial"/>
              </a:rPr>
              <a:t> is likely to have been found, and how the </a:t>
            </a:r>
            <a:r>
              <a:rPr b="0" lang="en-US" sz="2400" spc="-1" strike="noStrike">
                <a:solidFill>
                  <a:srgbClr val="009999"/>
                </a:solidFill>
                <a:latin typeface="Arial"/>
              </a:rPr>
              <a:t>quality of studies</a:t>
            </a:r>
            <a:r>
              <a:rPr b="0" lang="en-US" sz="2400" spc="-1" strike="noStrike">
                <a:solidFill>
                  <a:srgbClr val="000000"/>
                </a:solidFill>
                <a:latin typeface="Arial"/>
              </a:rPr>
              <a:t> was asses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6">
                                            <p:txEl>
                                              <p:pRg st="0" end="0"/>
                                            </p:txEl>
                                          </p:spTgt>
                                        </p:tgtEl>
                                        <p:attrNameLst>
                                          <p:attrName>style.visibility</p:attrName>
                                        </p:attrNameLst>
                                      </p:cBhvr>
                                      <p:to>
                                        <p:strVal val="visible"/>
                                      </p:to>
                                    </p:set>
                                    <p:anim calcmode="discrete" valueType="clr">
                                      <p:cBhvr additive="repl">
                                        <p:cTn id="7" dur="80"/>
                                        <p:tgtEl>
                                          <p:spTgt spid="176">
                                            <p:txEl>
                                              <p:pRg st="0" end="0"/>
                                            </p:txEl>
                                          </p:spTgt>
                                        </p:tgtEl>
                                        <p:attrNameLst>
                                          <p:attrName>style.color</p:attrName>
                                        </p:attrNameLst>
                                      </p:cBhvr>
                                      <p:tavLst>
                                        <p:tav tm="0">
                                          <p:val>
                                            <p:strVal val="rgb(102,51,0)"/>
                                          </p:val>
                                        </p:tav>
                                        <p:tav tm="50000">
                                          <p:val>
                                            <p:strVal val="rgb(102,51,0)"/>
                                          </p:val>
                                        </p:tav>
                                      </p:tavLst>
                                    </p:anim>
                                    <p:anim calcmode="discrete" valueType="clr">
                                      <p:cBhvr additive="repl">
                                        <p:cTn id="8" dur="80"/>
                                        <p:tgtEl>
                                          <p:spTgt spid="176">
                                            <p:txEl>
                                              <p:pRg st="0" end="0"/>
                                            </p:txEl>
                                          </p:spTgt>
                                        </p:tgtEl>
                                        <p:attrNameLst>
                                          <p:attrName>fillcolor</p:attrName>
                                        </p:attrNameLst>
                                      </p:cBhvr>
                                      <p:tavLst>
                                        <p:tav tm="0">
                                          <p:val>
                                            <p:strVal val="rgb(102,51,0)"/>
                                          </p:val>
                                        </p:tav>
                                        <p:tav tm="50000">
                                          <p:val>
                                            <p:strVal val="rgb(102,51,0)"/>
                                          </p:val>
                                        </p:tav>
                                      </p:tavLst>
                                    </p:anim>
                                    <p:set>
                                      <p:cBhvr>
                                        <p:cTn id="9" dur="80"/>
                                        <p:tgtEl>
                                          <p:spTgt spid="176">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4" dur="80"/>
                                        <p:tgtEl>
                                          <p:spTgt spid="176">
                                            <p:txEl>
                                              <p:pRg st="2" end="2"/>
                                            </p:txEl>
                                          </p:spTgt>
                                        </p:tgtEl>
                                        <p:attrNameLst>
                                          <p:attrName>style.color</p:attrName>
                                        </p:attrNameLst>
                                      </p:cBhvr>
                                      <p:tavLst>
                                        <p:tav tm="0">
                                          <p:val>
                                            <p:strVal val="rgb(102,51,0)"/>
                                          </p:val>
                                        </p:tav>
                                        <p:tav tm="50000">
                                          <p:val>
                                            <p:strVal val="rgb(102,51,0)"/>
                                          </p:val>
                                        </p:tav>
                                      </p:tavLst>
                                    </p:anim>
                                    <p:anim calcmode="discrete" valueType="clr">
                                      <p:cBhvr additive="repl">
                                        <p:cTn id="15" dur="80"/>
                                        <p:tgtEl>
                                          <p:spTgt spid="176">
                                            <p:txEl>
                                              <p:pRg st="2" end="2"/>
                                            </p:txEl>
                                          </p:spTgt>
                                        </p:tgtEl>
                                        <p:attrNameLst>
                                          <p:attrName>fillcolor</p:attrName>
                                        </p:attrNameLst>
                                      </p:cBhvr>
                                      <p:tavLst>
                                        <p:tav tm="0">
                                          <p:val>
                                            <p:strVal val="rgb(102,51,0)"/>
                                          </p:val>
                                        </p:tav>
                                        <p:tav tm="50000">
                                          <p:val>
                                            <p:strVal val="rgb(102,51,0)"/>
                                          </p:val>
                                        </p:tav>
                                      </p:tavLst>
                                    </p:anim>
                                    <p:set>
                                      <p:cBhvr>
                                        <p:cTn id="16" dur="80"/>
                                        <p:tgtEl>
                                          <p:spTgt spid="17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entury Gothic"/>
              </a:rPr>
              <a:t>Key features</a:t>
            </a:r>
            <a:endParaRPr b="0" lang="en-US" sz="4000" spc="-1" strike="noStrike">
              <a:solidFill>
                <a:srgbClr val="000000"/>
              </a:solidFill>
              <a:latin typeface="Arial"/>
            </a:endParaRPr>
          </a:p>
        </p:txBody>
      </p:sp>
      <p:sp>
        <p:nvSpPr>
          <p:cNvPr id="178" name="PlaceHolder 2"/>
          <p:cNvSpPr>
            <a:spLocks noGrp="1"/>
          </p:cNvSpPr>
          <p:nvPr>
            <p:ph/>
          </p:nvPr>
        </p:nvSpPr>
        <p:spPr>
          <a:xfrm>
            <a:off x="68436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entury Gothic"/>
              </a:rPr>
              <a:t>  </a:t>
            </a:r>
            <a:r>
              <a:rPr b="0" lang="en-IE" sz="3200" spc="-1" strike="noStrike">
                <a:solidFill>
                  <a:srgbClr val="000000"/>
                </a:solidFill>
                <a:latin typeface="Century Gothic"/>
              </a:rPr>
              <a:t>- the systematic review process invites you to adopt–</a:t>
            </a: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plicit</a:t>
            </a:r>
            <a:r>
              <a:rPr b="0" lang="en-GB" sz="2400" spc="-1" strike="noStrike">
                <a:solidFill>
                  <a:srgbClr val="000000"/>
                </a:solidFill>
                <a:latin typeface="Arial"/>
              </a:rPr>
              <a:t> and </a:t>
            </a:r>
            <a:r>
              <a:rPr b="1" i="1" lang="en-GB" sz="2400" spc="-1" strike="noStrike">
                <a:solidFill>
                  <a:srgbClr val="000000"/>
                </a:solidFill>
                <a:latin typeface="Arial"/>
              </a:rPr>
              <a:t>transparent</a:t>
            </a:r>
            <a:r>
              <a:rPr b="0" lang="en-GB" sz="2400" spc="-1" strike="noStrike">
                <a:solidFill>
                  <a:srgbClr val="000000"/>
                </a:solidFill>
                <a:latin typeface="Arial"/>
              </a:rPr>
              <a:t>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i="1" lang="en-GB" sz="2400" spc="-1" strike="noStrike">
                <a:solidFill>
                  <a:srgbClr val="000000"/>
                </a:solidFill>
                <a:latin typeface="Arial"/>
              </a:rPr>
              <a:t>standard</a:t>
            </a:r>
            <a:r>
              <a:rPr b="0" lang="en-GB" sz="2400" spc="-1" strike="noStrike">
                <a:solidFill>
                  <a:srgbClr val="000000"/>
                </a:solidFill>
                <a:latin typeface="Arial"/>
              </a:rPr>
              <a:t> set of stag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ccountable</a:t>
            </a:r>
            <a:r>
              <a:rPr b="0" lang="en-GB" sz="2400" spc="-1" strike="noStrike">
                <a:solidFill>
                  <a:srgbClr val="000000"/>
                </a:solidFill>
                <a:latin typeface="Arial"/>
              </a:rPr>
              <a:t>, </a:t>
            </a:r>
            <a:r>
              <a:rPr b="1" i="1" lang="en-GB" sz="2400" spc="-1" strike="noStrike">
                <a:solidFill>
                  <a:srgbClr val="000000"/>
                </a:solidFill>
                <a:latin typeface="Arial"/>
              </a:rPr>
              <a:t>replicable</a:t>
            </a:r>
            <a:r>
              <a:rPr b="0" lang="en-GB" sz="2400" spc="-1" strike="noStrike">
                <a:solidFill>
                  <a:srgbClr val="000000"/>
                </a:solidFill>
                <a:latin typeface="Arial"/>
              </a:rPr>
              <a:t> and </a:t>
            </a:r>
            <a:r>
              <a:rPr b="1" i="1" lang="en-GB" sz="2400" spc="-1" strike="noStrike">
                <a:solidFill>
                  <a:srgbClr val="000000"/>
                </a:solidFill>
                <a:latin typeface="Arial"/>
              </a:rPr>
              <a:t>updateabl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entury Gothic"/>
              </a:rPr>
              <a:t>To summarise …</a:t>
            </a:r>
            <a:endParaRPr b="0" lang="en-US" sz="3200" spc="-1" strike="noStrike">
              <a:solidFill>
                <a:srgbClr val="000000"/>
              </a:solidFill>
              <a:latin typeface="Arial"/>
            </a:endParaRPr>
          </a:p>
        </p:txBody>
      </p:sp>
      <p:sp>
        <p:nvSpPr>
          <p:cNvPr id="180" name="PlaceHolder 2"/>
          <p:cNvSpPr>
            <a:spLocks noGrp="1"/>
          </p:cNvSpPr>
          <p:nvPr>
            <p:ph/>
          </p:nvPr>
        </p:nvSpPr>
        <p:spPr>
          <a:xfrm>
            <a:off x="1042560" y="2637000"/>
            <a:ext cx="7643880" cy="3024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99cc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99cc00"/>
                </a:solidFill>
                <a:latin typeface="Century Gothic"/>
              </a:rPr>
              <a:t>A clearly formulated question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99cc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99cc00"/>
                </a:solidFill>
                <a:latin typeface="Century Gothic"/>
              </a:rPr>
              <a:t>The use of  systematic and explicit methods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99cc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99cc00"/>
                </a:solidFill>
                <a:latin typeface="Century Gothic"/>
              </a:rPr>
              <a:t>A critical appraise of the relevant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entury Gothic"/>
              </a:rPr>
              <a:t>1. Formulating a Problem</a:t>
            </a:r>
            <a:endParaRPr b="0" lang="en-US" sz="3200" spc="-1" strike="noStrike">
              <a:solidFill>
                <a:srgbClr val="000000"/>
              </a:solidFill>
              <a:latin typeface="Arial"/>
            </a:endParaRPr>
          </a:p>
        </p:txBody>
      </p:sp>
      <p:sp>
        <p:nvSpPr>
          <p:cNvPr id="182" name="PlaceHolder 2"/>
          <p:cNvSpPr>
            <a:spLocks noGrp="1"/>
          </p:cNvSpPr>
          <p:nvPr>
            <p:ph/>
          </p:nvPr>
        </p:nvSpPr>
        <p:spPr>
          <a:xfrm>
            <a:off x="457200" y="2491920"/>
            <a:ext cx="8291520" cy="352908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Century Gothic"/>
              </a:rPr>
              <a:t>What is your </a:t>
            </a:r>
            <a:r>
              <a:rPr b="1" lang="en-IE" sz="3200" spc="-1" strike="noStrike">
                <a:solidFill>
                  <a:srgbClr val="99cc00"/>
                </a:solidFill>
                <a:latin typeface="Century Gothic"/>
              </a:rPr>
              <a:t>research question</a:t>
            </a:r>
            <a:r>
              <a:rPr b="0" lang="en-IE" sz="3200" spc="-1" strike="noStrike">
                <a:solidFill>
                  <a:srgbClr val="99cc00"/>
                </a:solidFill>
                <a:latin typeface="Century Gothic"/>
              </a:rPr>
              <a:t>?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9999"/>
                </a:solidFill>
                <a:latin typeface="Century Gothic"/>
              </a:rPr>
              <a:t>- Specific -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entury Gothic"/>
              </a:rPr>
              <a:t>- Focused -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entury Gothic"/>
              </a:rPr>
              <a:t>- Clearly formulated -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entury Gothic"/>
              </a:rPr>
              <a:t>- Well defined -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4:41:54Z</dcterms:created>
  <dc:creator>TCDuser</dc:creator>
  <dc:description/>
  <dc:language>en-US</dc:language>
  <cp:lastModifiedBy>TCDuser</cp:lastModifiedBy>
  <dcterms:modified xsi:type="dcterms:W3CDTF">2013-02-18T16:13:09Z</dcterms:modified>
  <cp:revision>29</cp:revision>
  <dc:subject/>
  <dc:title>Slide 1</dc:title>
</cp:coreProperties>
</file>