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3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2052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29f33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0760" y="471816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ECD65-1361-4C9D-87DA-3B6952B8893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0760" y="471816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Make a list of the skills and areas you need to improve and th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Think how you’re going to get the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0760" y="471816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Key part is how to communicat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0760" y="471816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Reflective Journals: after years, when you look back you can wonder where you time we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You can use it to justify why you made the decisions you di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0760" y="471816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Because a PG study largely involves self-directed learning – self-management is critic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It is an opportunity to develop an effective and highly efficient process for work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Person as an is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Steady pace – marathon not sprint – burnout – 9/5 job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A system that reminds you – rather that you having to re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If it works you’ll trust i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Graduate research seminars at department level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Research present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Go to the GSU faculty rep in your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Doesn’t exist – set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Attend as many conferences as possible to present your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0760" y="471816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aduate Students’ Union (GSU) is the representative body for all postgraduate students in Trinity Colleg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C9F1C-993F-4E15-BCAF-95A7417B13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0760" y="471816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xercise on main concerns and problem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0760" y="471816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Idea generation and orientation – divergent th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Second half – convergent think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Read exemplary theses in your are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C42D-324C-4135-99D5-0294F2608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7C25-807B-41AC-8F13-8DD279205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06D7-8DDA-459B-91FB-024179A7E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9F06-39C9-4A35-8B5F-98CDF7713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2E8BB-12C0-4DD6-A1CE-9DC1251B6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F0454-6055-47CC-89DB-D86A9D601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C7400-15BC-42BC-AF6C-C1F103B63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3A0E0-3340-441A-8027-27D6F0C30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69448-30CD-44C5-8416-18A3A7D31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28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712A1-260A-4B0B-A6B0-075134895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2D8DA-530D-427C-8382-708C71D8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B1CA-0334-4A06-A007-4B0A342B0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A2B4B-8194-4F6D-92ED-49EBA251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BBBBE-19E8-4A12-9896-0329CC90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8384A-5F82-4E47-8209-851D9C699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4931C-1A71-4555-8B5F-0664F45C9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BE0A5-6C28-41D1-875A-F74371D6B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C86D-04A2-4D57-A011-5F632154F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B383-5F4F-45B1-990D-F748211BA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1435-A63D-443E-8DF3-703A46929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28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0DD0-7DFF-406B-B676-209478CCE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B03C-4FF8-468D-906B-4E74F3F4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626B-7879-459B-A33A-76AE52E4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1616-703B-4AC2-AE12-D8D50FAA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29f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9B8A4-DF3E-4EA6-9B35-AE22B5815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29f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9F533-84B4-456C-981A-665CCEE2E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student-learning.tcd.ie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student-learning.tcd.ie/" TargetMode="External"/><Relationship Id="rId3" Type="http://schemas.openxmlformats.org/officeDocument/2006/relationships/hyperlink" Target="http://student-learning.tcd.ie/" TargetMode="External"/><Relationship Id="rId4" Type="http://schemas.openxmlformats.org/officeDocument/2006/relationships/hyperlink" Target="https://podcast.tcd.ie/users/summerschool/" TargetMode="External"/><Relationship Id="rId5" Type="http://schemas.openxmlformats.org/officeDocument/2006/relationships/hyperlink" Target="https://podcast.tcd.ie/users/summerschool/" TargetMode="External"/><Relationship Id="rId6" Type="http://schemas.openxmlformats.org/officeDocument/2006/relationships/hyperlink" Target="https://podcast.tcd.ie/users/summerschool/" TargetMode="External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tcd.ie/orientation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3744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Arial"/>
              </a:rPr>
              <a:t>Settling into your</a:t>
            </a:r>
            <a:br>
              <a:rPr sz="2600"/>
            </a:br>
            <a:r>
              <a:rPr b="0" lang="en-IE" sz="2600" spc="-1" strike="noStrike">
                <a:solidFill>
                  <a:srgbClr val="000000"/>
                </a:solidFill>
                <a:latin typeface="Arial"/>
              </a:rPr>
              <a:t>Postgraduate Study</a:t>
            </a:r>
            <a:endParaRPr b="0" lang="en-US" sz="26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3965400"/>
            <a:ext cx="4392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Dr. Mark Matthews &amp; Dermot Coon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Student Learning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tudent-learning.tcd.ie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3645000"/>
            <a:ext cx="44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284720" y="2171880"/>
            <a:ext cx="4711680" cy="46861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826920" y="1989000"/>
            <a:ext cx="4319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1pm- 2p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3rd Flo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Room 3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Your Toolbox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-181080" y="1773360"/>
            <a:ext cx="8977320" cy="4356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24000" y="1649520"/>
            <a:ext cx="205092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Technical Skill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129440" y="1773360"/>
            <a:ext cx="2050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Research Skill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589800" y="5375160"/>
            <a:ext cx="2735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Self-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-36360" y="5807160"/>
            <a:ext cx="302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Communication Skill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1. Subject-Skills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cc0000"/>
                </a:solidFill>
                <a:latin typeface="Arial"/>
              </a:rPr>
              <a:t>Department speci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Course Hand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Department Semin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cc0000"/>
                </a:solidFill>
                <a:latin typeface="Arial"/>
              </a:rPr>
              <a:t>Self-dir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2. Communication Skills 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Supervisor’s ro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cc0000"/>
                </a:solidFill>
                <a:latin typeface="Arial"/>
              </a:rPr>
              <a:t>Peer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Study Partn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Discussion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Postgraduate Advisory Serv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Soc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3. Research Skills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cc0000"/>
                </a:solidFill>
                <a:latin typeface="Arial"/>
              </a:rPr>
              <a:t>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Literature Reviews, Database Sear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cc0000"/>
                </a:solidFill>
                <a:latin typeface="Arial"/>
              </a:rPr>
              <a:t>Information Systems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Software support (Word, SPSS, Endno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cc0000"/>
                </a:solidFill>
                <a:latin typeface="Arial"/>
              </a:rPr>
              <a:t>Student Learning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Academic Writing, Critical Think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Reflective Jour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4. Self-Management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Psycholog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Realistic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Steady pa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Plan where to put eff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Balanced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Specific, measurable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Rew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Get a diary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Pract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Check da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Dates, meeting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lectures, timeta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427640" y="1484280"/>
            <a:ext cx="2601720" cy="3024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7380360" y="1557360"/>
            <a:ext cx="2512800" cy="25131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900000" y="3933720"/>
            <a:ext cx="4103640" cy="2635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6300720" y="4221000"/>
            <a:ext cx="2886120" cy="2252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600"/>
            </a:br>
            <a:endParaRPr b="0" lang="en-US" sz="26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4000" y="537372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en stressed, try to come back to </a:t>
            </a:r>
            <a:r>
              <a:rPr b="1" lang="en-GB" sz="2400" spc="-1" strike="noStrike">
                <a:solidFill>
                  <a:srgbClr val="2f93e5"/>
                </a:solidFill>
                <a:latin typeface="Arial"/>
              </a:rPr>
              <a:t>what you know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bored </a:t>
            </a:r>
            <a:r>
              <a:rPr b="1" lang="en-US" sz="2400" spc="-1" strike="noStrike">
                <a:solidFill>
                  <a:srgbClr val="2f93e5"/>
                </a:solidFill>
                <a:latin typeface="Arial"/>
              </a:rPr>
              <a:t>look for the nove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5616720" cy="3945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f93e5"/>
                </a:solidFill>
                <a:latin typeface="Arial"/>
              </a:rPr>
              <a:t>Practical Tips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a time in the day when you do </a:t>
            </a:r>
            <a:r>
              <a:rPr b="0" i="1" lang="en-US" sz="3200" spc="-1" strike="noStrike">
                <a:solidFill>
                  <a:srgbClr val="2f93e5"/>
                </a:solidFill>
                <a:latin typeface="Arial"/>
              </a:rPr>
              <a:t>nothing at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 to </a:t>
            </a:r>
            <a:r>
              <a:rPr b="0" lang="en-US" sz="3200" spc="-1" strike="noStrike">
                <a:solidFill>
                  <a:srgbClr val="2f93e5"/>
                </a:solidFill>
                <a:latin typeface="Arial"/>
              </a:rPr>
              <a:t>switch of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to rest your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ant brain stimulation without a break can </a:t>
            </a:r>
            <a:r>
              <a:rPr b="0" lang="en-US" sz="3200" spc="-1" strike="noStrike">
                <a:solidFill>
                  <a:srgbClr val="2f93e5"/>
                </a:solidFill>
                <a:latin typeface="Arial"/>
              </a:rPr>
              <a:t>drain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2f93e5"/>
                </a:solidFill>
                <a:latin typeface="Arial"/>
              </a:rPr>
              <a:t>Down ti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-Meditation, walk, clearing the mind of the no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In groups, take some of the challen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written down earlier and </a:t>
            </a:r>
            <a:r>
              <a:rPr b="0" lang="en-IE" sz="3200" spc="-1" strike="noStrike">
                <a:solidFill>
                  <a:srgbClr val="dd9637"/>
                </a:solidFill>
                <a:latin typeface="Arial"/>
              </a:rPr>
              <a:t>find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for th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Problem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Possible </a:t>
            </a:r>
            <a:r>
              <a:rPr b="0" lang="en-IE" sz="3200" spc="-1" strike="noStrike">
                <a:solidFill>
                  <a:srgbClr val="dd9637"/>
                </a:solidFill>
                <a:latin typeface="Arial"/>
              </a:rPr>
              <a:t>Solution</a:t>
            </a: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Are there common </a:t>
            </a:r>
            <a:r>
              <a:rPr b="0" lang="en-IE" sz="3200" spc="-1" strike="noStrike">
                <a:solidFill>
                  <a:srgbClr val="dd9637"/>
                </a:solidFill>
                <a:latin typeface="Arial"/>
              </a:rPr>
              <a:t>themes</a:t>
            </a: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971800" y="342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I feel like I’m being taken advant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of – doing work not related to my Ph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295200"/>
            <a:ext cx="4070520" cy="65628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211640" y="549360"/>
            <a:ext cx="4753080" cy="75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2f93e5"/>
                </a:solidFill>
                <a:latin typeface="Arial"/>
              </a:rPr>
              <a:t>Sp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am very particular about </a:t>
            </a:r>
            <a:r>
              <a:rPr b="0" lang="en-GB" sz="2000" spc="-1" strike="noStrike">
                <a:solidFill>
                  <a:srgbClr val="2f93e5"/>
                </a:solidFill>
                <a:latin typeface="Arial"/>
              </a:rPr>
              <a:t>where and whe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 study. I find it more comforting when I am studying in a clean and </a:t>
            </a:r>
            <a:r>
              <a:rPr b="0" lang="en-GB" sz="2000" spc="-1" strike="noStrike">
                <a:solidFill>
                  <a:srgbClr val="2f93e5"/>
                </a:solidFill>
                <a:latin typeface="Arial"/>
              </a:rPr>
              <a:t>comfortable spo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I find it best to study between </a:t>
            </a:r>
            <a:r>
              <a:rPr b="0" lang="en-GB" sz="2000" spc="-1" strike="noStrike">
                <a:solidFill>
                  <a:srgbClr val="2f93e5"/>
                </a:solidFill>
                <a:latin typeface="Arial"/>
              </a:rPr>
              <a:t>late afternoon and even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I </a:t>
            </a:r>
            <a:r>
              <a:rPr b="0" lang="en-GB" sz="2000" spc="-1" strike="noStrike">
                <a:solidFill>
                  <a:srgbClr val="2f93e5"/>
                </a:solidFill>
                <a:latin typeface="Arial"/>
              </a:rPr>
              <a:t>can't stan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uch background noise so I usually study in my bedroom with the door closed and the window open for a </a:t>
            </a:r>
            <a:r>
              <a:rPr b="0" lang="en-GB" sz="2000" spc="-1" strike="noStrike">
                <a:solidFill>
                  <a:srgbClr val="2f93e5"/>
                </a:solidFill>
                <a:latin typeface="Arial"/>
              </a:rPr>
              <a:t>nice breez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o come through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Dav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0328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ffffff"/>
                </a:solidFill>
                <a:latin typeface="Arial"/>
              </a:rPr>
              <a:t>The long distance runner…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72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Progress hard to monitor and much of the work is done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9429840" cy="5303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620280"/>
            <a:ext cx="5867280" cy="654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f93e5"/>
                </a:solidFill>
                <a:latin typeface="Arial"/>
              </a:rPr>
              <a:t>So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"I'm not a Trinity graduate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I've found it difficult to me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people and get involved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other things ?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600440" y="-390600"/>
            <a:ext cx="4543560" cy="7324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Need more help?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need help with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udy skill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?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tact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udent Learning Developme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| 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student-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learning.tcd.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st-graduate Summer Schoo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runs once a year in the summer: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s://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odcast.tcd.ie/users/summerschool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’m writing 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literature review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tact your subject librarian http://www.tcd.ie/Library/support/contact/index.ph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need training using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ord, Powerpoint, SPSS, Endnote et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formation Systems Servic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http://isservices.tcd.ie/training/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ther Postgrads may be willing to offer a tutorial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Need more help?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need advice on dealing with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udent Counselling Service |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:018961407 | email: student-counselling@tcd.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need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eneral advic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n being a post-gradu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stgraduate Advisory Service |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ttp://www.tcd.ie/Senior_Tutor/postgraduate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raduate’s Student Union |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ttp://www.gsu.tcd.ie/node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udent Learning Developme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| http://student-learning.tcd.ie 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want to get involved in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ocial ev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t involved in a society | http://www.trinitysocieties.ie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 the gym | http://www.tcd.ie/Spor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 one of the 50 sports clubs | http://www.ducac.tcdlife.ie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f93e5"/>
                </a:solidFill>
                <a:latin typeface="Kozuka Gothic Pro B"/>
              </a:rPr>
              <a:t>You are responsible for your own learning</a:t>
            </a:r>
            <a:endParaRPr b="0" lang="en-US" sz="32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2060640"/>
            <a:ext cx="8002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Get involved </a:t>
            </a:r>
            <a:r>
              <a:rPr b="0" lang="en-IE" sz="3200" spc="-1" strike="noStrike">
                <a:solidFill>
                  <a:srgbClr val="2f93e5"/>
                </a:solidFill>
                <a:latin typeface="Arial"/>
              </a:rPr>
              <a:t>soci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Develop </a:t>
            </a:r>
            <a:r>
              <a:rPr b="0" lang="en-IE" sz="3200" spc="-1" strike="noStrike">
                <a:solidFill>
                  <a:srgbClr val="2f93e5"/>
                </a:solidFill>
                <a:latin typeface="Arial"/>
              </a:rPr>
              <a:t>skills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systematically and progressiv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Get going </a:t>
            </a:r>
            <a:r>
              <a:rPr b="0" lang="en-IE" sz="3200" spc="-1" strike="noStrike">
                <a:solidFill>
                  <a:srgbClr val="2f93e5"/>
                </a:solidFill>
                <a:latin typeface="Arial"/>
              </a:rPr>
              <a:t>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Stay </a:t>
            </a:r>
            <a:r>
              <a:rPr b="0" lang="en-IE" sz="3200" spc="-1" strike="noStrike">
                <a:solidFill>
                  <a:srgbClr val="2f93e5"/>
                </a:solidFill>
                <a:latin typeface="Arial"/>
              </a:rPr>
              <a:t>on top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of your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Seek </a:t>
            </a:r>
            <a:r>
              <a:rPr b="0" lang="en-IE" sz="3200" spc="-1" strike="noStrike">
                <a:solidFill>
                  <a:srgbClr val="2f93e5"/>
                </a:solidFill>
                <a:latin typeface="Arial"/>
              </a:rPr>
              <a:t>help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if you want to do be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2f93e5"/>
                </a:solidFill>
                <a:latin typeface="Arial"/>
              </a:rPr>
              <a:t>What can you do now?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What can I do to </a:t>
            </a:r>
            <a:r>
              <a:rPr b="0" lang="en-IE" sz="3200" spc="-1" strike="noStrike">
                <a:solidFill>
                  <a:srgbClr val="cc0000"/>
                </a:solidFill>
                <a:latin typeface="Arial"/>
              </a:rPr>
              <a:t>clarify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what I am do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What do I need to </a:t>
            </a:r>
            <a:r>
              <a:rPr b="0" lang="en-IE" sz="3200" spc="-1" strike="noStrike">
                <a:solidFill>
                  <a:srgbClr val="cc0000"/>
                </a:solidFill>
                <a:latin typeface="Arial"/>
              </a:rPr>
              <a:t>formalise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with my supervis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0" lang="en-IE" sz="3200" spc="-1" strike="noStrike">
                <a:solidFill>
                  <a:srgbClr val="cc0000"/>
                </a:solidFill>
                <a:latin typeface="Arial"/>
              </a:rPr>
              <a:t>supports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can I set up for mysel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How will I know if I am </a:t>
            </a:r>
            <a:r>
              <a:rPr b="0" lang="en-IE" sz="3200" spc="-1" strike="noStrike">
                <a:solidFill>
                  <a:srgbClr val="cc0000"/>
                </a:solidFill>
                <a:latin typeface="Arial"/>
              </a:rPr>
              <a:t>making progress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Will I be coming to the </a:t>
            </a:r>
            <a:r>
              <a:rPr b="0" lang="en-IE" sz="3200" spc="-1" strike="noStrike">
                <a:solidFill>
                  <a:srgbClr val="cc0000"/>
                </a:solidFill>
                <a:latin typeface="Arial"/>
              </a:rPr>
              <a:t>other Student Learning workshops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Other Resources</a:t>
            </a: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	</a:t>
            </a: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826920" y="1557360"/>
            <a:ext cx="7705800" cy="48196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95280" y="6308640"/>
            <a:ext cx="53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s://podcast.tcd.ie/users/summerschoo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629f33"/>
                </a:solidFill>
                <a:latin typeface="Arial"/>
              </a:rPr>
              <a:t>Student Learning Development</a:t>
            </a:r>
            <a:endParaRPr b="0" lang="en-US" sz="26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34920" y="1628640"/>
            <a:ext cx="435600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Thank you for your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Visit our website at: </a:t>
            </a:r>
            <a:r>
              <a:rPr b="0" lang="en-IE" sz="2400" spc="-1" strike="noStrike">
                <a:solidFill>
                  <a:srgbClr val="cc0000"/>
                </a:solidFill>
                <a:latin typeface="Arial"/>
              </a:rPr>
              <a:t>http://student-learning.tcd.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202280" y="1989000"/>
            <a:ext cx="4941720" cy="4111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My greatest challenge might be 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f93e5"/>
                </a:solidFill>
                <a:latin typeface="Arial"/>
              </a:rPr>
              <a:t>Problem    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Re-write the problem in your own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f93e5"/>
                </a:solidFill>
                <a:latin typeface="Arial"/>
              </a:rPr>
              <a:t>Possible Solutions 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List as many things to do that you can think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979640" y="2421000"/>
            <a:ext cx="6480000" cy="1295280"/>
          </a:xfrm>
          <a:prstGeom prst="flowChartProcess">
            <a:avLst/>
          </a:prstGeom>
          <a:solidFill>
            <a:srgbClr val="ffffff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4508640"/>
            <a:ext cx="8280360" cy="2160360"/>
          </a:xfrm>
          <a:prstGeom prst="flowChartProcess">
            <a:avLst/>
          </a:prstGeom>
          <a:solidFill>
            <a:srgbClr val="ffffff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35240" y="-27000"/>
            <a:ext cx="6405480" cy="6597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94000" y="0"/>
            <a:ext cx="6102360" cy="8286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429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ller student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torial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ller academic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ten need to work off own sche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793960" y="0"/>
            <a:ext cx="6350040" cy="4241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2f93e5"/>
                </a:solidFill>
                <a:latin typeface="Arial"/>
              </a:rPr>
              <a:t>Getting started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4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What stage are you 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What are your concer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Ori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The research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onfusion and lack of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Study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400720" y="896760"/>
            <a:ext cx="3743280" cy="5988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Write down on a piece of paper the grea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challenge you will fa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My greatest challenge might be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2f93e5"/>
                </a:solidFill>
                <a:latin typeface="Arial"/>
              </a:rPr>
              <a:t>Ask yourself: What is it I most love about my studies?</a:t>
            </a:r>
            <a:endParaRPr b="0" lang="en-US" sz="26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45846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79280" y="5445000"/>
            <a:ext cx="75614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What do I enjoy about my course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Why am I doing this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What do I want to have learned at the end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69900"/>
                </a:solidFill>
                <a:latin typeface="Arial"/>
              </a:rPr>
              <a:t>Getting Started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21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Where can I find what I have to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Order out of cha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Reading about th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isit: 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tcd.ie/orientation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4T15:39:04Z</dcterms:created>
  <dc:creator>LUMSDENL</dc:creator>
  <dc:description/>
  <dc:language>en-US</dc:language>
  <cp:lastModifiedBy>MarkM</cp:lastModifiedBy>
  <dcterms:modified xsi:type="dcterms:W3CDTF">2010-11-16T14:28:39Z</dcterms:modified>
  <cp:revision>81</cp:revision>
  <dc:subject/>
  <dc:title>Settling Into Your Post-graduate Study</dc:title>
</cp:coreProperties>
</file>