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934560" y="441972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34560" y="441972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Learn about the writing process –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Identify self-management strategies to aid  proces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Consider the structure of a thesi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8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Arial"/>
              </a:rPr>
              <a:t>Share strategies, experiences &amp; tool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34560" y="441972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In your handouts, answer Brown’s 8 questions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Write in full senten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Stick to the word coun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10 minut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34560" y="441972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Good to start with a summary of what your project is about in terms of initial outline.  See next slide on Brown’s question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Try to create strucutred outline (distribute generic thesis structure).  Also good prompts for helping you to start writing these section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Outline will evolve.  Maybe even start with a more visual representation – mind map on poster paper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Try to become more detailed and allocate word count to sections (distribute outline handout). Expand sub-sections and even create sentenc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Means can do freewriting in chunks (100 words) to get you started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Writing in layers – to slowly build up.  See slide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Also, don’t necessarily have to write linear.  Can start say Ch. 3 Methods (what did), come back to literature review (ongoing).  Re-write introduction, etc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Importance of a process (4 step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34560" y="441972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Think about spaces, we can’t work for 10 hours in the same lab,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Even doing different things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Also it’s often easy to do the most well defined task – fix diagram A etc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Have a list of all the admin tasks that need doing, fixing rferences and try to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Do them when you are too tired to write / research etc. or on one of those days where you can’t work.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4560" y="441972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Book/Journal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Can get you into the writing habit – 5 mniutes a da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Way of keeping track of thoughts, ideas, references – they can occur anytime, anywher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Reflective purpos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Book Antiqua"/>
              </a:rPr>
              <a:t>Other strategies include…cover now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34560" y="441972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These are examples of writing prompts.  The activity we did was an example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Purpose is to stimulate writing and generate text.  Also helps to reflect on writing practice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First one particularly good for getting a writing session started and put off procrastina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Free &amp; loose writing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34560" y="441972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Free writing is more forced – makes you get something down on paper.  It is NOT about producing chapters rather to move you forward, to motivate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Helps build confidence and stop procrastination. 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More – refer to Murray, p. 87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Freewriting vs structured writing – p. 85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Bit of freedom if feel it doesn’t have to be handed into supervisor (give own example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34560" y="441972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Can actually open files (hard copy or computer) for each chapter/section – one for draft and one for notes to self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Snack approach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Writing activity:  Create an outline for the next section you want to write about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4560" y="441972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Book Antiqua"/>
              </a:rPr>
              <a:t>1. Literature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" spc="-1" strike="noStrike">
                <a:solidFill>
                  <a:srgbClr val="000000"/>
                </a:solidFill>
                <a:latin typeface="Book Antiqua"/>
              </a:rPr>
              <a:t>- </a:t>
            </a: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Is the literature relevant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Is the review critical or just descriptive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Is it comprehensive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Does it link to the methodology in the thesis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Does it summarize the essential aspect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2. Methodology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Is there a clear hypothesis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Are precautions taken against bias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Are the limitations identified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Is the data collected appropriately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Is the methodology justified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3. Presentation of result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Have the hypotheses in fact been tested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Are the results shown to support the hypothesis?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Is the data properly analysed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Are the results presented clearly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Are patterns identified and summarized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4. Discussions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Are the limits of the research identified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Are the main points to emerge identified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Are links made to the literature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Is there theoretical development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Book Antiqua"/>
              </a:rPr>
              <a:t>Are the speculations well grounded?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Importance of a process (4 step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32A733D-4F0E-47D4-95BA-193471A650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34560" y="441972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Who’s it for? It used to be that no one read your thesi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34560" y="4419720"/>
            <a:ext cx="5140440" cy="391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Exercise in sess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Book Antiqua"/>
              </a:rPr>
              <a:t>Thesis isn’t a history of your past year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A thesis is a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logical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reconstruc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With a </a:t>
            </a:r>
            <a:r>
              <a:rPr b="0" i="1" lang="en-US" sz="1200" spc="-1" strike="noStrike">
                <a:solidFill>
                  <a:srgbClr val="000000"/>
                </a:solidFill>
                <a:latin typeface="Book Antiqua"/>
              </a:rPr>
              <a:t>single</a:t>
            </a: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 coherent messag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72A3-60F9-40F4-8C80-175BC7FB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DDDB-2E09-40A3-8E08-5C0970D5C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D51-2CCE-4C89-9F81-08736E10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9EF-113B-41CA-BF2A-EE1BA128F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2B7B-15C6-4467-ADAF-8A355222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72E4-8AFA-4878-858A-294B29D1F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A465-1ECA-4AE9-BE33-349066C0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8C4B2-0EE1-4FF3-AF4D-A1D8FB29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3688E-0424-466C-AECE-9E64E0BFD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26C1-05B3-4227-A05E-DBB5C5DA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5947-0070-46F6-A7FA-762B2F4A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A06-8829-4C26-8787-FF0B3ED6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3380-A2CE-4342-B3BC-C2CC5627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49CB-D35A-4498-BDEB-DD8961A9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1FD4-0D9D-400C-95DE-FCA61FF85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015AA-4F87-462E-B2CA-E967FE122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AEBA-7E12-4C7B-AFF9-36466C53E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170-C5F8-4580-B88D-12FC74C1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445A-C9FE-4017-A239-1F9A21CDA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070-154D-4529-AF0B-57A829C3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ECF-858F-45EC-9C8E-46A369FB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C08F-0349-4E6E-A43E-64564942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8C7-2D6E-46E5-B51F-C1EA11C05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D130-3C2C-4BB5-B13B-36751FF4B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E89C-ED50-4CF0-A90B-078445F6C2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D5FF0-45C1-4050-B077-DDA668851D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148360" y="549360"/>
            <a:ext cx="5333760" cy="3537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200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Arial"/>
              </a:rPr>
              <a:t>Thesis Writing</a:t>
            </a:r>
            <a:endParaRPr b="0" lang="en-US" sz="3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76720" y="3657600"/>
            <a:ext cx="4392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r. Tamara O’Con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Dr. Mark Matth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ttp://student-learning.tcd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3280" y="3048120"/>
            <a:ext cx="446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Exampl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y do some graduates succeed and oth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on’t? Is it due to the student, the department,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both? Using mixed methods, I examine h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ubject variables and departmental variab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fluence the adjustment and success of first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graduate students. The study uses data fro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urveys and semi-structured interviews. (PhD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ocial Psycholog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Focus Statement Interview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lay the role of a journali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sing the Focus Statement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terview the PhD stu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pai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Arial"/>
              </a:rPr>
              <a:t>The Titl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172040" y="0"/>
            <a:ext cx="48704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hen develop an abstrac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tool to think about your thesis/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100-300 wor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ecise, clear &amp; inter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SPSE Techniqu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t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the general background / setting in which your research takes 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a problem that the research addr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at did you do or try to address this probl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How did you evaluate the proposed solution and what were the resul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Individually complet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5 m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5 / Brown’s 8 Ques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o are the intended </a:t>
            </a: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readers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? (name 3-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did you </a:t>
            </a: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do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? (50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Why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did you do it? (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happened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? (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do the results mean in </a:t>
            </a: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theory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? (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do the results mean in </a:t>
            </a: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practic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? (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is the </a:t>
            </a: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key benefit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for readers? (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remains </a:t>
            </a:r>
            <a:r>
              <a:rPr b="0" lang="en-IE" sz="2800" spc="-1" strike="noStrike">
                <a:solidFill>
                  <a:srgbClr val="cc0000"/>
                </a:solidFill>
                <a:latin typeface="Arial"/>
              </a:rPr>
              <a:t>unresolved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? (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(Brown 1994/9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0" spc="-1" strike="noStrike">
                <a:solidFill>
                  <a:srgbClr val="f8f8f8"/>
                </a:solidFill>
                <a:latin typeface="Arial"/>
              </a:rPr>
              <a:t>Plann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c1c1c"/>
                </a:solidFill>
                <a:latin typeface="Arial"/>
              </a:rPr>
              <a:t>structure – thinking vs. writing – table of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29f33"/>
                </a:solidFill>
                <a:latin typeface="Arial"/>
              </a:rPr>
              <a:t>Structur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ic thesis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ocate word count for ea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ign sub-s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in 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64000" y="1628640"/>
            <a:ext cx="3619800" cy="486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utlining – Level 1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981080"/>
            <a:ext cx="60199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i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utlining – Level 2 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62120" y="1828800"/>
            <a:ext cx="6933960" cy="4200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59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2.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3.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4.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83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900" spc="-1" strike="noStrike">
                <a:solidFill>
                  <a:srgbClr val="ffffff"/>
                </a:solidFill>
                <a:latin typeface="Arial"/>
              </a:rPr>
              <a:t>Steps in Thesis Writing</a:t>
            </a:r>
            <a:endParaRPr b="0" lang="en-US" sz="3900" spc="-1" strike="noStrike">
              <a:solidFill>
                <a:srgbClr val="629f3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41511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629400" y="44197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ffffff"/>
                </a:solidFill>
                <a:latin typeface="Arial"/>
              </a:rPr>
              <a:t>Level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528920" y="38160"/>
            <a:ext cx="6086160" cy="6781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978440" y="0"/>
            <a:ext cx="4165560" cy="600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Rule of Thre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74995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each chapter, repeat 3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 will show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w them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 have shown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in thesis, repeat contributions 3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 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chap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 chap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0" spc="-1" strike="noStrike">
                <a:solidFill>
                  <a:srgbClr val="f8f8f8"/>
                </a:solidFill>
                <a:latin typeface="Arial"/>
              </a:rPr>
              <a:t>Writin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c1c1c"/>
                </a:solidFill>
                <a:latin typeface="Arial"/>
              </a:rPr>
              <a:t>a habit – how not to write -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he Habit of Writ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riting at the end of a long list of tasks – no fixed dead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 can’t find the time for writing…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 have no energy for writing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Balanc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4781520" cy="2924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0920" y="2492280"/>
            <a:ext cx="338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here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you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hen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 you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What 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you 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10 ways to not writ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 Open your email at the start of the day and never quit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. Keep your writing goals quite ge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. Don’t talk about your writing-in-prog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. Only seek feedback when you have a full dra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. Don’t write unless you know exactly what you want to 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. Wait till you’re ready to wr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. Don’t bother defining sub-goals – you know what you have t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8. Don’t bother with the 5-minute warm up for writing -- you know what to 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. Always write in large chunks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. Try and find more time for wri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owena Mu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29f33"/>
                </a:solidFill>
                <a:latin typeface="Arial"/>
              </a:rPr>
              <a:t>Writing Strategi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98440" y="1600200"/>
            <a:ext cx="6253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k/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arming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o prom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ee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riting in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arming Up Exercis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I want to write about today is….. (30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s is important because….    (30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oday, I will not write about…… (30 wo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15320" cy="339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4360" y="6004080"/>
            <a:ext cx="7704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600" spc="-1" strike="noStrike">
                <a:solidFill>
                  <a:srgbClr val="000000"/>
                </a:solidFill>
                <a:latin typeface="Arial"/>
              </a:rPr>
              <a:t>Demystifying Dissertation Writing</a:t>
            </a: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000000"/>
                </a:solidFill>
                <a:latin typeface="Arial"/>
              </a:rPr>
              <a:t>Peg Boyle Sing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29f33"/>
                </a:solidFill>
                <a:latin typeface="Arial"/>
              </a:rPr>
              <a:t>Writing to prompt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writing have I done and what would I like to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do my ideas come fro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es what I read compare with my own view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 want to write about next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I want to write about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29f33"/>
                </a:solidFill>
                <a:latin typeface="Arial"/>
              </a:rPr>
              <a:t>Freewrit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ing for 5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out sto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vate – no external r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structu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opic related to your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ke brainstorming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629f33"/>
                </a:solidFill>
                <a:latin typeface="Arial"/>
              </a:rPr>
              <a:t>Writing in layer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a list of chapter h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a sentence or two on contents of each 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lists of headings for each section in each 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notes for each heading on how you will develop the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an introductory paragraph for each ch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rite the word count, draft number and date at top of first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0" spc="-1" strike="noStrike">
                <a:solidFill>
                  <a:srgbClr val="f8f8f8"/>
                </a:solidFill>
                <a:latin typeface="Arial"/>
              </a:rPr>
              <a:t>Tools &amp; Techniqu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1c1c1c"/>
                </a:solidFill>
                <a:latin typeface="Arial"/>
              </a:rPr>
              <a:t>a habit – how not to write - strate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31040" y="2349360"/>
            <a:ext cx="1920960" cy="192096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ools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4149720"/>
            <a:ext cx="8229600" cy="20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cademic Writing: http://www.phrasebank.manchester.ac.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hat do you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250920" y="2276640"/>
            <a:ext cx="1879560" cy="18288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2268360" y="2421000"/>
            <a:ext cx="1656000" cy="16556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24360" y="2133720"/>
            <a:ext cx="2017800" cy="20174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6012000" y="249228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720" y="549000"/>
            <a:ext cx="593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What are examiners looking for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64785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t the checklist in your gu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lit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nd Conclu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ips for successful writ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Plan to write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ke a time plan and stick t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Write up section as soon as it’s rea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op writing at a point where you could go on – makes it easier to start next ti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ecide where and when best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on’t write when exha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eek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59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0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2. Ide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3. 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IE" sz="4000" spc="-1" strike="noStrike">
                <a:solidFill>
                  <a:srgbClr val="ffffff"/>
                </a:solidFill>
                <a:latin typeface="Arial"/>
              </a:rPr>
              <a:t>4. Wri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83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900" spc="-1" strike="noStrike">
                <a:solidFill>
                  <a:srgbClr val="ffffff"/>
                </a:solidFill>
                <a:latin typeface="Arial"/>
              </a:rPr>
              <a:t>Steps in Thesis Writing</a:t>
            </a:r>
            <a:endParaRPr b="0" lang="en-US" sz="3900" spc="-1" strike="noStrike">
              <a:solidFill>
                <a:srgbClr val="629f33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Student Learning Developm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4920" y="1628640"/>
            <a:ext cx="4356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ank you for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http://student-learning.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4202280" y="1989000"/>
            <a:ext cx="4941720" cy="4111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0" spc="-1" strike="noStrike">
                <a:solidFill>
                  <a:srgbClr val="f8f8f8"/>
                </a:solidFill>
                <a:latin typeface="Arial"/>
              </a:rPr>
              <a:t>Background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c1c1c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1c1c1c"/>
                </a:solidFill>
                <a:latin typeface="Arial"/>
              </a:rPr>
              <a:t>why? – preconceptions - sta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hy do we writ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professional thesis wri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arn how to wr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arn how to th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earn how to conduct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lus much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reconception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t takes 6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You do it at 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You can cut and paste from pa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o one will rea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59920"/>
            <a:ext cx="822960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hen do I start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mmediately – keep a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133720"/>
            <a:ext cx="822960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Where do I star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1280" y="3141720"/>
            <a:ext cx="59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d the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4000" y="4076640"/>
            <a:ext cx="36126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o the ground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8000" spc="-1" strike="noStrike">
                <a:solidFill>
                  <a:srgbClr val="f8f8f8"/>
                </a:solidFill>
                <a:latin typeface="Arial"/>
              </a:rPr>
              <a:t>Idea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1c1c1c"/>
                </a:solidFill>
                <a:latin typeface="Arial"/>
              </a:rPr>
              <a:t>message – title – abst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Start with….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 focus statemen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2276640"/>
            <a:ext cx="822960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The essence of your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1-4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Get feedback on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Verdana"/>
              </a:rPr>
              <a:t>Discuss with supervis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2T20:59:38Z</dcterms:created>
  <dc:creator>Kevin O'Connor</dc:creator>
  <dc:description/>
  <cp:keywords/>
  <dc:language>en-US</dc:language>
  <cp:lastModifiedBy>MarkM</cp:lastModifiedBy>
  <cp:lastPrinted>2000-09-10T20:02:02Z</cp:lastPrinted>
  <dcterms:modified xsi:type="dcterms:W3CDTF">2011-11-11T11:07:05Z</dcterms:modified>
  <cp:revision>145</cp:revision>
  <dc:subject/>
  <dc:title>OBJECTIVES</dc:title>
</cp:coreProperties>
</file>